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DB8-E1F1-4B4C-BD4D-B589D78F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7E4-509E-460D-BCFC-B8FA47E9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D2B-7C96-49EB-88A9-F695AFA9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B82-CBB4-4126-AA7F-6517EE55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D63-099A-43D3-BABE-BE1F4555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DFD-CF45-4B43-9D9E-9F1377D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029-FA28-4314-9921-E42E8991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299-5B4E-4CBB-B506-7B70B51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027-E9B3-470A-A1A1-EC970584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011-F611-4A77-BCE4-1CC1FA4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D68-B234-43AE-A881-E7EB725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F0E-98D7-4FAF-AACC-7F0C1D7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8AD1-F049-4E3D-BF26-ED2A5B866D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11320"/>
            <a:ext cx="842472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soustavy ve tvaru pravidelného osmiúhelníka s pěti úhlopříčnými pruty (staticky určité) zvýší jiné uspořádání prutů (vpravo) úroveň symetrie, ale nevede k vytvoření tensegritní struk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op007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924280"/>
            <a:ext cx="3882960" cy="347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op009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852640"/>
            <a:ext cx="3768480" cy="354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pop019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797200"/>
            <a:ext cx="3809880" cy="358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pop020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798640"/>
            <a:ext cx="3800520" cy="3583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611280" y="907920"/>
            <a:ext cx="8281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  přidáním dalšího prutu a jejich uspořádáním do tvaru se čtyřmi osami symetrie (vlevo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odebráním jednoho prutu a přeuspořádáním zbylých úhlopříčných prutů do tvaru hvězdy (vpravo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6560" y="1413000"/>
            <a:ext cx="331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u s tensegritními vlastnostmi lze vytvořit také vložením dvou vzájemně pootočených čtverců do pravidelného osmiúhelníka; tyto dva čtverce tvořené vzpěrami jsou vzájemně spojeny pouze prostřednictvím lan, což je jedním ze základních rysů tensegritních soust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op012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3924360" y="1413000"/>
            <a:ext cx="453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2:23:29Z</dcterms:created>
  <dc:creator>Jiri Bursa</dc:creator>
  <dc:description/>
  <dc:language>en-US</dc:language>
  <cp:lastModifiedBy>Jiří Burša</cp:lastModifiedBy>
  <dcterms:modified xsi:type="dcterms:W3CDTF">2012-03-27T13:18:08Z</dcterms:modified>
  <cp:revision>7</cp:revision>
  <dc:subject/>
  <dc:title>In a regular octagonal structure, another arrangement of struts shown in the right figure enhances the degree of symmetry of the structure without adding any more one strut; however, the structure does not show all the features of tensegrity structures. </dc:title>
</cp:coreProperties>
</file>