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DCFE-3B3C-4D29-9068-AFC21030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C31-2AB6-4E5D-B9BB-D549EA10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84E2-9352-42E8-B68A-46474ADD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909-0DFD-4F72-A509-D3A8DD23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EC96-9E1F-4B06-998D-C73165FF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2DC1-81DF-4558-AAF6-CD3C7144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3357-BBB4-4E4D-ADE5-01FC48AC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3B1C-09E3-495F-8264-6BD4C687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E8D0-8032-40D6-B256-C167119B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FBC8-CDAB-439C-8DFF-660ED0F0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2659-2BCE-4531-95F8-6CC25A73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F1A0-D9E9-4181-B3A3-BF610718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B246-A413-482C-8D64-83E47E02B7C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Magnetick&#225;_pinzeta.ppt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Kontinuální strukturní model - příklad (</a:t>
            </a:r>
            <a:r>
              <a:rPr b="0" lang="cs-CZ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gnetická pinzeta</a:t>
            </a: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7"/>
          <p:cNvGrpSpPr/>
          <p:nvPr/>
        </p:nvGrpSpPr>
        <p:grpSpPr>
          <a:xfrm>
            <a:off x="1258920" y="2276640"/>
            <a:ext cx="7859160" cy="3159000"/>
            <a:chOff x="1258920" y="2276640"/>
            <a:chExt cx="7859160" cy="3159000"/>
          </a:xfrm>
        </p:grpSpPr>
        <p:pic>
          <p:nvPicPr>
            <p:cNvPr id="43" name="Picture 8" descr=""/>
            <p:cNvPicPr/>
            <p:nvPr/>
          </p:nvPicPr>
          <p:blipFill>
            <a:blip r:embed="rId2"/>
            <a:stretch/>
          </p:blipFill>
          <p:spPr>
            <a:xfrm>
              <a:off x="1258920" y="2276640"/>
              <a:ext cx="7846920" cy="31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9"/>
            <p:cNvSpPr/>
            <p:nvPr/>
          </p:nvSpPr>
          <p:spPr>
            <a:xfrm>
              <a:off x="2136960" y="2523960"/>
              <a:ext cx="336276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Magnetická kulička Φ 4.5 µ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10"/>
            <p:cNvSpPr/>
            <p:nvPr/>
          </p:nvSpPr>
          <p:spPr>
            <a:xfrm>
              <a:off x="7048800" y="3487680"/>
              <a:ext cx="2069280" cy="35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Membrá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11"/>
            <p:cNvSpPr/>
            <p:nvPr/>
          </p:nvSpPr>
          <p:spPr>
            <a:xfrm>
              <a:off x="7055280" y="4115160"/>
              <a:ext cx="154908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Cytoplaz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6:00:03Z</dcterms:created>
  <dc:creator>Jiri Bursa</dc:creator>
  <dc:description/>
  <dc:language>en-US</dc:language>
  <cp:lastModifiedBy>Jiří Burša</cp:lastModifiedBy>
  <dcterms:modified xsi:type="dcterms:W3CDTF">2012-03-28T08:17:01Z</dcterms:modified>
  <cp:revision>3</cp:revision>
  <dc:subject/>
  <dc:title>Kontinuální strukturní model - příklad (magnetická pinzeta)</dc:title>
</cp:coreProperties>
</file>