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82D-36CE-4B40-AB29-FDB7C980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395-96D2-4D6F-AAB7-80F003CA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798-61A5-434C-8F0A-6FCCE5F1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C8F-4731-4BC6-8378-4B5E5AF6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86A-5062-4CD8-8F9F-6625E647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ECD-389F-4025-A056-08D0080F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85D-51C7-4119-936D-23746F81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157-11FA-47D1-B722-16B86B4B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095-1BA3-4DA5-A3DA-B6D7868A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E88-8235-4F3D-90D3-616EE45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8F9-3E59-4871-89A7-992294E6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E68-6B53-4709-95E4-DCA76399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CC78-322E-4E55-B6B2-6F8782A8D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Molekulární struktura kolagenových fibril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(podle Biochemie, Vo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840720" cy="431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24000" y="1940040"/>
            <a:ext cx="7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r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637000"/>
            <a:ext cx="122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pořádání molek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29797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ázdná zó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952720"/>
            <a:ext cx="151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óna překry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3120" y="462276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jitá šroubo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65320" y="3730680"/>
            <a:ext cx="108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kula kolag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0680" y="5950080"/>
            <a:ext cx="1871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pická sekv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2:52:48Z</dcterms:created>
  <dc:creator>Jiri Bursa</dc:creator>
  <dc:description/>
  <dc:language>en-US</dc:language>
  <cp:lastModifiedBy>Jiri Bursa</cp:lastModifiedBy>
  <dcterms:modified xsi:type="dcterms:W3CDTF">2006-12-27T13:04:48Z</dcterms:modified>
  <cp:revision>4</cp:revision>
  <dc:subject/>
  <dc:title>Mollecular structure of collagen fibril (from Biochemie, Voet)</dc:title>
</cp:coreProperties>
</file>