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31DE-173E-4BB7-B76B-1980B5031C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případ nestruktutního modelu, v tomto případě se jedná o výpočtovou simulaci aspiračního testu mikropipet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960-F2C3-4741-9695-BC4C1006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255-FC1B-4FBC-9F2B-EE97F7A1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41C-58E0-4D3A-AD46-CDEC7C74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76A-7A9A-48A1-914E-C5D04FE7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CB8-6D83-4B0E-8335-5B53C5F3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F7A-3579-4B0C-A350-DBCCBBAC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666-E05F-4F61-8568-672D8774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AD1-F101-4DE6-9F8E-850EA683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407-A038-49A1-BA43-2537EA22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024-5D1A-4869-A8FD-01F598D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5D4-6432-4993-BE80-81F58878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563-F859-4DAE-ACC4-A1735C45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4F1A-462C-4474-85A4-7266CBCD72F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Fotografie aspirační zkoušk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555588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rickey, W., F. Baaijens, T. Laursen, L. Alexopoulos, and F. Guilak., Determination of the Poisson’s ratio of the cell: Recovery properties of chondrocytes after release from complete micropipette aspiration. J. Biomechanics, 2004.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23403"/>
          <a:stretch/>
        </p:blipFill>
        <p:spPr>
          <a:xfrm>
            <a:off x="766800" y="1606680"/>
            <a:ext cx="733428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strukturní MKP model aspirační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6014" t="20522" r="0" b="0"/>
          <a:stretch/>
        </p:blipFill>
        <p:spPr>
          <a:xfrm>
            <a:off x="112680" y="1346040"/>
            <a:ext cx="4819680" cy="30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75360" y="3173400"/>
            <a:ext cx="3429000" cy="313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76720" y="1916280"/>
            <a:ext cx="2087640" cy="9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deformovaná MKP sí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4924440"/>
            <a:ext cx="208764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formovaná MKP síť v mikropipe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3:26:30Z</dcterms:created>
  <dc:creator>Jiří Burša</dc:creator>
  <dc:description/>
  <dc:language>en-US</dc:language>
  <cp:lastModifiedBy>Jiri Bursa</cp:lastModifiedBy>
  <dcterms:modified xsi:type="dcterms:W3CDTF">2007-01-07T14:42:07Z</dcterms:modified>
  <cp:revision>4</cp:revision>
  <dc:subject/>
  <dc:title>Nestrukturní model Modelování aspirační zkoušky</dc:title>
</cp:coreProperties>
</file>