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E6F-9C21-48B3-906D-033CC3FE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ED7-9999-4586-88C5-99A029D2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461-F151-4F67-BEFA-B072193B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D71-13D6-4C72-A503-29C6E6AC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DD1-727F-448C-A35C-B2AE90F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CAD-F3E0-4321-A957-E6F9C630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453-36BB-4412-813D-DD92BB16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E0C-08A2-4AB8-A9C1-EDDEAAE7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556-9AC8-4931-8540-044750B8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048-2BC5-4AC4-8BD1-5CC3647A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12F-2754-479D-8032-16C26ABE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076-75B3-4DC1-BA3A-B7BE8894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CFE4-F83B-4F55-9F30-B26D6581F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rovnání experimentální a simulované křivky -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mogenní nelineárně elast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478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565360"/>
          <a:ext cx="741204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65360"/>
                    <a:ext cx="741204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0:50:27Z</dcterms:created>
  <dc:creator>Jiri Bursa</dc:creator>
  <dc:description/>
  <dc:language>en-US</dc:language>
  <cp:lastModifiedBy>Jiri Bursa</cp:lastModifiedBy>
  <dcterms:modified xsi:type="dcterms:W3CDTF">2007-01-07T10:53:21Z</dcterms:modified>
  <cp:revision>2</cp:revision>
  <dc:subject/>
  <dc:title>Comparison of experimental and simulated curves - homogeneous non-linear elastic model</dc:title>
</cp:coreProperties>
</file>