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26020-C503-4539-B6BF-88B554E0F35E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zde máme druhý případ komplexního modelu. Cytoskelet je modelován tensegritní strukturou, a ostatní složky buňky jsou modelovány jako kontinuu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zde máme druhý případ komplexního modelu. Cytoskelet je modelován tensegritní strukturou, a ostatní složky buňky jsou modelovány jako kontinuu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zde máme druhý případ komplexního modelu. Cytoskelet je modelován tensegritní strukturou, a ostatní složky buňky jsou modelovány jako kontinuu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D8E90-565F-47A7-81EE-B67E44C97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CF8F4-3A70-4C6B-9897-FCEDF6BED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EB7D7-9689-4A9E-9320-2A5EE940A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6AB00-B001-4D96-B5FA-B5E6743CC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60C4F-E104-48D1-8433-F6C81B6F8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A501D-EC91-4D51-B6E1-0E2F7E470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DAE2C-A2D7-4BB0-B455-6CDF5B5A4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7832C-8C11-4ECB-BF55-28C01BB41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912D3-63BF-40FD-9DB3-9086579A7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996DA-4640-403D-BBFC-8EE114B18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CECDC-FC61-4C5E-A72E-C6825165F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4D68C-3872-4330-B17C-33D41C457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2762E-4363-43B4-A64D-9A9152363F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333399"/>
                </a:solidFill>
                <a:latin typeface="Arial"/>
              </a:rPr>
              <a:t>Komplexní model buňky</a:t>
            </a:r>
            <a:r>
              <a:rPr b="0" lang="cs-CZ" sz="4400" spc="-1" strike="noStrike">
                <a:solidFill>
                  <a:srgbClr val="333399"/>
                </a:solidFill>
                <a:latin typeface="Arial"/>
              </a:rPr>
              <a:t> </a:t>
            </a:r>
            <a:br>
              <a:rPr sz="4400"/>
            </a:b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s tensegritní soustavou modelující cytosklel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55640" y="1484280"/>
            <a:ext cx="7777080" cy="4897440"/>
            <a:chOff x="755640" y="1484280"/>
            <a:chExt cx="7777080" cy="4897440"/>
          </a:xfrm>
        </p:grpSpPr>
        <p:pic>
          <p:nvPicPr>
            <p:cNvPr id="50" name="" descr=""/>
            <p:cNvPicPr/>
            <p:nvPr/>
          </p:nvPicPr>
          <p:blipFill>
            <a:blip r:embed="rId1"/>
            <a:srcRect l="17546" t="6999" r="28074" b="6999"/>
            <a:stretch/>
          </p:blipFill>
          <p:spPr>
            <a:xfrm>
              <a:off x="1512720" y="2146320"/>
              <a:ext cx="2949840" cy="354960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51" name=""/>
            <p:cNvGraphicFramePr/>
            <p:nvPr/>
          </p:nvGraphicFramePr>
          <p:xfrm>
            <a:off x="4457880" y="2467080"/>
            <a:ext cx="2908080" cy="30780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52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4457880" y="2467080"/>
                      <a:ext cx="2908080" cy="3078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3" name=""/>
            <p:cNvSpPr/>
            <p:nvPr/>
          </p:nvSpPr>
          <p:spPr>
            <a:xfrm>
              <a:off x="1512720" y="5670720"/>
              <a:ext cx="6359760" cy="71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Obr. X: Model hladké svalové buňk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(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jádro, cytoplazma a membránový skelet modelovaný skořepinovými prvky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(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ýztužná tensegritní struktura buňky – model hlubokého endoskeletu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512720" y="5076720"/>
              <a:ext cx="47160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(a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457880" y="5076720"/>
              <a:ext cx="46980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(b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H="1">
              <a:off x="1055160" y="2733840"/>
              <a:ext cx="8240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1055160" y="2263680"/>
              <a:ext cx="8240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855800" y="2263680"/>
              <a:ext cx="471600" cy="470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855800" y="2733840"/>
              <a:ext cx="706320" cy="82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 flipV="1">
              <a:off x="3341520" y="2381400"/>
              <a:ext cx="471600" cy="1293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798720" y="2381400"/>
              <a:ext cx="10605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>
              <a:off x="6313320" y="2851200"/>
              <a:ext cx="471600" cy="58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770520" y="2851200"/>
              <a:ext cx="9414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5627520" y="2146320"/>
              <a:ext cx="471600" cy="587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28720" y="1674720"/>
              <a:ext cx="1582560" cy="58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000000"/>
                  </a:solidFill>
                  <a:latin typeface="Times New Roman"/>
                </a:rPr>
                <a:t>membrán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r>
                <a:rPr b="0" lang="cs-CZ" sz="1800" spc="-1" strike="noStrike">
                  <a:solidFill>
                    <a:srgbClr val="000000"/>
                  </a:solidFill>
                  <a:latin typeface="Times New Roman"/>
                </a:rPr>
                <a:t>vý  skele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26920" y="2381400"/>
              <a:ext cx="129564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ytoplasm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851280" y="1989000"/>
              <a:ext cx="1060560" cy="31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jádr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084720" y="2146320"/>
              <a:ext cx="15303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084720" y="1484280"/>
              <a:ext cx="1295640" cy="58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ahové člen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588000" y="2205000"/>
              <a:ext cx="1413000" cy="58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cs-CZ" sz="2000" spc="-1" strike="noStrike">
                  <a:solidFill>
                    <a:srgbClr val="000000"/>
                  </a:solidFill>
                  <a:latin typeface="Times New Roman"/>
                </a:rPr>
                <a:t>lakové člen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755640" y="5734080"/>
              <a:ext cx="7777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ensegritní soustava je vložena do kontinuálního modelu buňk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64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333399"/>
                </a:solidFill>
                <a:latin typeface="Arial"/>
              </a:rPr>
              <a:t>Použití komplexního strukturního modelu pro modelování buňky na podlož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J. McGarry G., Prendergast P.J., A three-dimensional finite element model of an      adherent eukaryotic cell, European cells and</a:t>
            </a:r>
            <a:r>
              <a:rPr b="1" i="1" lang="cs-CZ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Materiáles,27-34,2004</a:t>
            </a: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7696080" cy="29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8920" y="274680"/>
            <a:ext cx="8713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Komplexní výpočtový model buňk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77724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ezentovaný komplexní strukturní model buňky je tvořen těmito prvky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Bunečná membrána (sarkolemma) a membránový skelet – modelovány pomocí skořepinových prvk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Cyto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pla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- modelována pomocí 3D solid prvků jako velmi poddajné kontinu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ádro a přilehlé organely modelováno pomocí 3D solid prvků jako méně poddajné kontinu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Hluboký cytoskelet - modelovaný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ensegritní soustavou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, reprezentující síť mikrotubulů a mikrofila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64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333399"/>
                </a:solidFill>
                <a:latin typeface="Arial"/>
              </a:rPr>
              <a:t>Komplexní strukturní model </a:t>
            </a:r>
            <a:br>
              <a:rPr sz="3600"/>
            </a:b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se složitější tensegritní strukturou cytoskele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1222200" y="1773360"/>
            <a:ext cx="6805800" cy="4534920"/>
            <a:chOff x="1222200" y="1773360"/>
            <a:chExt cx="6805800" cy="4534920"/>
          </a:xfrm>
        </p:grpSpPr>
        <p:pic>
          <p:nvPicPr>
            <p:cNvPr id="79" name="" descr=""/>
            <p:cNvPicPr/>
            <p:nvPr/>
          </p:nvPicPr>
          <p:blipFill>
            <a:blip r:embed="rId1"/>
            <a:srcRect l="14518" t="5618" r="17192" b="4969"/>
            <a:stretch/>
          </p:blipFill>
          <p:spPr>
            <a:xfrm>
              <a:off x="4908600" y="1952280"/>
              <a:ext cx="3060360" cy="3709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" name="" descr=""/>
            <p:cNvPicPr/>
            <p:nvPr/>
          </p:nvPicPr>
          <p:blipFill>
            <a:blip r:embed="rId2"/>
            <a:srcRect l="15707" t="5744" r="16792" b="3705"/>
            <a:stretch/>
          </p:blipFill>
          <p:spPr>
            <a:xfrm>
              <a:off x="1505520" y="1773360"/>
              <a:ext cx="3230280" cy="399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"/>
            <p:cNvSpPr/>
            <p:nvPr/>
          </p:nvSpPr>
          <p:spPr>
            <a:xfrm>
              <a:off x="1222200" y="1778040"/>
              <a:ext cx="1417680" cy="52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ytoplazm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789200" y="5612040"/>
              <a:ext cx="1417680" cy="52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Jádr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042960" y="5616000"/>
              <a:ext cx="1985040" cy="69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embránový skel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341240" y="1773360"/>
              <a:ext cx="1417680" cy="52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ytoskel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222200" y="2121840"/>
              <a:ext cx="992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214360" y="2121840"/>
              <a:ext cx="141480" cy="52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341240" y="2121840"/>
              <a:ext cx="850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192280" y="2121840"/>
              <a:ext cx="2268360" cy="122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>
              <a:off x="4340880" y="2121840"/>
              <a:ext cx="850680" cy="104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789200" y="5960880"/>
              <a:ext cx="425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V="1">
              <a:off x="2214360" y="3864960"/>
              <a:ext cx="850680" cy="209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042960" y="5956920"/>
              <a:ext cx="1559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5617080" y="4561920"/>
              <a:ext cx="425160" cy="1394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632400" y="5608440"/>
              <a:ext cx="1701360" cy="69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tegrinové recepto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632400" y="5956920"/>
              <a:ext cx="1701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flipV="1">
              <a:off x="5191920" y="4039560"/>
              <a:ext cx="141480" cy="1917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V="1">
              <a:off x="5334120" y="2782440"/>
              <a:ext cx="432360" cy="3174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64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333399"/>
                </a:solidFill>
                <a:latin typeface="Arial"/>
              </a:rPr>
              <a:t>Tvorba komplexního strukturního modelu </a:t>
            </a:r>
            <a:br>
              <a:rPr sz="3600"/>
            </a:b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buňky přilnuté k podlož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14195" t="2940" r="14363" b="2450"/>
          <a:stretch/>
        </p:blipFill>
        <p:spPr>
          <a:xfrm>
            <a:off x="1076400" y="2205000"/>
            <a:ext cx="2558880" cy="2559240"/>
          </a:xfrm>
          <a:prstGeom prst="rect">
            <a:avLst/>
          </a:prstGeom>
          <a:ln w="0">
            <a:noFill/>
          </a:ln>
        </p:spPr>
      </p:pic>
      <p:grpSp>
        <p:nvGrpSpPr>
          <p:cNvPr id="100" name=""/>
          <p:cNvGrpSpPr/>
          <p:nvPr/>
        </p:nvGrpSpPr>
        <p:grpSpPr>
          <a:xfrm>
            <a:off x="1139400" y="1916280"/>
            <a:ext cx="2424240" cy="1871280"/>
            <a:chOff x="1139400" y="1916280"/>
            <a:chExt cx="2424240" cy="1871280"/>
          </a:xfrm>
        </p:grpSpPr>
        <p:sp>
          <p:nvSpPr>
            <p:cNvPr id="101" name=""/>
            <p:cNvSpPr/>
            <p:nvPr/>
          </p:nvSpPr>
          <p:spPr>
            <a:xfrm flipH="1">
              <a:off x="1375560" y="2504880"/>
              <a:ext cx="1800" cy="26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>
              <a:off x="1982880" y="2143800"/>
              <a:ext cx="1440" cy="26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 flipH="1">
              <a:off x="2356200" y="1916280"/>
              <a:ext cx="1800" cy="26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flipH="1">
              <a:off x="2727000" y="2121120"/>
              <a:ext cx="1800" cy="26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flipH="1">
              <a:off x="3344760" y="2521800"/>
              <a:ext cx="1800" cy="26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 flipH="1">
              <a:off x="2946600" y="2773080"/>
              <a:ext cx="1800" cy="26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 flipH="1">
              <a:off x="3561840" y="3128400"/>
              <a:ext cx="1800" cy="26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1755000" y="2756160"/>
              <a:ext cx="1440" cy="26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 flipH="1">
              <a:off x="1139400" y="3148200"/>
              <a:ext cx="1800" cy="26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 flipH="1">
              <a:off x="1757160" y="3503880"/>
              <a:ext cx="1800" cy="26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 flipH="1">
              <a:off x="2960280" y="3519720"/>
              <a:ext cx="1800" cy="26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2" name="" descr=""/>
          <p:cNvPicPr/>
          <p:nvPr/>
        </p:nvPicPr>
        <p:blipFill>
          <a:blip r:embed="rId2"/>
          <a:srcRect l="11367" t="27078" r="11872" b="27260"/>
          <a:stretch/>
        </p:blipFill>
        <p:spPr>
          <a:xfrm>
            <a:off x="4572000" y="1628640"/>
            <a:ext cx="3745080" cy="15717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rcRect l="20030" t="41985" r="17572" b="15113"/>
          <a:stretch/>
        </p:blipFill>
        <p:spPr>
          <a:xfrm>
            <a:off x="4067280" y="3760920"/>
            <a:ext cx="4825800" cy="226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7T20:01:12Z</dcterms:created>
  <dc:creator>Jiri Bursa</dc:creator>
  <dc:description/>
  <dc:language>en-US</dc:language>
  <cp:lastModifiedBy>Jiří Burša</cp:lastModifiedBy>
  <dcterms:modified xsi:type="dcterms:W3CDTF">2009-03-31T14:13:17Z</dcterms:modified>
  <cp:revision>9</cp:revision>
  <dc:subject/>
  <dc:title>Komplexní model buňky  s tensegritní soustavou modelující cytosklelet</dc:title>
</cp:coreProperties>
</file>