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6C9-1268-43D0-B386-225D640A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DEE-9837-49D4-BC13-95BEB24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1FA-9B8E-41D5-AACC-CA2B7745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116-5DD0-4AFB-A6AD-1B59331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6E0-3AD0-4AC2-8D64-5DAE05E0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E07-B155-4B20-B460-ADE13FC9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0F2-8D15-4768-BD76-A529782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C2C-0B50-49C2-95AB-14990CE5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1CF-88E7-4AD2-A545-2D15070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8BB-092B-49B0-B041-2AA18F6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F8E-0328-4936-9218-9A17A83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3A1-C015-4B0D-9CB0-163DBA8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C77-86DC-415F-AD37-1068C1B0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ý stre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2360" y="1700280"/>
            <a:ext cx="5905080" cy="3239280"/>
            <a:chOff x="1692360" y="1700280"/>
            <a:chExt cx="5905080" cy="3239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66520" y="2123280"/>
              <a:ext cx="558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85280" y="250524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2128680"/>
              <a:ext cx="15292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63120" y="2302920"/>
              <a:ext cx="227232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erový paprse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352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956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92360" y="1700280"/>
              <a:ext cx="5905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47640" y="5229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ho stretche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12:29Z</dcterms:modified>
  <cp:revision>2</cp:revision>
  <dc:subject/>
  <dc:title>Optická pinzeta</dc:title>
</cp:coreProperties>
</file>