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6346C-9B56-4447-B793-5C33A8C41798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Potom jsme měnili </a:t>
            </a: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modul pružnosti každé z komponent (cytoplasma, membrána, jádro, mikrofilamenty, mikrotubuly) v rozsahu 50% - 200% výchozí hodnoty a prováděli výpočtové simulace s cílem zjistit, která z buněčných komponent má největší vliv na výsledky simulace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F3390-3635-4474-BC92-D4562E09E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58C6D-70CF-4FE5-93A6-E20ECF216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0489E-3E6C-4D24-8EFD-C15864EF8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86007-F3E3-4B17-AFE5-02B020AED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EBD3D-CF9B-4C2F-8A2D-96AAAD553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7DB4C-1F4C-4118-B4F2-1258BBAFF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B6493-3314-419C-953D-7A92969CB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372CB-22A8-4580-BFDF-779647743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FDE4E-EFD5-46DA-BE84-408179C2C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5B7C0-1A8D-44C0-9616-2CD2F5179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589AA-ED6F-4359-9229-0D146D7B7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82E38-593F-4570-969E-EBADE9308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6209A-6CEB-45E7-BC0C-AB4FDD93AE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8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ff"/>
                </a:solidFill>
                <a:latin typeface="Times New Roman"/>
              </a:rPr>
              <a:t>Citlivostní analýz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4360" y="1341360"/>
            <a:ext cx="799128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uly pružnosti všech komponent modelu byly měněny v rozsahu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50% - 200%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ůvodní hodnoty. Simulace vtlačovací zkoušky s těmito hodnotami ukazují vliv změn tuhosti jednotlivých komponent na průběh vtlačovací zkoušky. Tak byla vyšetřována závislost výsledků simulované zkoušky na tuhost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61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ytoplazm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61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mbrá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61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ád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61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krofila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61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krotubulů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7T20:23:43Z</dcterms:created>
  <dc:creator>Jiri Bursa</dc:creator>
  <dc:description/>
  <dc:language>en-US</dc:language>
  <cp:lastModifiedBy>Jiří Burša</cp:lastModifiedBy>
  <dcterms:modified xsi:type="dcterms:W3CDTF">2007-01-08T09:59:38Z</dcterms:modified>
  <cp:revision>2</cp:revision>
  <dc:subject/>
  <dc:title>Citlivostní analýza</dc:title>
</cp:coreProperties>
</file>