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4B8C-DE7C-4871-BB2D-57BA5AD25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A11E-850E-4DA5-8C49-54493486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2F87-AD0D-4874-814D-2B5B48B14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F86B-CB0D-4120-B2CC-989A24ADB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F701-6F17-4966-BAC5-A2C9A382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3D93-0529-4BF2-9659-EE9FBCC2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75AC-33B3-4F5C-96F3-F7E0EDA6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65B8-6E82-48C4-85D7-9C330E6C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3106-0006-44E1-8DA8-FD8DAA5E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B448-8083-43C8-A847-8B2DC408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161D-54CD-407F-97B8-6A2915C0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2468-2F91-4296-AB67-CC4D6AE7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528B-C351-40D7-831F-1978145D119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3399"/>
                </a:solidFill>
                <a:latin typeface="Times New Roman"/>
              </a:rPr>
              <a:t>Základní typy arteriálních stentů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5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3" name="Rectangle 224"/>
          <p:cNvSpPr/>
          <p:nvPr/>
        </p:nvSpPr>
        <p:spPr>
          <a:xfrm>
            <a:off x="457200" y="1960560"/>
            <a:ext cx="8218440" cy="45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odle způsobu  roztažení</a:t>
            </a:r>
            <a:endParaRPr b="0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1" marL="107784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alonkem roztažitelné – založeny na plastické deformaci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lvl="1" marL="107784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amoroztažitelné – založeny na elastické deformaci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lvl="1" marL="107784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iflexní – založeny na změně tvarové stability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odle technologie výroby </a:t>
            </a:r>
            <a:endParaRPr b="0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1" marL="107784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rubičkové 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lvl="1" marL="107784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rátěné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. Podle povrchové úpravy</a:t>
            </a:r>
            <a:endParaRPr b="0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1" marL="107784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ez zvláštní úpravy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lvl="1" marL="107784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tažené (coated stents)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4" name="Obrázek 6" descr=""/>
          <p:cNvPicPr/>
          <p:nvPr/>
        </p:nvPicPr>
        <p:blipFill>
          <a:blip r:embed="rId1"/>
          <a:stretch/>
        </p:blipFill>
        <p:spPr>
          <a:xfrm>
            <a:off x="108000" y="84240"/>
            <a:ext cx="575928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9200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imes New Roman"/>
              </a:rPr>
              <a:t>Biflexní stent</a:t>
            </a:r>
            <a:br>
              <a:rPr sz="4000"/>
            </a:b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v expandovaném stavu</a:t>
            </a: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      zmáčknutý pro zavád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Stent-biflex1"/>
          <p:cNvPicPr/>
          <p:nvPr/>
        </p:nvPicPr>
        <p:blipFill>
          <a:blip r:embed="rId1"/>
          <a:stretch/>
        </p:blipFill>
        <p:spPr>
          <a:xfrm>
            <a:off x="826920" y="1844640"/>
            <a:ext cx="724536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86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Porovnání výsledku angioplastiky se sten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3538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Řez tepnou po arterioplas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říčn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déln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Řez tepnou po aplikaci st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déln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říčn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u3v01"/>
          <p:cNvPicPr/>
          <p:nvPr/>
        </p:nvPicPr>
        <p:blipFill>
          <a:blip r:embed="rId1"/>
          <a:stretch/>
        </p:blipFill>
        <p:spPr>
          <a:xfrm>
            <a:off x="4156200" y="1052640"/>
            <a:ext cx="4160880" cy="5130720"/>
          </a:xfrm>
          <a:prstGeom prst="rect">
            <a:avLst/>
          </a:prstGeom>
          <a:ln w="0">
            <a:noFill/>
          </a:ln>
        </p:spPr>
      </p:pic>
      <p:sp>
        <p:nvSpPr>
          <p:cNvPr id="82" name="Line 6"/>
          <p:cNvSpPr/>
          <p:nvPr/>
        </p:nvSpPr>
        <p:spPr>
          <a:xfrm flipV="1">
            <a:off x="3924360" y="1557000"/>
            <a:ext cx="9349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3" name="Line 7"/>
          <p:cNvSpPr/>
          <p:nvPr/>
        </p:nvSpPr>
        <p:spPr>
          <a:xfrm>
            <a:off x="3995640" y="2997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4" name="Line 8"/>
          <p:cNvSpPr/>
          <p:nvPr/>
        </p:nvSpPr>
        <p:spPr>
          <a:xfrm flipV="1">
            <a:off x="3924360" y="4581360"/>
            <a:ext cx="136836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Line 9"/>
          <p:cNvSpPr/>
          <p:nvPr/>
        </p:nvSpPr>
        <p:spPr>
          <a:xfrm flipV="1">
            <a:off x="3995640" y="5805000"/>
            <a:ext cx="295272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Potažené koronární stenty </a:t>
            </a:r>
            <a:r>
              <a:rPr b="1" lang="cs-CZ" sz="2800" spc="-1" strike="noStrike">
                <a:solidFill>
                  <a:srgbClr val="333399"/>
                </a:solidFill>
                <a:latin typeface="Times New Roman"/>
              </a:rPr>
              <a:t>(coated st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avedeny v 90. letech, velmi rychlé rozšíř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Restenózy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i použití stentů v 11-17% případů, výhradně v 1. roce, nejčastěji během 6 měsíců. Jsou způsobeny zánětlivou reakcí tkáně na trauma při zavedení stentu, pronikáním buněk hladkých svalů z medie do neointimy, kde se množí a produkují extracelulární matrix, čímž zmenšují lumen. Na tom se podílí i krevní destičky a fibr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stupy pro redukci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in-sten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restenóz - nejnadějnější stenty s povrchem pokrytým chemickými látkami (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coated stents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. K pokrytí se používaj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anorganické látky -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karbid křemíku, uhlík v různých formách - lepší biokompatibil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organické látk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ETF - neosvědčil se, působí prozánětlivě, nadměrná tvorba neointi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fosforylcholin - možnost vázat na něj léky (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drug eluting stents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). Ty se postupně uvolňují, možnost lokálního a dlouhodobého protizánětlivého působ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Stentgraf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ombinace cévní protézy a stentu. Umožňují méně invazívní aplikace cévních protéz - důležité u pacientů kontraindikovaných ke klasické opera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užití - nejvíce bifurkační stentgraft pro exkluzi (vyřazení) vaku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aneurysmatu břišní aort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 Zavádění cestou femorálních nebo ilických arteri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aaa2"/>
          <p:cNvPicPr/>
          <p:nvPr/>
        </p:nvPicPr>
        <p:blipFill>
          <a:blip r:embed="rId1"/>
          <a:stretch/>
        </p:blipFill>
        <p:spPr>
          <a:xfrm>
            <a:off x="971640" y="2075040"/>
            <a:ext cx="734544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Stentgraf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aaa1"/>
          <p:cNvPicPr/>
          <p:nvPr/>
        </p:nvPicPr>
        <p:blipFill>
          <a:blip r:embed="rId1"/>
          <a:stretch/>
        </p:blipFill>
        <p:spPr>
          <a:xfrm>
            <a:off x="1116000" y="888840"/>
            <a:ext cx="705636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86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Trubičkový balonkem roztažitelný s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u3v20"/>
          <p:cNvPicPr/>
          <p:nvPr/>
        </p:nvPicPr>
        <p:blipFill>
          <a:blip r:embed="rId1"/>
          <a:stretch/>
        </p:blipFill>
        <p:spPr>
          <a:xfrm>
            <a:off x="1042920" y="1052640"/>
            <a:ext cx="678024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86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Drátěný balonkem roztažitelný s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u3v21"/>
          <p:cNvPicPr/>
          <p:nvPr/>
        </p:nvPicPr>
        <p:blipFill>
          <a:blip r:embed="rId1"/>
          <a:srcRect l="0" t="0" r="0" b="15843"/>
          <a:stretch/>
        </p:blipFill>
        <p:spPr>
          <a:xfrm>
            <a:off x="900000" y="1052640"/>
            <a:ext cx="720576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86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Balonkem roztažitelné stenty - aplik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u3v08"/>
          <p:cNvPicPr/>
          <p:nvPr/>
        </p:nvPicPr>
        <p:blipFill>
          <a:blip r:embed="rId1"/>
          <a:stretch/>
        </p:blipFill>
        <p:spPr>
          <a:xfrm>
            <a:off x="571680" y="1413000"/>
            <a:ext cx="7961040" cy="46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86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Samoroztažitelný drátěný s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u3v03"/>
          <p:cNvPicPr/>
          <p:nvPr/>
        </p:nvPicPr>
        <p:blipFill>
          <a:blip r:embed="rId1"/>
          <a:stretch/>
        </p:blipFill>
        <p:spPr>
          <a:xfrm>
            <a:off x="468360" y="1098720"/>
            <a:ext cx="6981840" cy="52099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7451640" y="3327480"/>
            <a:ext cx="158436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ozvinutý stav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erozvinutý stav 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ři zavádění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atetrem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" name="Line 7"/>
          <p:cNvSpPr/>
          <p:nvPr/>
        </p:nvSpPr>
        <p:spPr>
          <a:xfrm flipH="1" flipV="1">
            <a:off x="6227640" y="3213000"/>
            <a:ext cx="122400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" name="Line 8"/>
          <p:cNvSpPr/>
          <p:nvPr/>
        </p:nvSpPr>
        <p:spPr>
          <a:xfrm flipH="1">
            <a:off x="5435640" y="4724280"/>
            <a:ext cx="194472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86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Drátěný stent s vynikající ohebn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7020000" y="1844640"/>
            <a:ext cx="158436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8" name="Picture 8" descr="u3v02"/>
          <p:cNvPicPr/>
          <p:nvPr/>
        </p:nvPicPr>
        <p:blipFill>
          <a:blip r:embed="rId1"/>
          <a:stretch/>
        </p:blipFill>
        <p:spPr>
          <a:xfrm>
            <a:off x="684360" y="1069920"/>
            <a:ext cx="594180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86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Princip změny tvarové st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u3v25"/>
          <p:cNvPicPr/>
          <p:nvPr/>
        </p:nvPicPr>
        <p:blipFill>
          <a:blip r:embed="rId1"/>
          <a:stretch/>
        </p:blipFill>
        <p:spPr>
          <a:xfrm>
            <a:off x="457200" y="1557360"/>
            <a:ext cx="82296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54208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Závislost síly a deformace </a:t>
            </a:r>
            <a:br>
              <a:rPr sz="3600"/>
            </a:b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při změně tvarové st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u3v25"/>
          <p:cNvPicPr/>
          <p:nvPr/>
        </p:nvPicPr>
        <p:blipFill>
          <a:blip r:embed="rId1"/>
          <a:srcRect l="58766" t="49705" r="0" b="0"/>
          <a:stretch/>
        </p:blipFill>
        <p:spPr>
          <a:xfrm>
            <a:off x="755640" y="1484280"/>
            <a:ext cx="7402680" cy="4452840"/>
          </a:xfrm>
          <a:prstGeom prst="rect">
            <a:avLst/>
          </a:prstGeom>
          <a:ln w="0">
            <a:noFill/>
          </a:ln>
        </p:spPr>
      </p:pic>
      <p:sp>
        <p:nvSpPr>
          <p:cNvPr id="63" name="Line 4"/>
          <p:cNvSpPr/>
          <p:nvPr/>
        </p:nvSpPr>
        <p:spPr>
          <a:xfrm>
            <a:off x="2124000" y="3716280"/>
            <a:ext cx="2879640" cy="93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" name="Line 5"/>
          <p:cNvSpPr/>
          <p:nvPr/>
        </p:nvSpPr>
        <p:spPr>
          <a:xfrm flipH="1" flipV="1">
            <a:off x="3348000" y="2708280"/>
            <a:ext cx="2952720" cy="100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" name="Line 6"/>
          <p:cNvSpPr/>
          <p:nvPr/>
        </p:nvSpPr>
        <p:spPr>
          <a:xfrm flipV="1">
            <a:off x="5003640" y="3500280"/>
            <a:ext cx="0" cy="1152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" name="Line 7"/>
          <p:cNvSpPr/>
          <p:nvPr/>
        </p:nvSpPr>
        <p:spPr>
          <a:xfrm flipV="1">
            <a:off x="5003640" y="3284280"/>
            <a:ext cx="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7" name="Line 8"/>
          <p:cNvSpPr/>
          <p:nvPr/>
        </p:nvSpPr>
        <p:spPr>
          <a:xfrm>
            <a:off x="3348000" y="2708280"/>
            <a:ext cx="0" cy="79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8" name="Line 9"/>
          <p:cNvSpPr/>
          <p:nvPr/>
        </p:nvSpPr>
        <p:spPr>
          <a:xfrm>
            <a:off x="3348000" y="3500280"/>
            <a:ext cx="0" cy="649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9" name="Line 10"/>
          <p:cNvSpPr/>
          <p:nvPr/>
        </p:nvSpPr>
        <p:spPr>
          <a:xfrm flipV="1">
            <a:off x="5003640" y="3716280"/>
            <a:ext cx="1297080" cy="9367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" name="Line 11"/>
          <p:cNvSpPr/>
          <p:nvPr/>
        </p:nvSpPr>
        <p:spPr>
          <a:xfrm flipH="1">
            <a:off x="2124000" y="2708280"/>
            <a:ext cx="1224000" cy="9367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1" name="Line 13"/>
          <p:cNvSpPr/>
          <p:nvPr/>
        </p:nvSpPr>
        <p:spPr>
          <a:xfrm flipH="1">
            <a:off x="4066920" y="4149720"/>
            <a:ext cx="93636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2" name="Line 14"/>
          <p:cNvSpPr/>
          <p:nvPr/>
        </p:nvSpPr>
        <p:spPr>
          <a:xfrm>
            <a:off x="5435640" y="4365720"/>
            <a:ext cx="7308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2627280" y="5877000"/>
            <a:ext cx="13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deformační zatěžování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5508720" y="5229360"/>
            <a:ext cx="13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silové zatěžování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27236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imes New Roman"/>
              </a:rPr>
              <a:t>Základní konstrukční jednotka </a:t>
            </a:r>
            <a:br>
              <a:rPr sz="4000"/>
            </a:br>
            <a:r>
              <a:rPr b="0" lang="cs-CZ" sz="4000" spc="-1" strike="noStrike">
                <a:solidFill>
                  <a:srgbClr val="333399"/>
                </a:solidFill>
                <a:latin typeface="Times New Roman"/>
              </a:rPr>
              <a:t>biflexního st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u3v26"/>
          <p:cNvPicPr/>
          <p:nvPr/>
        </p:nvPicPr>
        <p:blipFill>
          <a:blip r:embed="rId1"/>
          <a:stretch/>
        </p:blipFill>
        <p:spPr>
          <a:xfrm>
            <a:off x="457200" y="2060640"/>
            <a:ext cx="8362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1-09-05T08:12:32Z</dcterms:modified>
  <cp:revision>257</cp:revision>
  <dc:subject/>
  <dc:title>Biomechanics  of smooth muscle cells </dc:title>
</cp:coreProperties>
</file>