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F2D5-1EA4-45FD-A3EC-697D680A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E359-E0E8-4565-B21F-0C7CE5CA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982-F78C-4C51-8CF7-DD632EB3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7D6-19FE-407B-9AE7-96151EBC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0A3-72CE-478D-A67C-FD647DEC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15E-CC50-4BE8-BD66-947D4105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F349-9E0A-4B90-8199-CC260F7E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7713-072F-448E-BADB-EE475A9C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B75-3D1F-47ED-A6E5-CA63F270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6F2-02C3-4E4F-9703-103EC601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D2E-981F-4FF4-93BA-CC6E3359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BCE-B5B7-4EC5-AB08-3E492F56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BBF3-7C81-432E-ACE9-99A40D7C5F2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4520" y="2599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chéma uspořádání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aktinových a myozinových filament v hladké svalové buňce kontraktilního fenotypu</a:t>
            </a:r>
            <a:br>
              <a:rPr sz="2000"/>
            </a:b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333399"/>
                </a:solidFill>
                <a:latin typeface="Arial"/>
              </a:rPr>
              <a:t>(podle Histology,Ross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629400" cy="4724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732720" y="4292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nsní tělí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3733920"/>
            <a:ext cx="10670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334120" y="44956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89480" y="3230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3068640"/>
            <a:ext cx="1447920" cy="947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lustá filamenta (myozin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67560" y="2081160"/>
            <a:ext cx="1326960" cy="916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ká filamenta (akt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341360"/>
            <a:ext cx="80010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funkce hladkých svalových buně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raktilní fenotyp - svalová kontrak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etický fenotyp - syntéza bílkovin pro remodelaci tká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1:40:46Z</dcterms:created>
  <dc:creator>Jiří Burša</dc:creator>
  <dc:description/>
  <dc:language>en-US</dc:language>
  <cp:lastModifiedBy>umt</cp:lastModifiedBy>
  <dcterms:modified xsi:type="dcterms:W3CDTF">2007-01-08T13:00:46Z</dcterms:modified>
  <cp:revision>4</cp:revision>
  <dc:subject/>
  <dc:title>Schéma uspořádání aktinových a myozinových filament v hladké svalové buňce  (podle Histology,Ross) </dc:title>
</cp:coreProperties>
</file>