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FF28-6305-458A-A2BF-FFF2AEA9DA3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e máme druhý případ komplexního modelu. Cytoskelet je modelován tensegritní strukturou, a ostatní složky buňky jsou modelovány jako k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4DFA-1EAC-4BA6-9F60-67C47A19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449-0C5B-4CAD-96F6-467187E5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C5D7-2E2A-4A59-905F-3953B24F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966-705F-4F44-A80D-8A681674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8496-01D0-4792-9F09-20090B93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EAE4-2D78-4222-B5F9-5DF67583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AAF9-7042-403F-BB62-D32AEE83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0958-1C63-41FD-AB1E-66326E7E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CB45-78C9-409A-96EC-15779B91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7586-7377-4F85-A21A-C69A5B40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F14B-1D3E-4A2F-BAC7-715396FC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1237-89CE-4F71-A6CD-4F179A04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E478-EF27-43CA-BC23-24070B697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Příklad komplexního strukturního mode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J. McGarry G., Prendergast P.J., A three-dimensional finite element model of an      adherent eukaryotic cell, European cells and</a:t>
            </a:r>
            <a:r>
              <a:rPr b="1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áles,27-34,2004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960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Komplexní výpočtový model buň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zentovaný komplexní strukturní model buňky je tvořen těmito prvk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Bunečná membrána (sarkolemma) a membránový skelet – modelovány pomocí skořepinových pr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cy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l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delována pomocí 3D solid prvků jako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lmi poddajné kontin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ádro a přilehlé organel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delová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mocí 3D solid prvků jako mén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ddajné kontinu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 cytoplasma vyztužená tensegritní soustavou, reprezentující tzv. jaderný skel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luboký cytoskelet - modelovaný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segritní soustav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reprezentující síť mikrotubulů a mikrofila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4:24:39Z</dcterms:created>
  <dc:creator>Jiří Burša</dc:creator>
  <dc:description/>
  <dc:language>en-US</dc:language>
  <cp:lastModifiedBy>Jiří Burša</cp:lastModifiedBy>
  <dcterms:modified xsi:type="dcterms:W3CDTF">2007-01-04T14:32:39Z</dcterms:modified>
  <cp:revision>4</cp:revision>
  <dc:subject/>
  <dc:title>Snímek 1</dc:title>
</cp:coreProperties>
</file>