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474-BFF9-46F7-9D0C-D055CF34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A96-762B-4BE9-9F0E-44F7D8F9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D8E-8751-4FB8-828B-83AC2BAC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9EF-A1D5-4B27-8743-878E69B0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E46-A55A-4A84-BD9A-042F68A4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7D4-6730-4171-9F78-84958C4E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B4B-5209-4C79-98E1-1BCBEF5F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CA6C-F5CA-426A-936E-A1D44AD9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43D-D9DE-4F7D-8624-E9A57F5A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C8A-97ED-4B71-A8A6-4D505BF0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AC1-4F2B-4148-B123-040423C9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2B9-8252-44B4-9488-E7B55F55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3172-FD71-48E3-AD68-95AEB6DCB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039320"/>
            <a:ext cx="842472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U soustavy tvaru pravidelného pětiúhelníka se dvěma úhlopříčnými pruty nelze pouhou změnou  uspořádání prutů vytvořit tensegritní (staticky neurčitou) soustavu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idáním jednoho prutu vznikne staticky neurčitá soustava vykazující charakteristické vlastnosti tensegritní soustavy; přestože má pouze jedinou osu symetrie, změnou délky kteréhokoli  prutu vznikne v ní předpětí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47000" y="260280"/>
            <a:ext cx="56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oustava tvaru pětiúhelní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7544" t="9334" r="17544" b="9334"/>
          <a:stretch/>
        </p:blipFill>
        <p:spPr>
          <a:xfrm>
            <a:off x="468360" y="2637000"/>
            <a:ext cx="3738600" cy="3512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7544" t="9334" r="17544" b="9334"/>
          <a:stretch/>
        </p:blipFill>
        <p:spPr>
          <a:xfrm>
            <a:off x="4681440" y="2637000"/>
            <a:ext cx="37782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0:04Z</dcterms:created>
  <dc:creator>Jiri Bursa</dc:creator>
  <dc:description/>
  <dc:language>en-US</dc:language>
  <cp:lastModifiedBy>Jiri Bursa</cp:lastModifiedBy>
  <dcterms:modified xsi:type="dcterms:W3CDTF">2006-12-28T12:21:29Z</dcterms:modified>
  <cp:revision>1</cp:revision>
  <dc:subject/>
  <dc:title>- U soustavy tvaru pravidelného pětiúhelníka se dvěma úhlopříčnými pruty nelze pouhou změnou  uspořádání prutů vytvořit tensegritní (staticky neurčitou) soustavu.  - Přidáním jednoho prutu vznikne staticky neurčitá soustava vykazující charakteristické vlastnosti tensegritní soustavy; přestože má pouze jedinou osu symetrie, změnou délky kteréhokoli  prutu vznikne v ní předpětí. </dc:title>
</cp:coreProperties>
</file>