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63B-59D6-483A-BBD5-C0DA8FF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8CC-52B6-4A53-A38A-613D4183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FB3-0024-45EF-B393-5FEB4C93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D1B-B11C-4846-A936-7D8FBDBF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A41-D112-4DFB-A337-5435FBB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F32-B6E4-42F5-B114-46742B3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0F8-DE89-4682-8132-E68121B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DB6-BE52-492E-A1AD-B1577AB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C00-7132-41FE-A946-65D6C6E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FC1-0302-4E60-84C9-337849F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988-3384-4247-B535-D19242C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905-84DF-4FF7-832E-AB34831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779-743D-4CA2-BE9C-9D1F434CD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orovnání výchozí odhadnuté křivky s křivkou získanou iterační výpočtovou simulac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omogenní nelineárně-elastický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989000"/>
          <a:ext cx="77040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8:10Z</dcterms:created>
  <dc:creator>Jiri Bursa</dc:creator>
  <dc:description/>
  <dc:language>en-US</dc:language>
  <cp:lastModifiedBy>umt</cp:lastModifiedBy>
  <dcterms:modified xsi:type="dcterms:W3CDTF">2007-01-08T13:02:50Z</dcterms:modified>
  <cp:revision>3</cp:revision>
  <dc:subject/>
  <dc:title>Porovnání výchozí odhadnuté křivky     s křivkou získanou iterační výpočtovou simulací  homogenní nelineárně-elastický model</dc:title>
</cp:coreProperties>
</file>