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CF5-CF63-4373-ABC2-F6872401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B24-F059-4AF4-BC66-9AD87B33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583-93E0-40A7-82D9-B7150FCB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DCC-8F0F-46E0-99DF-8C1C206A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5D8-0CCE-421A-B85D-95018EC5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CF8-A2E5-47ED-8E62-EF4A7CA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BD1-13E0-4AD3-8C47-0F9EFF5C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508-F990-46F9-B1C6-9FCA740B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42B-1BB5-4794-A0DB-14C5FA9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E69-B82F-419D-A008-18D1CDC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68C-2691-4372-92DA-CF1D865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EB1-1B9A-48CE-8CE1-3FEC972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BC12-58EC-4E9F-916F-432E6A2071D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ymezen&#237;.ppt" TargetMode="External"/><Relationship Id="rId2" Type="http://schemas.openxmlformats.org/officeDocument/2006/relationships/hyperlink" Target="file:///Medic&#237;nsk&#233;_z&#225;klady.ppt" TargetMode="External"/><Relationship Id="rId3" Type="http://schemas.openxmlformats.org/officeDocument/2006/relationships/hyperlink" Target="file:///Anatomie_srdce_c&#233;vy.ppt" TargetMode="External"/><Relationship Id="rId4" Type="http://schemas.openxmlformats.org/officeDocument/2006/relationships/hyperlink" Target="file:///Fyziologie.ppt" TargetMode="External"/><Relationship Id="rId5" Type="http://schemas.openxmlformats.org/officeDocument/2006/relationships/hyperlink" Target="file:///Krev-vlastnosti.ppt" TargetMode="External"/><Relationship Id="rId6" Type="http://schemas.openxmlformats.org/officeDocument/2006/relationships/hyperlink" Target="file:///Histologie.ppt" TargetMode="External"/><Relationship Id="rId7" Type="http://schemas.openxmlformats.org/officeDocument/2006/relationships/hyperlink" Target="file:///Tepny_vlastnosti.ppt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Biomechanika III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Biomechanika srdečně-cévní soust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4005000"/>
            <a:ext cx="7058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Times New Roman"/>
              </a:rPr>
              <a:t>Opory jsou určeny především pro přednášky předmětu Biomechanika III (Biomechanika srdečně-cévní soustavy), ale i pro další zájemce o příslušnou problematiku, např. jako úvod do studia předmětu doktorandského studia Mechanika biologických tk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Osnova předmětu Biomechanika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ymezení kardiovaskulární soustav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dicíns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informace z jej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anatom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fyziolog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ložení 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vlastn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rv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jejich význam pro biomecha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istologické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inform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o struktuře a složení cévní a srdeč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Vlastn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ěkkých tk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cévní stěny) a jejich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stitutivní_modely měkkých t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ka buň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cké změn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používané zákrok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 implantá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cévní soust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o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náhrada sr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ýpočtové modelo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echanického chování cév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ázky k zá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truktura a náplň základních lékařských obor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zabývá se popisem geometrie a topologie (topografická anatomie) tělních orgánů a orgánových soustav, tedy popisem jejich tvaru a rozmístění ve zdravém organis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yzi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procesů, probíhajících ve zdravém organismu a zajišťujících jeho životní funkce. Přito využívá poznatků biochemie, biofyziky i dalších obo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ist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složení a struktury jednotlivých tkání na mikroskopické úrov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e (patologická anatomie a patologická fyziologie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změnami v anatomii a fyziologii, způsobenými chorobnými procesy v organism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aterosklerotické změny v tepnách, vady a choroby sr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ory-struktura"/>
          <p:cNvPicPr/>
          <p:nvPr/>
        </p:nvPicPr>
        <p:blipFill>
          <a:blip r:embed="rId1"/>
          <a:stretch/>
        </p:blipFill>
        <p:spPr>
          <a:xfrm>
            <a:off x="3492360" y="260280"/>
            <a:ext cx="532764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561960"/>
            <a:ext cx="30351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robná struktura lékařských obor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Literatura používaná pro předmět Biomechanika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alenta J. a kol.: Biomechanika. Academia Praha, 19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alenta J. a kol.: Biomechanika srdečně cévního systému. ČVUT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řen J., Rosenberg J., Janíček P.: Biomechanika, ZČU, Plzeň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ung: Biomechanics; Mechanical Properties of Living Tissues. Springer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umphrey J.D.: Cardiovascular Solid Mechanics; Cells, Tissues and Organs. Springer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thier, Simmons: Introductory Biomechanics. Cambridge University Press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řeška Vladislav: Aneuryzma břišní aorty, Grada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minik Jan: Kardiochirurgie. Grada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artoš Jiří: Komplikace a reoperace po rekonstrukčních cévních operacích. Grada,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ojáček J.: Koronární stenty. Grada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ajíček M., Peregrin J.H., Roček M., Šebesta P. a kol.  Chirurgická a intervenční léčba cévních onemocnění. Grada, 200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Tomáš Návrat</cp:lastModifiedBy>
  <dcterms:modified xsi:type="dcterms:W3CDTF">2013-04-25T15:29:35Z</dcterms:modified>
  <cp:revision>246</cp:revision>
  <dc:subject/>
  <dc:title>Biomechanics  of smooth muscle cells </dc:title>
</cp:coreProperties>
</file>