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957-3245-4D53-ABC9-8FD19052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5EE-D8BF-4446-B457-65C7C08A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E3D-D54F-4C04-9D85-26986D22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36C-87A2-45EE-8870-3731233B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323-AC32-4700-AE04-24498422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177-BD05-4FC3-ABA7-0D3A3B33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19D-C325-42DE-B7A4-C72062CB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C8D-1613-4C90-947D-2D8B6129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A61-0B68-4E00-8373-5D66757E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81D-12CA-45F7-94A8-91F4DB0F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E86-0692-423A-8909-C3E1083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D6D-29F2-4661-BD16-F2CD6342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D5EB-7FDD-4C9D-9135-0EF0F61DEA8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natomie_srdce_c&#233;vy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gap%20junction.ppt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295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laky krve v krevním obě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2360" y="169992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orta a tep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ělního oběhu – 16/10kPa (120/80 mm Hg -systolický/diastolick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ícn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Arteria pulmonalis) 3,3/1,3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apilár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ělního oběhu) – 2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elké ží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– 0,8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vá sí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0,8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vá sí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1,6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ento tlak vyvolaný činností srdce se superponuje tlak hydrostatický, závislý na poloze těla. Při vzpřímeném postoji se krev z dolní části těla vrací proti gradientu hydrostatického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y umožňující návrat žilní kr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lní chlo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e žil pulsní vlnou v tepně v součinnosti s žilními chlopně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e žil svalovou činností v součinnosti s žilními chlopně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ýcháním (nárůst nitrohrudního podtlaku a břišního tlaku při vdechu poklesem brá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3205080" y="157320"/>
            <a:ext cx="5759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Starlingův zák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8760" y="981000"/>
            <a:ext cx="44305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inutový srdeční výdej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 l/min. v klidu, 25 l/min při zátěž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astní spotřeba srdce (průtok koronárními tepnami, jen při diastole)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,25 l/min. v klidu, 1 l/min při zátěž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sahuje se 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tepové frekven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systolického objemu srdce – prodloužení sarkomer na optimální délk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tlaku – vliv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arlingova záko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ávislost zvýšení systolického tlaku  krve na zvýšeném objemu komory v diastole a zvýšení systolického objemu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5084640"/>
            <a:ext cx="85024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ncip: při zvýšení venózního návratu (objem komory na konci diastoly vzroste až na 180 ml) se zvýší také systolický objem na cca 90ml. Zvýšením objemu vzrůstá také obvod srdeční komory a úměrně i délka jednotlivých sarkomer. Ty se tím dostávají do oblasti maximální kontraktilní síly Starlingovy křivky a zvýšená kontraktilní síla srdečního svalu způsobí zvýšení krevního tlaku (podle Laplaceovy rovnice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Obrázek 6" descr="Starling.JPG"/>
          <p:cNvPicPr/>
          <p:nvPr/>
        </p:nvPicPr>
        <p:blipFill>
          <a:blip r:embed="rId1"/>
          <a:stretch/>
        </p:blipFill>
        <p:spPr>
          <a:xfrm>
            <a:off x="4932360" y="1960560"/>
            <a:ext cx="3786120" cy="3052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5103720" y="119700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lingova  křivka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běh tlaků v levém srdci a aort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3" descr="tlak v tepnách.JPG"/>
          <p:cNvPicPr/>
          <p:nvPr/>
        </p:nvPicPr>
        <p:blipFill>
          <a:blip r:embed="rId1"/>
          <a:stretch/>
        </p:blipFill>
        <p:spPr>
          <a:xfrm>
            <a:off x="714240" y="1150920"/>
            <a:ext cx="7667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P-V diagram levé srdeční ko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ázek 3" descr="p-v-diagram.JPG"/>
          <p:cNvPicPr/>
          <p:nvPr/>
        </p:nvPicPr>
        <p:blipFill>
          <a:blip r:embed="rId1"/>
          <a:srcRect l="0" t="0" r="0" b="4604"/>
          <a:stretch/>
        </p:blipFill>
        <p:spPr>
          <a:xfrm>
            <a:off x="1308240" y="1143000"/>
            <a:ext cx="6527520" cy="3602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428760" y="5000760"/>
            <a:ext cx="37861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RO – systolický reziduální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 – systolický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DO – telodiastolický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476280"/>
            <a:ext cx="82296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pro různou poddajnost aorty při konstantním počátečním předpětí svalového vlákna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3" name="Obrázek 7" descr="pV2.JPG"/>
          <p:cNvPicPr/>
          <p:nvPr/>
        </p:nvPicPr>
        <p:blipFill>
          <a:blip r:embed="rId1"/>
          <a:srcRect l="11588" t="54205" r="10889" b="2052"/>
          <a:stretch/>
        </p:blipFill>
        <p:spPr>
          <a:xfrm>
            <a:off x="1476360" y="1773360"/>
            <a:ext cx="626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pro různé hodnoty hemodynamického odporu chlopně aorty (o dva řády) při konstantním tepovém obj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ázek 2" descr="pV1.JPG"/>
          <p:cNvPicPr/>
          <p:nvPr/>
        </p:nvPicPr>
        <p:blipFill>
          <a:blip r:embed="rId1"/>
          <a:stretch/>
        </p:blipFill>
        <p:spPr>
          <a:xfrm>
            <a:off x="1403280" y="1844640"/>
            <a:ext cx="6640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pro různé hodnoty hemodynamického odporu periferního cévního řečiště při konstantním počátečním předpětí svalového vlák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ázek 3" descr="pV2.JPG"/>
          <p:cNvPicPr/>
          <p:nvPr/>
        </p:nvPicPr>
        <p:blipFill>
          <a:blip r:embed="rId1"/>
          <a:srcRect l="0" t="0" r="0" b="56301"/>
          <a:stretch/>
        </p:blipFill>
        <p:spPr>
          <a:xfrm>
            <a:off x="324000" y="1773360"/>
            <a:ext cx="8342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atomie a funkce žilních chlop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žíly"/>
          <p:cNvPicPr/>
          <p:nvPr/>
        </p:nvPicPr>
        <p:blipFill>
          <a:blip r:embed="rId1"/>
          <a:stretch/>
        </p:blipFill>
        <p:spPr>
          <a:xfrm>
            <a:off x="468360" y="2448000"/>
            <a:ext cx="3743280" cy="289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žilní_chlopně2"/>
          <p:cNvPicPr/>
          <p:nvPr/>
        </p:nvPicPr>
        <p:blipFill>
          <a:blip r:embed="rId2"/>
          <a:stretch/>
        </p:blipFill>
        <p:spPr>
          <a:xfrm>
            <a:off x="3708360" y="278136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žilní_chlopně"/>
          <p:cNvPicPr/>
          <p:nvPr/>
        </p:nvPicPr>
        <p:blipFill>
          <a:blip r:embed="rId3"/>
          <a:stretch/>
        </p:blipFill>
        <p:spPr>
          <a:xfrm>
            <a:off x="6456240" y="2876400"/>
            <a:ext cx="1428840" cy="23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73200" y="1425600"/>
            <a:ext cx="1882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lní chlop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556000" y="1413000"/>
            <a:ext cx="3024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íly a tepny ve společné vazivové pochv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012000" y="1569960"/>
            <a:ext cx="2305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funkční chlopně v dilatované žíle - reflu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běh tlaku v žilách dolních končetin na začátku chů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Tlak v žilách .JPG"/>
          <p:cNvPicPr/>
          <p:nvPr/>
        </p:nvPicPr>
        <p:blipFill>
          <a:blip r:embed="rId1"/>
          <a:stretch/>
        </p:blipFill>
        <p:spPr>
          <a:xfrm>
            <a:off x="539640" y="1781280"/>
            <a:ext cx="83534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hodnoty tlaku v jeho čá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u3v19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46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826920" y="3141720"/>
            <a:ext cx="1368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plícnic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oloměsíčitá (valva semilunaris) – výtlačný ventil pravé komory, na vstupu do plícnice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trojcípá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valva tricuspidalis) – sací ventil pravé komory, na vstupu z pravé síně.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020000" y="1846440"/>
            <a:ext cx="1584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aortál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oloměsíčitá (valva semilunaris)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ýtlačný ventil levé komory, na vstupu do aorty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mitrál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dvoucípá –valva bicuspidalis)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ací ventil levé komory, na vstupu z levé síně.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 flipH="1" flipV="1">
            <a:off x="5363640" y="3645000"/>
            <a:ext cx="172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4932360" y="2205000"/>
            <a:ext cx="2160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1692360" y="3500280"/>
            <a:ext cx="2808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V="1">
            <a:off x="1692360" y="3716280"/>
            <a:ext cx="244800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lektrické děje srdečního cyklu - E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-vlna – depolarizace sí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QRS-vlna – depolarizace ko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-vlna – repolarizace ko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A – sinoatriální uzel, generátor elektrických impul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V – atrioventrikulární uzel, převod impulsů ze síní na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yziologie1"/>
          <p:cNvPicPr/>
          <p:nvPr/>
        </p:nvPicPr>
        <p:blipFill>
          <a:blip r:embed="rId1"/>
          <a:stretch/>
        </p:blipFill>
        <p:spPr>
          <a:xfrm>
            <a:off x="3492360" y="1052640"/>
            <a:ext cx="5183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lektrické děje srdečního cyklu - E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360" y="1267920"/>
            <a:ext cx="80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áze diastoly (relaxace srdečního svalu) končí elektrickým impulsem, vzniklým samovolně v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noatriálním (sinusovém) uzl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nastává kontrakce síní. Elektrický vzruch (depolarizace buněčných membrán) se šíří svalovinou. V cestě do komor mu stojí nevodivý vazivový prstenec -  srdeční skelet, nesoucí všechny čtyři chlopně. Přes něj se impuls přenese z atrioventrikulárního uzlu prostřednictvím Hissova svazku, čímž je dosaženo zpoždění 0,10 – 0,15 s. Vzruch se pak rozšíří pomocí Tawarových ramének a Purkyňových vláken do svaloviny komor, které kontrahují principem „vše nebo nic“ – buď je impuls nadprahový, pak dojde ke kontrakci, nebo je podprahový a ke kontrakci nedojde. Poté dochází k opětovné repolarizaci síní a komor, během této fáze je srdce nevzrušivé, není schopno kontrak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4480" y="333000"/>
            <a:ext cx="3035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ruktura příčně pruhovan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sval-struktura"/>
          <p:cNvPicPr/>
          <p:nvPr/>
        </p:nvPicPr>
        <p:blipFill>
          <a:blip r:embed="rId1"/>
          <a:stretch/>
        </p:blipFill>
        <p:spPr>
          <a:xfrm>
            <a:off x="4716360" y="919080"/>
            <a:ext cx="2895840" cy="53182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3"/>
          <p:cNvGrpSpPr/>
          <p:nvPr/>
        </p:nvGrpSpPr>
        <p:grpSpPr>
          <a:xfrm>
            <a:off x="4140360" y="620640"/>
            <a:ext cx="3887640" cy="5803560"/>
            <a:chOff x="4140360" y="620640"/>
            <a:chExt cx="3887640" cy="5803560"/>
          </a:xfrm>
        </p:grpSpPr>
        <p:sp>
          <p:nvSpPr>
            <p:cNvPr id="70" name="Text Box 4"/>
            <p:cNvSpPr/>
            <p:nvPr/>
          </p:nvSpPr>
          <p:spPr>
            <a:xfrm>
              <a:off x="6879600" y="620640"/>
              <a:ext cx="57636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6733800" y="1751040"/>
              <a:ext cx="1007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ové snopce (fascikly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2" name="Text Box 6"/>
            <p:cNvSpPr/>
            <p:nvPr/>
          </p:nvSpPr>
          <p:spPr>
            <a:xfrm>
              <a:off x="4245480" y="2747880"/>
              <a:ext cx="8611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ová vlákna (buňky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6879600" y="2843280"/>
              <a:ext cx="1148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myofibrila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4" name="Text Box 8"/>
            <p:cNvSpPr/>
            <p:nvPr/>
          </p:nvSpPr>
          <p:spPr>
            <a:xfrm>
              <a:off x="6161760" y="3954600"/>
              <a:ext cx="1148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arkomera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6449040" y="5683680"/>
              <a:ext cx="157896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tlusté myofilamentum (myosin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4140360" y="4633920"/>
              <a:ext cx="186588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tenké myofilamentum (aktin, tropomyosin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7643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ruktura hladkého svalu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zájemné spojení buněk pomocí nexu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gap junction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obr1"/>
          <p:cNvPicPr/>
          <p:nvPr/>
        </p:nvPicPr>
        <p:blipFill>
          <a:blip r:embed="rId2"/>
          <a:stretch/>
        </p:blipFill>
        <p:spPr>
          <a:xfrm>
            <a:off x="387360" y="2492280"/>
            <a:ext cx="3608280" cy="34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188"/>
          <p:cNvPicPr/>
          <p:nvPr/>
        </p:nvPicPr>
        <p:blipFill>
          <a:blip r:embed="rId3"/>
          <a:stretch/>
        </p:blipFill>
        <p:spPr>
          <a:xfrm>
            <a:off x="4211640" y="2997360"/>
            <a:ext cx="4537080" cy="29527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"/>
          <p:cNvGrpSpPr/>
          <p:nvPr/>
        </p:nvGrpSpPr>
        <p:grpSpPr>
          <a:xfrm>
            <a:off x="2627280" y="2637000"/>
            <a:ext cx="1244160" cy="2320560"/>
            <a:chOff x="2627280" y="2637000"/>
            <a:chExt cx="1244160" cy="2320560"/>
          </a:xfrm>
        </p:grpSpPr>
        <p:sp>
          <p:nvSpPr>
            <p:cNvPr id="81" name="Line 4"/>
            <p:cNvSpPr/>
            <p:nvPr/>
          </p:nvSpPr>
          <p:spPr>
            <a:xfrm>
              <a:off x="2765520" y="3797280"/>
              <a:ext cx="414720" cy="8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2627280" y="4626360"/>
              <a:ext cx="552960" cy="165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3180240" y="4460400"/>
              <a:ext cx="691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Densní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ělísk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4" name="Text Box 7"/>
            <p:cNvSpPr/>
            <p:nvPr/>
          </p:nvSpPr>
          <p:spPr>
            <a:xfrm>
              <a:off x="3180240" y="3465720"/>
              <a:ext cx="691200" cy="663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lustá filament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(myozin)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3180240" y="2637000"/>
              <a:ext cx="691200" cy="663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enká filament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(aktin)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rincip svalové kontrak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Zástupný symbol pro obsah 4" descr="Aktin-myozin.JPG"/>
          <p:cNvPicPr/>
          <p:nvPr/>
        </p:nvPicPr>
        <p:blipFill>
          <a:blip r:embed="rId1"/>
          <a:srcRect l="0" t="34637" r="0" b="0"/>
          <a:stretch/>
        </p:blipFill>
        <p:spPr>
          <a:xfrm>
            <a:off x="298440" y="1785960"/>
            <a:ext cx="844884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Obrázek 7" descr="Aktin-myozin1.JPG"/>
          <p:cNvPicPr/>
          <p:nvPr/>
        </p:nvPicPr>
        <p:blipFill>
          <a:blip r:embed="rId2"/>
          <a:stretch/>
        </p:blipFill>
        <p:spPr>
          <a:xfrm>
            <a:off x="4892760" y="3927600"/>
            <a:ext cx="3679920" cy="2573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857840" y="2857680"/>
            <a:ext cx="35719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ájemná poloha aktinových a myozinových vláken v závislosti  na délce sarkomer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5840" y="928800"/>
            <a:ext cx="8296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úrovni ultrastruktury obsahuje svalové vlákno cca 1500 myofibril, které se skládají ze  základních  kontraktilních jednotek svalu –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arkome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aktin + myozin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8360" y="3586320"/>
            <a:ext cx="357192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ypická délka kroku:    5 n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rekvence:     10 - 100 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álná rychlost kontrakce sarkomery:      0.1 - 1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11-09T14:28:09Z</dcterms:modified>
  <cp:revision>283</cp:revision>
  <dc:subject/>
  <dc:title>Biomechanics  of smooth muscle cells </dc:title>
</cp:coreProperties>
</file>