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BE9-0801-4C10-85FB-05C761F9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A80-8038-45F3-86F8-44EFFBA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D9C-C715-41D3-A9A9-8E56E4CB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111-539A-445C-9A4F-8CD7F2F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E86-6967-4282-AA5D-F7E0488F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668-2DEE-41C6-8879-2BB38D33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3AC-F830-4F55-AA25-EA791B1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A36-306B-4D33-BCCF-7045BE7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EE6-C7A1-4E8E-9720-158C7ED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719-3834-4A18-89E9-981B1C4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CA2-1813-4E05-AA2F-6CBC663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811-00AC-4066-A2A5-009CE2A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2CA-71C9-46D8-B112-B6EE4E775C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96520"/>
            <a:ext cx="4752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Základní typy tkání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 tepně s ateromatózním plá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73560" y="4219560"/>
            <a:ext cx="30351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olesterolov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ádro plátu – převážně pěnové buň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tepna7sateromem-geom"/>
          <p:cNvPicPr/>
          <p:nvPr/>
        </p:nvPicPr>
        <p:blipFill>
          <a:blip r:embed="rId1"/>
          <a:srcRect l="18116" t="10836" r="18116" b="21672"/>
          <a:stretch/>
        </p:blipFill>
        <p:spPr>
          <a:xfrm>
            <a:off x="539640" y="1724040"/>
            <a:ext cx="496728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6083280" y="1628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2060640"/>
            <a:ext cx="25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084720" y="2924280"/>
            <a:ext cx="25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083280" y="5300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ibróz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ryt plá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2843280" y="1844640"/>
            <a:ext cx="324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348000" y="2276640"/>
            <a:ext cx="27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 flipV="1">
            <a:off x="3563640" y="2708280"/>
            <a:ext cx="25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 flipV="1">
            <a:off x="4067280" y="386028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 flipH="1" flipV="1">
            <a:off x="2842920" y="414972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6156360" y="5732640"/>
            <a:ext cx="208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zbytkový průtočný průř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 flipV="1">
            <a:off x="1907640" y="4149360"/>
            <a:ext cx="424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1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09:08Z</dcterms:created>
  <dc:creator>Jiří Burša</dc:creator>
  <dc:description/>
  <dc:language>en-US</dc:language>
  <cp:lastModifiedBy>Jiří Burša</cp:lastModifiedBy>
  <dcterms:modified xsi:type="dcterms:W3CDTF">2011-09-05T07:58:05Z</dcterms:modified>
  <cp:revision>5</cp:revision>
  <dc:subject/>
  <dc:title>Základní typy tkání  v tepně s ateromatózním plátem</dc:title>
</cp:coreProperties>
</file>