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05B-266B-4F50-9248-0414F25F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065-09F3-455E-AE21-BF9B30D3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FC77-F3AA-4407-B2C4-547D3CC9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D97-3CD3-42EF-B216-56C7BDE5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4A8-7117-43F4-912A-D6AAE5D6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4B2-2B2D-4E5B-8F66-44FA7CFC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620-4E77-4361-961E-85948667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F88C-6C5C-4C8A-8482-06B6980E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B946-4E69-46DC-990D-97D147DD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728A-456F-4F6A-9B5C-B12AB2A0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0C4-D3CD-4719-99D5-BE4DC90F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76F3-FF07-434E-86D8-0A21A402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D62C-EE7E-4467-B2F7-B05B05CCB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Schéma hemidesmozomu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transmembránové spojení mezi intermediálními filamenty a extracelulárními kolagenními vlák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6120" y="1600200"/>
            <a:ext cx="609912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329520" y="2992320"/>
            <a:ext cx="122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asilární membrá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8200" y="2060640"/>
            <a:ext cx="144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ntermediální filam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9640" y="2631960"/>
            <a:ext cx="144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racelulární krycí des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2720" y="4460760"/>
            <a:ext cx="86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tvicí fibr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9:22:23Z</dcterms:created>
  <dc:creator>Jiri Bursa</dc:creator>
  <dc:description/>
  <dc:language>en-US</dc:language>
  <cp:lastModifiedBy>Jiri Bursa</cp:lastModifiedBy>
  <dcterms:modified xsi:type="dcterms:W3CDTF">2006-12-27T12:51:12Z</dcterms:modified>
  <cp:revision>4</cp:revision>
  <dc:subject/>
  <dc:title>Scheme of hemidesmosome – i.e. transmembrane connection between intermediate filaments and extracellular collagen fibres</dc:title>
</cp:coreProperties>
</file>