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EA3-F3D9-479E-ADF1-F4D9155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9D9-C6E2-4B9C-88BA-EBD9915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941-F013-4B5F-AF14-07A47390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9F2-FE9F-43D6-9478-EFEEFFDC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611-1833-4FA4-863E-0D9DAE04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04-882D-4CF0-9DB6-67CD785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213-BFB5-4728-9001-534C6FB4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0E7-DCA1-4183-88FA-41367AD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CA9-814F-4BBE-95A9-7A1EC49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C1E-95D3-4FF6-AB9A-BBD7C85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D0C-F063-436B-BA9F-6FAFF51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5E4-E98D-4F5F-8AD2-66B9D4F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79F7-0F85-43E8-96EB-FF2A22D7FC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39640" y="17002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rdečně-cévní soustavy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68360" y="2421000"/>
            <a:ext cx="8372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krevního tlaku – hypertenz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elektrické stimulace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cké změny cév (ateroskleróza, uzávěry, výdutě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e myokardu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ady srdečních chlopní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pojení velkého a malého oběh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ísta počátku sklerotických zm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12000" y="1700280"/>
            <a:ext cx="252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karotid a podklíčkových tepen z oblouku aorty, bifurkace karotid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tepen (renálních, střevních atd.) z břišní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14" descr="u3v22"/>
          <p:cNvPicPr/>
          <p:nvPr/>
        </p:nvPicPr>
        <p:blipFill>
          <a:blip r:embed="rId1"/>
          <a:srcRect l="2042" t="0" r="4083" b="0"/>
          <a:stretch/>
        </p:blipFill>
        <p:spPr>
          <a:xfrm rot="21540000">
            <a:off x="2268000" y="907560"/>
            <a:ext cx="3926160" cy="5462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468360" y="1268280"/>
            <a:ext cx="2160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nčité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furkace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luboká tepna stehen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835280" y="1413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1835280" y="1413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 flipV="1">
            <a:off x="2050920" y="2997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1979640" y="443700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5508360" y="1916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5795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22"/>
          <p:cNvSpPr/>
          <p:nvPr/>
        </p:nvSpPr>
        <p:spPr>
          <a:xfrm flipH="1">
            <a:off x="5866920" y="335772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11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hemodyna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namáhá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4941720"/>
            <a:ext cx="7775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darterektomi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ioplastik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ální stenty – kovové výztuž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évní náhrady – přemostění nebo náhrada zúžené arteri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8360" y="43797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tody chirurgické léčby sklerotických tepen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ouvisící s aterosklerózo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ina pectoris, endoteliální dysfunkce, demence… (důsledky chronického zhoršeného prokrvení různých tkání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arkt myokardu (“srdeční mrtvice” – úmrtnost cca 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ročně, několikanásobně větší množství postižených je ošetřeno angioplastikou nebo bypass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, náhlá mozková příhoda (“mozková mrtvice”) atd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eurysm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dutě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p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rozšířená místa na te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 </a:t>
            </a:r>
            <a:br>
              <a:rPr sz="32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v bifurkaci arterie car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ísta počátku sklerotických změ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zočáry největšího hlavního napět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kleroza1"/>
          <p:cNvPicPr/>
          <p:nvPr/>
        </p:nvPicPr>
        <p:blipFill>
          <a:blip r:embed="rId1"/>
          <a:stretch/>
        </p:blipFill>
        <p:spPr>
          <a:xfrm>
            <a:off x="539640" y="1989000"/>
            <a:ext cx="81788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odstata a fáze aterosklerotického proces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1125360"/>
            <a:ext cx="82296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lesterol (o nízké hustot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DL-cholesterol) v krevním řečišti proniká do stěny tep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čemuž napomáhá poškození endotel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unitní systém vysílá makrofágy s cílem pohltit cholesterol. Makrofágy se se tím mění na pěnové buňky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se hromadí a stávají se hlavní složkou sklerotického plátu, který omezuje krevní průtok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pna se může sna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modelací zvětšit svůj průměr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ž je jedna z hypotéz mechanismu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zniku aneurysmat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nes spíše opouštěn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ňky hladkého svalstva vytvářejí vazivový (fibrózní) kryt ateromu (sklerotického plátu), který zajišťuje, aby povrch zůstal smáčivý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v plátu vylučují chemické látky oslabující vazivový kry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kud dojde k ruptuře (porušení) krytu plátu, kontakt krve s tukovým obsahem ateromu způsobí vznik krevní sraženiny, která může 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 tepnu (pokud se jedná o koronární tepnu, dojde k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farktu myokar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Endarterektom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125360"/>
            <a:ext cx="828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irurgické odstranění rozsáhlých ateromatózních plátů z karotid, příp. věnčitých tepen (tam se používá především u jejich difúzního postižení, znemožňujícího použití bypassu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20" descr="u3v10"/>
          <p:cNvPicPr/>
          <p:nvPr/>
        </p:nvPicPr>
        <p:blipFill>
          <a:blip r:embed="rId1"/>
          <a:srcRect l="0" t="0" r="0" b="20062"/>
          <a:stretch/>
        </p:blipFill>
        <p:spPr>
          <a:xfrm>
            <a:off x="1476360" y="227664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376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erkutánní transluminární koronární angiopla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052640"/>
            <a:ext cx="280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p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erosklerotický plá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stenózy zaveden tenký vodič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místa stenózy zaveden 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fouknutí balónku tlakem několika desetin MP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stav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07"/>
          <p:cNvPicPr/>
          <p:nvPr/>
        </p:nvPicPr>
        <p:blipFill>
          <a:blip r:embed="rId1"/>
          <a:stretch/>
        </p:blipFill>
        <p:spPr>
          <a:xfrm>
            <a:off x="3583080" y="1054080"/>
            <a:ext cx="4444920" cy="503892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1476360" y="126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547640" y="1483920"/>
            <a:ext cx="259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692360" y="184428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916360" y="256536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7:41:26Z</dcterms:modified>
  <cp:revision>275</cp:revision>
  <dc:subject/>
  <dc:title>Biomechanics  of smooth muscle cells </dc:title>
</cp:coreProperties>
</file>