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D760-284C-4957-A71D-C316FF8B5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B6C5-8391-4562-9793-637B06A9D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C6B1-274B-4287-A896-E273BC215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CC35-A9DC-4B28-A6EA-67C83E8DD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ED72-ADA4-48F4-BBFD-9D71EE371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FE12-1033-4AAE-8F44-C265BFC7C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ECB1-159E-41D1-AE78-1B86B7FE8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78BF-747E-4733-89B2-4774EE486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C539-7982-4653-8B13-F2F6AC19D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D88D-0557-4402-968E-3BAB698A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D436-5435-4DD9-92DA-7E0679C0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89DC-7BC5-4915-BA79-79FF6BDD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B0B89-67C5-4DBA-9C63-C245CDA58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828036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ierarchické úrovně struktury příčně pruhovaného svalu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 podle Smith T.: Lidské tělo.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Fortuna prin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Praha, 1996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22240" y="1760400"/>
            <a:ext cx="7566120" cy="41166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68360" y="234936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79640" y="2152800"/>
            <a:ext cx="10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valové snopce (fascik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348000" y="5084640"/>
            <a:ext cx="10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valová vlákna (buňk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3640" y="2492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yofibri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43280" y="314172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rkom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67640" y="2670120"/>
            <a:ext cx="115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lusté myofila-mentum (myos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6000" y="4470480"/>
            <a:ext cx="15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enké myo-filamentum (aktin, tropo-myosin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4T10:16:58Z</dcterms:created>
  <dc:creator>Jiří Burša</dc:creator>
  <dc:description/>
  <dc:language>en-US</dc:language>
  <cp:lastModifiedBy>Jiri Bursa</cp:lastModifiedBy>
  <dcterms:modified xsi:type="dcterms:W3CDTF">2007-01-07T10:40:49Z</dcterms:modified>
  <cp:revision>2</cp:revision>
  <dc:subject/>
  <dc:title>Hierarchické úrovně struktury příčně pruhovaného svalu ( podle Smith T.: Lidské tělo. Fortuna print, Praha, 1996).</dc:title>
</cp:coreProperties>
</file>