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EC5-04C6-48B9-AC7B-1E53C78D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F3C-4EF9-47CF-8025-AFCD019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B70-7E07-41BB-AFC2-FCC6196E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35C-E837-4D48-A539-42AAB9E1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3AF-7527-4C98-B191-DE8A5D7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7D2-83D4-4597-88A0-1F9E91F1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650-55D6-418C-8300-A8289DDF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D80-F113-4AE3-840F-072005E6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79A-1039-4A39-9FD0-1078879C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33D-3496-4916-A2FA-459A8CF8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5DD-E288-4B55-BA2C-5510D2B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D5B-72B2-4D00-A7E8-039B617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783-7C51-4260-889E-55548D9FA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zkou&#353;ka_tahem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strukturní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Lze použít pro modelování libovolné mechanické zkoušky buňky například </a:t>
            </a:r>
            <a:r>
              <a:rPr b="0" lang="cs-CZ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koušky tahem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. Jeho nevýhodou je, že je příliš zjednodušený a není schopen zohlednit namáhání jednotlivých strukturních komponent buňky, takže není použitelný pro vyšetřování principu mechanotransduk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10:13Z</dcterms:created>
  <dc:creator>Jiri Bursa</dc:creator>
  <dc:description/>
  <dc:language>en-US</dc:language>
  <cp:lastModifiedBy>umt</cp:lastModifiedBy>
  <dcterms:modified xsi:type="dcterms:W3CDTF">2007-01-08T12:57:37Z</dcterms:modified>
  <cp:revision>3</cp:revision>
  <dc:subject/>
  <dc:title>Snímek 1</dc:title>
</cp:coreProperties>
</file>