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857-36FD-49DC-97A4-4B15E77D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444-08FB-40D7-BC1B-754B73F4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615-D3F8-4DE7-B1EE-B8BB0814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AE3-747F-420A-AFA6-CE78140F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DA7-1B38-4A23-A096-A334C14A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084-0FEE-40FD-9B23-C3E35AD3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8F2-A4B4-428D-A572-E1759226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B9E-CE7E-4FBB-B0FC-E4320022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1B6-3A29-401F-8621-4A2CAC5D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562-4B57-43E3-9377-E72DE501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5C6-26BF-47C3-B1C7-EFFDC161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81C-1F97-4E39-9DBF-8922A3B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2570-699D-418C-85EA-184D48082D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Histologie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Nejpodstatnější mechanické vlastnosti krve a cévní stěny ovlivňující krevní o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newtonská kapali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eřídí se Newtonovým zákonem viskoz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ážlivost (tvorba tromb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molýza (poškozování krevních tělís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stacionární proudění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lišné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dobnostní kriteri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ktivní chování stěny – proměnný průtočný od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ěnná geometrie stěny v důsledku zatížení a velkých deform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ožení krv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množství v těle 5-6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plazma –koloidní suspenze bílko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revní tělí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é krvinky (erytrocyty) – tvar bikonkávního disku o průměru 8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, množství cca 5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ílé krvinky (leukocyty) – kulový tvar, průměr 10-15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m, počet cca 6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destičky (trombocyty) – tyčinkovitý tvar velikost 2 – 4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, počet řádu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640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dlišnost rychlostního profilu krve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proti newtonské kapal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Zástupný symbol pro obsah 3" descr="Profil-laminarni.JPG"/>
          <p:cNvPicPr/>
          <p:nvPr/>
        </p:nvPicPr>
        <p:blipFill>
          <a:blip r:embed="rId1"/>
          <a:stretch/>
        </p:blipFill>
        <p:spPr>
          <a:xfrm>
            <a:off x="250920" y="1285920"/>
            <a:ext cx="6429240" cy="5072040"/>
          </a:xfrm>
          <a:prstGeom prst="rect">
            <a:avLst/>
          </a:prstGeom>
          <a:ln w="0">
            <a:noFill/>
          </a:ln>
        </p:spPr>
      </p:pic>
      <p:pic>
        <p:nvPicPr>
          <p:cNvPr id="89" name="Obrázek 4" descr="Profil-krev.JPG"/>
          <p:cNvPicPr/>
          <p:nvPr/>
        </p:nvPicPr>
        <p:blipFill>
          <a:blip r:embed="rId2"/>
          <a:stretch/>
        </p:blipFill>
        <p:spPr>
          <a:xfrm>
            <a:off x="6323040" y="2571840"/>
            <a:ext cx="23526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41860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vlivnění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rychlostního profilu částicemi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rozptýlenými v kapali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Zástupný symbol pro obsah 6" descr="Krev_rychlostní_profil.JPG"/>
          <p:cNvPicPr/>
          <p:nvPr/>
        </p:nvPicPr>
        <p:blipFill>
          <a:blip r:embed="rId1"/>
          <a:stretch/>
        </p:blipFill>
        <p:spPr>
          <a:xfrm>
            <a:off x="4960800" y="236520"/>
            <a:ext cx="37544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Fahraeusův-Lindquistův ef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71360"/>
            <a:ext cx="83296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ůsledkem nenewtonských vlastností krve. Modifikací rychlostního profilu dochází ke koncentraci erytrocytů v centrální části trubice a snižování hematokritu v blízkosti stěny. Proto je v malých odbočkách hematokrit nižší než v mateřské tepně – znatelně se projevuje u tepen s průměr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,5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obsah 3"/>
          <p:cNvSpPr/>
          <p:nvPr/>
        </p:nvSpPr>
        <p:spPr>
          <a:xfrm>
            <a:off x="285840" y="2500200"/>
            <a:ext cx="235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ánlivé viskozity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růměru tepn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Obrázek 5" descr="viskozita_zdánlivá.JPG"/>
          <p:cNvPicPr/>
          <p:nvPr/>
        </p:nvPicPr>
        <p:blipFill>
          <a:blip r:embed="rId1"/>
          <a:stretch/>
        </p:blipFill>
        <p:spPr>
          <a:xfrm>
            <a:off x="2374920" y="2395440"/>
            <a:ext cx="63403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Fahraeusův-Lindquistův ef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6" descr="hematokrit.JPG"/>
          <p:cNvPicPr/>
          <p:nvPr/>
        </p:nvPicPr>
        <p:blipFill>
          <a:blip r:embed="rId1"/>
          <a:stretch/>
        </p:blipFill>
        <p:spPr>
          <a:xfrm>
            <a:off x="1428840" y="1857240"/>
            <a:ext cx="6083280" cy="4508640"/>
          </a:xfrm>
          <a:prstGeom prst="rect">
            <a:avLst/>
          </a:prstGeom>
          <a:ln w="0">
            <a:noFill/>
          </a:ln>
        </p:spPr>
      </p:pic>
      <p:sp>
        <p:nvSpPr>
          <p:cNvPr id="98" name="Zástupný symbol pro obsah 3"/>
          <p:cNvSpPr/>
          <p:nvPr/>
        </p:nvSpPr>
        <p:spPr>
          <a:xfrm>
            <a:off x="285840" y="1071720"/>
            <a:ext cx="8358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relativního hematokritu v dceřinné tepně na hematokritu v tepně mateřské. Parametrem je průměr dceřinné tepny v mikrometrech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obsah 3"/>
          <p:cNvSpPr/>
          <p:nvPr/>
        </p:nvSpPr>
        <p:spPr>
          <a:xfrm>
            <a:off x="609480" y="200016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proudění je určován podle Reynoldsova čísla. To přesahuje kritickou hodnotu (2320) pouze v oblasti aortální chlopně při systole (až 8000), jinak jsou všude hodnoty podkritické. Vzhledem k pulzujícímu charakteru proudění v tepnách je proudění všude laminární, s výjimkou úplavů, např. za nedokonalými chlopněmi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nestacionární proudění krve (periodický, neharmonický průběh) je však třeba používat jin é podobnostní kriterium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85716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Nestacionárnost proudění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odobnostní čí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3924360" y="198900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7320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jadřují poměr vybraných sil působících na kapalinu.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námé Reynoldsovo číslo vyjadřuje poměr setrvačných a viskózních sil při stacionárním proudění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63480" y="2997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měr setrvačných a viskózních sil při pulzačním proudění vyjadřuje podobnostní číslo zvané „Womersley parameter“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4537080" y="2060640"/>
                <a:ext cx="10429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d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3240000" y="3738600"/>
                <a:ext cx="1692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" name="Rectangle 12"/>
          <p:cNvSpPr/>
          <p:nvPr/>
        </p:nvSpPr>
        <p:spPr>
          <a:xfrm>
            <a:off x="1187280" y="4724280"/>
            <a:ext cx="5761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 - poloměr trub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ω - úhlová frekvence pulzačního proudění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ν - kinematická viskozit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:\Biomechanika-obrázky+video\Copak to je.jpg"/>
          <p:cNvPicPr/>
          <p:nvPr/>
        </p:nvPicPr>
        <p:blipFill>
          <a:blip r:embed="rId1"/>
          <a:stretch/>
        </p:blipFill>
        <p:spPr>
          <a:xfrm>
            <a:off x="468360" y="765000"/>
            <a:ext cx="83246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Hemolý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oškozování krevních tělíse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ředevším erytrocytů. K porušení membrány erytrocytu stačí smykové napětí řádu desítek Pascalů (může nastávat i při turbulenci). Nejvýznamnější hemolýza je způsobena umělými komponentami srdečně-cévní soustavy (chlopně, součásti mimotělního oběhu, podpůrná srdeční čerpadl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ifikace se provádí na základě měření obsahu volného hemoglobinu v krvi – důležité kriterium kvality mechanických náh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73200" y="31417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Times New Roman"/>
              </a:rPr>
              <a:t>Srážlivost krve-tvorba trombů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411948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volávána krevními destičkami – trombocyty. Významné ovlivňující faktory jsou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zí tělesa (náhrady – druh materiálu, geometrie, povrchové opracování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urbulence – např. za stenózou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horšené vyplachování (nekróza části myokardu, aterosklerotické pláty, výdutě)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Členění nenewtonských kap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3933720"/>
            <a:ext cx="640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Nenewtonské"/>
          <p:cNvPicPr/>
          <p:nvPr/>
        </p:nvPicPr>
        <p:blipFill>
          <a:blip r:embed="rId2"/>
          <a:srcRect l="8963" t="9352" r="6784" b="17051"/>
          <a:stretch/>
        </p:blipFill>
        <p:spPr>
          <a:xfrm>
            <a:off x="250920" y="1700280"/>
            <a:ext cx="5400720" cy="39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369720" y="1484280"/>
            <a:ext cx="457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τ </a:t>
            </a:r>
            <a:r>
              <a:rPr b="0" lang="cs-CZ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194440" y="5551560"/>
            <a:ext cx="31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210280" y="5572080"/>
            <a:ext cx="6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●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5219640" y="1463760"/>
            <a:ext cx="331308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časově nezávislými vlastnostm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inghamské (směsi – splašky, zubní pasta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seudoplastické (vliv orientace makromolekul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latantní (směsi např vody s pískem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časově závislými vlastnostm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ixotropní (natěračské barvy, viskozita klesá s dobou působení smykového napětí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) reopexní (sádra, viskozita roste s dobou působení smykového napětí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984240" y="907920"/>
                <a:ext cx="2579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limUpp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e>
                      <m:lim>
                        <m:sSup>
                          <m:e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sup>
                        </m:sSup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1" name="Text Box 23"/>
          <p:cNvSpPr/>
          <p:nvPr/>
        </p:nvSpPr>
        <p:spPr>
          <a:xfrm>
            <a:off x="395280" y="5950080"/>
            <a:ext cx="4897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zn. :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wtonská kapalina - má konstanty: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n = 1 a k je dynamická viskozita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24"/>
          <p:cNvSpPr/>
          <p:nvPr/>
        </p:nvSpPr>
        <p:spPr>
          <a:xfrm flipV="1">
            <a:off x="1258920" y="4797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3924360" y="1916280"/>
            <a:ext cx="1800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26"/>
          <p:cNvSpPr/>
          <p:nvPr/>
        </p:nvSpPr>
        <p:spPr>
          <a:xfrm flipH="1">
            <a:off x="3419640" y="2637000"/>
            <a:ext cx="23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Line 27"/>
          <p:cNvSpPr/>
          <p:nvPr/>
        </p:nvSpPr>
        <p:spPr>
          <a:xfrm flipH="1">
            <a:off x="4642920" y="314172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Závislost zdánlivé viskozity krve </a:t>
            </a:r>
            <a:br>
              <a:rPr sz="3600"/>
            </a:br>
            <a:r>
              <a:rPr b="1" lang="cs-CZ" sz="2000" spc="-1" strike="noStrike">
                <a:solidFill>
                  <a:srgbClr val="333399"/>
                </a:solidFill>
                <a:latin typeface="Times New Roman"/>
              </a:rPr>
              <a:t>na rychlosti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Zástupný symbol pro obsah 4" descr="Viskozita_krve.JPG"/>
          <p:cNvPicPr/>
          <p:nvPr/>
        </p:nvPicPr>
        <p:blipFill>
          <a:blip r:embed="rId1"/>
          <a:stretch/>
        </p:blipFill>
        <p:spPr>
          <a:xfrm>
            <a:off x="3006720" y="1285920"/>
            <a:ext cx="5923080" cy="51433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57120" y="1571760"/>
            <a:ext cx="29289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okles zdánlivé viskozity krve s rostoucí rychlostí deformace je dán tvorbou agregátů krevních tělísek  při nízkých smykových  rychlostech  a naopak jejich rozrušováním vyššími rychlostmi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zptyl zdánlivé viskozity je dán hlavně teplotní závislostí a rozdílným hematokritem (objemová koncentrace erytrocytů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Model reologických vlastností krve Car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1081080" y="1268280"/>
                <a:ext cx="702000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acc>
                                    <m:r>
                                      <m:t xml:space="preserve">λ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84360" y="27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56 mPa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λ=3,31 s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∞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3,45 mPa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=0,375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Model reologických vlastností krve Ca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5280" y="1341360"/>
            <a:ext cx="8507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založen na experimentálně zjištěné přibližně lineární závislosti mezi odmocninou ze smykového napětí a odmocninou z rychlosti úhlové deform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3240000" y="2060640"/>
                <a:ext cx="1763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τ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" name="Rectangle 12"/>
          <p:cNvSpPr/>
          <p:nvPr/>
        </p:nvSpPr>
        <p:spPr>
          <a:xfrm>
            <a:off x="395280" y="2565360"/>
            <a:ext cx="8507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 níž jednoduchou úpravou dostaneme obvyklý tva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3"/>
              <p:cNvSpPr txBox="1"/>
              <p:nvPr/>
            </p:nvSpPr>
            <p:spPr>
              <a:xfrm>
                <a:off x="1873080" y="3068640"/>
                <a:ext cx="5220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γ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s</m:t>
                                </m:r>
                              </m:e>
                            </m:ra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so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álové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metr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Graf reologických vlastností k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755640" y="1365120"/>
          <a:ext cx="8064360" cy="474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65120"/>
                    <a:ext cx="80643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Závislost zdánlivé viskozity krve</a:t>
            </a:r>
            <a:br>
              <a:rPr sz="3600"/>
            </a:b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na rychlosti úhlové defor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85800" y="1600200"/>
          <a:ext cx="7772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bursa</cp:lastModifiedBy>
  <dcterms:modified xsi:type="dcterms:W3CDTF">2013-02-27T08:11:24Z</dcterms:modified>
  <cp:revision>289</cp:revision>
  <dc:subject/>
  <dc:title>Biomechanics  of smooth muscle cells</dc:title>
</cp:coreProperties>
</file>