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ECD-E339-4F93-82F3-5153A982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BE0-A3FB-48D4-BC4C-FAC4CFC2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A05-6D2D-45F0-B15C-E40DD09C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9B4-6AAE-42BA-8C4A-C863CFE1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21B-8EBF-4F1B-AF87-523BF069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D5E-9CAB-419F-A316-F3942F1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098-88D4-4B0D-96CA-239C2157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B7E-94B6-4388-B256-213075AF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134-3373-4F34-B692-5C687BFA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F9F-07DC-49B8-BF4B-7A06B1E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DB9-84DA-4C61-ADC5-E390404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1B9-14BB-4E2E-AC0D-13A9751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59FD-8FF9-43D9-A915-DBAC30E969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189000"/>
            <a:ext cx="3249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Typy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41148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é náhr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mělé náhra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cévní proté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k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ad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ap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ráběné tkáňovým inženýrstvím (tissue engineered graf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ají se převážně pro náhrady tepe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994280" y="1341360"/>
            <a:ext cx="3322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větlení termínů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cévní štěp odebraný z vlastního organismu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štěp odebraný z jiného člověka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štěp odebraný z organismu jiného živočišného druhu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stejného orgánu (tepn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podobného orgánu (žíl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ro náhradu tepny použit štěp z jiného orgánu (např. střeva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issue engineered grafts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imární náhrada (nosná mřížka – umělá nebo z pupečníkové žíly) se naočkuje kmenovými buňkami pacienta a v bioreaktoru se zatěžuje pulzujícím tlakem a smykovými silami, aby se remodelací zvýšila její tuhost a pevnost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3565440" y="115920"/>
            <a:ext cx="5254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technik </a:t>
            </a:r>
            <a:br>
              <a:rPr sz="32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zlepšujících reologické poměry v anastom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6" name="Picture 8" descr="nahrady7"/>
          <p:cNvPicPr/>
          <p:nvPr/>
        </p:nvPicPr>
        <p:blipFill>
          <a:blip r:embed="rId1"/>
          <a:stretch/>
        </p:blipFill>
        <p:spPr>
          <a:xfrm>
            <a:off x="3164040" y="1636560"/>
            <a:ext cx="5224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pojení tepen a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konc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0" name="Picture 6" descr="Image4"/>
          <p:cNvPicPr/>
          <p:nvPr/>
        </p:nvPicPr>
        <p:blipFill>
          <a:blip r:embed="rId1"/>
          <a:srcRect l="36695" t="49950" r="6880" b="28305"/>
          <a:stretch/>
        </p:blipFill>
        <p:spPr>
          <a:xfrm>
            <a:off x="0" y="2287440"/>
            <a:ext cx="5791320" cy="308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age3"/>
          <p:cNvPicPr/>
          <p:nvPr/>
        </p:nvPicPr>
        <p:blipFill>
          <a:blip r:embed="rId2"/>
          <a:srcRect l="33784" t="16650" r="32475" b="53280"/>
          <a:stretch/>
        </p:blipFill>
        <p:spPr>
          <a:xfrm>
            <a:off x="5291280" y="1700280"/>
            <a:ext cx="3313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Náhrada vzestupné aorty cévní protéz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5" name="Picture 6" descr="kardio4"/>
          <p:cNvPicPr/>
          <p:nvPr/>
        </p:nvPicPr>
        <p:blipFill>
          <a:blip r:embed="rId1"/>
          <a:stretch/>
        </p:blipFill>
        <p:spPr>
          <a:xfrm>
            <a:off x="1843200" y="1341360"/>
            <a:ext cx="5753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truktury a provedení cévních proté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2160" y="1773360"/>
            <a:ext cx="186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tka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040440" y="3263760"/>
            <a:ext cx="2419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plete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3779640" y="1989000"/>
            <a:ext cx="21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3564000" y="3500280"/>
            <a:ext cx="244800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4720" y="4941720"/>
            <a:ext cx="266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var vrapované cévní protézy, odolné proti zalomení při ohýb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4284720" y="5157720"/>
            <a:ext cx="1727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16" descr="nahrady1"/>
          <p:cNvPicPr/>
          <p:nvPr/>
        </p:nvPicPr>
        <p:blipFill>
          <a:blip r:embed="rId1"/>
          <a:stretch/>
        </p:blipFill>
        <p:spPr>
          <a:xfrm>
            <a:off x="684360" y="1557360"/>
            <a:ext cx="3024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nahrady10001"/>
          <p:cNvPicPr/>
          <p:nvPr/>
        </p:nvPicPr>
        <p:blipFill>
          <a:blip r:embed="rId2"/>
          <a:stretch/>
        </p:blipFill>
        <p:spPr>
          <a:xfrm>
            <a:off x="611280" y="3000240"/>
            <a:ext cx="2881080" cy="166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nahrady10002"/>
          <p:cNvPicPr/>
          <p:nvPr/>
        </p:nvPicPr>
        <p:blipFill>
          <a:blip r:embed="rId3"/>
          <a:stretch/>
        </p:blipFill>
        <p:spPr>
          <a:xfrm>
            <a:off x="782640" y="4724280"/>
            <a:ext cx="3429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nutná pro fixaci a výživu neointimy. Větší pórozita zlepšuje vhojení protéz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vantifikuje se měřením propustnosti protézy pro vodu přes 1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za 1 minutu při tlaku 120 mm H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y některých cévních proté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ka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a Edwardsova – 3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 prakticky nepropustná pro kr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VÚP – 1000-4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é předsrážení v krvi paci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používají ještě poréznější úplet (5000-20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,  nelze utěsnit předsrážením. U nich se pak rozlišuj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mplantač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rvalá, po vstřebání vstřebatelných slož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riliz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se provád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teplotou (autoklávy) u cévních protéz nel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ozáření je u cévních protéz nejvhod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chemicky (např. etylénoxid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0" y="4437000"/>
            <a:ext cx="4103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plet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samonosná trub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trubice se postupně vstřebává, doba vstřebávání se prodlužuje vytvrzováním kolagen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9" name="Picture 6" descr="nahrady4"/>
          <p:cNvPicPr/>
          <p:nvPr/>
        </p:nvPicPr>
        <p:blipFill>
          <a:blip r:embed="rId1"/>
          <a:stretch/>
        </p:blipFill>
        <p:spPr>
          <a:xfrm>
            <a:off x="1042920" y="4797360"/>
            <a:ext cx="2097000" cy="1739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4000" y="4292640"/>
            <a:ext cx="332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binovaná cévní proté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627280" y="4653000"/>
            <a:ext cx="187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2916000" y="522936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Mechanické vlastnosti cévních proté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6 – 60 MPa podle typu 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tézy VÜP 23-27 MPa, významná hystereze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host v obvodovém směru výrazně vyšší než u tepny – otázka příčin zarůstání protéz  malých průměrů (z tohoto důvodu se používají většinou od průměru cca 6 mm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lagenní samonosné tr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ovaných prot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ytvrzen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10MP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100-2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rz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25-40 M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2-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nahrady5"/>
          <p:cNvPicPr/>
          <p:nvPr/>
        </p:nvPicPr>
        <p:blipFill>
          <a:blip r:embed="rId1"/>
          <a:stretch/>
        </p:blipFill>
        <p:spPr>
          <a:xfrm>
            <a:off x="4572000" y="2827440"/>
            <a:ext cx="348624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5003640" y="2421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lad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ormačně napěťové křiv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évní protézy (DK 1n)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Závislost modulů pružnosti různých cévních protéz </a:t>
            </a:r>
            <a:br>
              <a:rPr sz="28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na frekvenci zatě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64000" y="2349360"/>
            <a:ext cx="3394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islost modulu pružnosti na frekvenci zatěžová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6" descr="nahrady6"/>
          <p:cNvPicPr/>
          <p:nvPr/>
        </p:nvPicPr>
        <p:blipFill>
          <a:blip r:embed="rId1"/>
          <a:stretch/>
        </p:blipFill>
        <p:spPr>
          <a:xfrm>
            <a:off x="4954680" y="1197000"/>
            <a:ext cx="357804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protéza Ra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– protéza Gore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 – protéza DK 1n 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7,8 – protézy M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ÚP B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mechanické vlastnosti proté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ngenciální tuhost srovnatelná s tep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ízká podélná tuhost – namáhání ste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soká torzní tuhost pro zavádění tunelátorem (nebezpečí podélného překrouc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rizika ztráty tvarové stability pro tepny výrazně ohýbané - vrap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Typy spojení cév a cé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141444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straně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anou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tretch/>
        </p:blipFill>
        <p:spPr>
          <a:xfrm>
            <a:off x="611280" y="2224080"/>
            <a:ext cx="2298600" cy="329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3132000" y="2224080"/>
            <a:ext cx="2627280" cy="322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8321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900000" y="5516640"/>
            <a:ext cx="792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- průměr protézy se volí 1,2 – 1,5-krát větší než průměr tepny (menší deformace, zarůstání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oužití žilních bypassů a umělých cévních náhrad u povrchové stehenní tep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2" name="Picture 6" descr="Image1"/>
          <p:cNvPicPr/>
          <p:nvPr/>
        </p:nvPicPr>
        <p:blipFill>
          <a:blip r:embed="rId1"/>
          <a:srcRect l="0" t="8325" r="0" b="26640"/>
          <a:stretch/>
        </p:blipFill>
        <p:spPr>
          <a:xfrm>
            <a:off x="539640" y="1349280"/>
            <a:ext cx="4121280" cy="510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365800" y="1557360"/>
            <a:ext cx="194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Umělá cévní náhrada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89480" y="3263760"/>
            <a:ext cx="2419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průchodná tepna</a:t>
            </a:r>
            <a:r>
              <a:rPr b="0" lang="cs-CZ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292720" y="4149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Žilní bypas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780000" y="1844640"/>
            <a:ext cx="158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564000" y="3573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3851280" y="4365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364000" y="2421000"/>
            <a:ext cx="1943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konc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292720" y="4941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 flipV="1">
            <a:off x="3708360" y="4868640"/>
            <a:ext cx="151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3924000" y="256536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řipojení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stran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6" name="Picture 12" descr="Image2"/>
          <p:cNvPicPr/>
          <p:nvPr/>
        </p:nvPicPr>
        <p:blipFill>
          <a:blip r:embed="rId1"/>
          <a:srcRect l="29814" t="49950" r="6880" b="0"/>
          <a:stretch/>
        </p:blipFill>
        <p:spPr>
          <a:xfrm>
            <a:off x="1041480" y="1268280"/>
            <a:ext cx="461016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4818240" y="5681520"/>
            <a:ext cx="3714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úžení tepny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vhodným provedení spoj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2843280" y="6021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ýpočtový model </a:t>
            </a:r>
            <a:br>
              <a:rPr sz="32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rozložení rychlostí proudění za anastomóz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Picture 6" descr="nahrady8"/>
          <p:cNvPicPr/>
          <p:nvPr/>
        </p:nvPicPr>
        <p:blipFill>
          <a:blip r:embed="rId1"/>
          <a:stretch/>
        </p:blipFill>
        <p:spPr>
          <a:xfrm>
            <a:off x="1258920" y="1355760"/>
            <a:ext cx="619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0:33Z</dcterms:modified>
  <cp:revision>274</cp:revision>
  <dc:subject/>
  <dc:title>Biomechanics  of smooth muscle cells </dc:title>
</cp:coreProperties>
</file>