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421-B405-4DFD-9ED2-D9D4871F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8B2-CDCF-45C3-A58A-51F0FB9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F23-791C-49DC-B3A8-45587278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E89-0B87-4877-8B88-747311B2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339-1DE0-43C2-854B-9A11A118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5AE-CD1F-4E26-8188-E69A1572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E2F-A69A-4A79-957D-5B8B1FEA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992-E788-4444-B6CF-9808AE85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927-4609-4DB8-B3C4-6CD2FB1D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FBD-4992-443F-89ED-661F4FA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66C-4FCC-4F85-9B1E-B58E40F6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902-DB6C-4EEC-9522-6FFB7819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3C1A-13C6-457F-A05F-2D121EF71C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Karcin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nádor, který se vyskytuje v trávicím nebo dýchacím systému (často v appendixu) a vzniká ze speciálních buněk s endokrinní funkcí. Je na hranici zhoubnosti. Vzácně produkuje látky (např. serotonin), které způsobují „vzdálené“ příznaky (dušnost, zrudnutí, průjmy, chlopenní vadu aj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roton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5-hydroxytryptamin, 5-HT) je biologicky aktivní látka vznikající z aminokyseliny tryptofanu, jeden z biogenních aminů. Má význam též jako neurotransmiter v mozku, je obsažen v krevních destičkách a v dalších tkáních. Zúžením cév napomáhá zastavit krvácení, účastní se zánětlivých a alergických reakcí (zužuje průdušky) i některých dalších chorobných stavů, nadměrná množství někdy produkuje karcinoid. V mozku se jako neurotransmiter účastní též procesů podílejících se na vzniku nálady. Látky, které zasahují do jeho metabolismu v mozku, se užívají v psychiatrii (např. SSRI), v léčbě migrény 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060720" y="22860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6:38Z</dcterms:modified>
  <cp:revision>247</cp:revision>
  <dc:subject/>
  <dc:title>Biomechanics  of smooth muscle cells </dc:title>
</cp:coreProperties>
</file>