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81E-395D-4FD4-9172-F31613EE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A2C-89CE-489F-AA58-3D429417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589-F821-4367-9140-D19AE0E8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1AD-0C88-4CD0-98C1-974E5E03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F5B-6B35-48AC-8362-694088E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47C-9D67-4D0E-9CAD-F8110B9A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359-1828-44A9-90E3-3720C782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9CD-1378-4040-9B1B-0B7C94CB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EF9-EE4F-4D42-9C7E-6A8742BA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8D4-4D4F-4809-AB2E-8622402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EB6-F106-46DD-BCC1-FDA71EC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237-F758-40F0-83B0-5083F02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70B2-F72E-4DC2-94B2-BD6D52410E8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SMC-kontraktiln&#237;.ppt" TargetMode="External"/><Relationship Id="rId4" Type="http://schemas.openxmlformats.org/officeDocument/2006/relationships/hyperlink" Target="file:///SMC-kontraktiln&#237;.ppt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Typický tvar hladké svalové buňky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(podle Anatomie, Čihá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1504800"/>
            <a:ext cx="7925040" cy="3652560"/>
            <a:chOff x="609480" y="1504800"/>
            <a:chExt cx="7925040" cy="3652560"/>
          </a:xfrm>
        </p:grpSpPr>
        <p:grpSp>
          <p:nvGrpSpPr>
            <p:cNvPr id="43" name=""/>
            <p:cNvGrpSpPr/>
            <p:nvPr/>
          </p:nvGrpSpPr>
          <p:grpSpPr>
            <a:xfrm>
              <a:off x="609480" y="1504800"/>
              <a:ext cx="7646040" cy="2958840"/>
              <a:chOff x="609480" y="1504800"/>
              <a:chExt cx="7646040" cy="295884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rcRect l="0" t="2873" r="0" b="0"/>
              <a:stretch/>
            </p:blipFill>
            <p:spPr>
              <a:xfrm>
                <a:off x="609480" y="1504800"/>
                <a:ext cx="3710520" cy="29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rcRect l="12832" t="5658" r="7084" b="8133"/>
              <a:stretch/>
            </p:blipFill>
            <p:spPr>
              <a:xfrm>
                <a:off x="4912920" y="1647720"/>
                <a:ext cx="3342600" cy="28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" name=""/>
            <p:cNvSpPr/>
            <p:nvPr/>
          </p:nvSpPr>
          <p:spPr>
            <a:xfrm>
              <a:off x="734760" y="4461120"/>
              <a:ext cx="7799760" cy="69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ladké svalové buňky      b) Hladká svalová tká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57200" y="531648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notypy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dkých svalových buněk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aktil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nte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26:45Z</dcterms:created>
  <dc:creator>Jiří Burša</dc:creator>
  <dc:description/>
  <dc:language>en-US</dc:language>
  <cp:lastModifiedBy>Jiří Burša</cp:lastModifiedBy>
  <dcterms:modified xsi:type="dcterms:W3CDTF">2007-01-04T11:49:08Z</dcterms:modified>
  <cp:revision>3</cp:revision>
  <dc:subject/>
  <dc:title>Typický tvar hladké svalové buňky  (podle Anatomie, Čihák)</dc:title>
</cp:coreProperties>
</file>