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A1E-D720-4514-93CD-1EEF45DA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C8C-8262-4528-81C4-298688A4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3BF-E340-430D-AD91-435855E7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B5C-116A-405F-BAF1-9FF9428F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955-A3FC-45C6-93ED-E9AEC32D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444-1421-4730-A94E-DDAABD75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BC1-1600-4EBD-946F-5D0C91B6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218-6872-4F27-9A9A-6E7C98D0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669-0CFF-48E8-B93D-5AA97BB8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F02-26B6-4E6D-BBEF-C7C955C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D20-484A-4F02-9444-59C8DCFD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E64-2826-47AB-A4EE-A2425BE9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42EE-9CBC-4368-B595-2E02D72D1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héma zkoušky tlakem 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ikrodestič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097080" cy="22971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564000" y="1484280"/>
            <a:ext cx="5257800" cy="5113440"/>
            <a:chOff x="3564000" y="1484280"/>
            <a:chExt cx="5257800" cy="51134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564000" y="1484280"/>
              <a:ext cx="525780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59960" y="4501800"/>
              <a:ext cx="94356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23440" y="5172480"/>
              <a:ext cx="53712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ěsně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01200" y="5388480"/>
              <a:ext cx="765720" cy="33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bjektiv mikrosko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85240" y="5783400"/>
              <a:ext cx="66168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Čo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21680" y="5160960"/>
              <a:ext cx="51768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81120" y="5002920"/>
              <a:ext cx="35496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k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818760" y="5082480"/>
              <a:ext cx="210960" cy="1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82160" y="3424320"/>
              <a:ext cx="987120" cy="25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silova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66680" y="3944160"/>
              <a:ext cx="987120" cy="25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81080" y="2774160"/>
              <a:ext cx="986760" cy="489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Piezoelktrick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akční čl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05200" y="2936160"/>
              <a:ext cx="597600" cy="226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žá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41840" y="2796840"/>
              <a:ext cx="796680" cy="226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66200" y="2554200"/>
              <a:ext cx="37620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ň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48720" y="3320640"/>
              <a:ext cx="79668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8320" y="4388040"/>
              <a:ext cx="94356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20040" y="5154480"/>
              <a:ext cx="36324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73680" y="5353200"/>
              <a:ext cx="943560" cy="226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33640" y="6201720"/>
              <a:ext cx="94356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D kame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957800" y="44370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ň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3:54:42Z</dcterms:created>
  <dc:creator>umt</dc:creator>
  <dc:description/>
  <dc:language>en-US</dc:language>
  <cp:lastModifiedBy>umt</cp:lastModifiedBy>
  <dcterms:modified xsi:type="dcterms:W3CDTF">2007-01-08T13:57:06Z</dcterms:modified>
  <cp:revision>2</cp:revision>
  <dc:subject/>
  <dc:title>Snímek 1</dc:title>
</cp:coreProperties>
</file>