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471-8CB0-4C64-B1E7-DA14BCC1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E88-6C85-4CB8-92AB-E1130BCC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466-4650-42E3-ABD4-EA881B7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76A-5575-4290-8DF5-F7355BB9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CA6-9618-4A75-BCFE-AF9777F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AE5-0C31-458A-AB2E-AA96F04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A00-D0A8-4F6D-B883-219BB4A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BBF-0EC1-4212-9A96-DD94FBE5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6B3-833D-47C8-9AEB-558EA82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871-66D2-4D70-B01C-8D86AB74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408-ACFA-4E1F-8CA9-DBEDA6F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373-CB4E-463C-9606-17E7EBD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57F-ACC0-4A2E-B2B6-E62D011447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Nejjednodušší 3D tensegritní so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4000" y="907920"/>
            <a:ext cx="273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jednodušší 3D tensegritní soustava se dá vytvořit  se 3 tlakovými a 9 tahovými čle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ensegrity3D"/>
          <p:cNvPicPr/>
          <p:nvPr/>
        </p:nvPicPr>
        <p:blipFill>
          <a:blip r:embed="rId1"/>
          <a:srcRect l="14037" t="9332" r="17546" b="9332"/>
          <a:stretch/>
        </p:blipFill>
        <p:spPr>
          <a:xfrm>
            <a:off x="3132000" y="1700280"/>
            <a:ext cx="4996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11-14T14:16:23Z</dcterms:modified>
  <cp:revision>228</cp:revision>
  <dc:subject/>
  <dc:title>Biomechanics  of smooth muscle cells</dc:title>
</cp:coreProperties>
</file>