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669-3975-43C4-984A-02EB9C71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619-782A-4504-B3F2-5D175D6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308-D8E2-4F88-90A5-DCEB3A40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C10-1087-4E04-A389-7C2B8FC1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EC3-AAE7-4107-9401-8658708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3D7-DDD6-4EF7-92E0-4ED602AF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F32-E0B0-4544-81D6-81A8422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155-B296-4EE1-8020-CFCB53F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845-E5DA-4738-B71C-5622B45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008-7011-4E02-81AA-082C0C4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E6F-B77A-4C26-A01D-C93A32B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667-8E5F-4201-A9C1-8E35B184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CCA-BAE9-4328-A4C1-90624AD2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gnetic  twisting cy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557360"/>
            <a:ext cx="4536720" cy="3023640"/>
            <a:chOff x="468360" y="1557360"/>
            <a:chExt cx="4536720" cy="3023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25320" y="1683360"/>
              <a:ext cx="38509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08040" y="1743480"/>
              <a:ext cx="560160" cy="67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3600" y="4128480"/>
              <a:ext cx="168048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1440" y="1557360"/>
              <a:ext cx="13971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oč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360" y="2036160"/>
              <a:ext cx="149472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é p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360" y="3820320"/>
              <a:ext cx="1074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ň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000" y="1577880"/>
              <a:ext cx="1311840" cy="6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1840" y="2207160"/>
              <a:ext cx="56016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43280" y="2763720"/>
            <a:ext cx="3878280" cy="2826000"/>
            <a:chOff x="4643280" y="2763720"/>
            <a:chExt cx="3878280" cy="2826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50200" y="2763720"/>
              <a:ext cx="37713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43280" y="4925160"/>
              <a:ext cx="530280" cy="66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31600" y="3141360"/>
              <a:ext cx="1411560" cy="296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40120" y="3108240"/>
              <a:ext cx="79776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Fibrone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0640" y="3709080"/>
              <a:ext cx="79632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16800" y="4256640"/>
              <a:ext cx="5540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760" y="4833720"/>
              <a:ext cx="38700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A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360" y="5139000"/>
              <a:ext cx="12376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219640" y="1486080"/>
            <a:ext cx="3610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Times New Roman"/>
              </a:rPr>
              <a:t>Uchycení kuličky k integrinovým receptorům na povrchu buňk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Jiří Burša</cp:lastModifiedBy>
  <dcterms:modified xsi:type="dcterms:W3CDTF">2009-03-31T13:12:48Z</dcterms:modified>
  <cp:revision>5</cp:revision>
  <dc:subject/>
  <dc:title>Magnetická pinzeta (magnetic tweezer)</dc:title>
</cp:coreProperties>
</file>