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4B0-133D-4E6B-BF2C-0153CD3B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7B5-8E02-4C15-96D7-C6EACF07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9B3-713B-4DE4-B173-C2B1E224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370-BF35-4016-B836-7913E376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727-D226-406D-8219-9652C1D3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3AF-9F3A-4DE2-95E4-6F52B05A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0F7-8CD8-4B2A-9D05-190B6387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C00-F12F-4E6A-B448-10A85EA2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48A-31B4-4F1C-9F15-8E29A628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ED6-4770-45E3-8D8F-4DA3548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3F1-E47C-4357-80EB-A61E4E2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68C-B1EB-401E-957B-B58459F8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EDCA-4BD0-493B-8AA9-12E28E8311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onstitutivn&#237;_modely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066680"/>
            <a:ext cx="4753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stěny tep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686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ové charakteristiky tepny vykazuj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trukturní nehomogenitu cévní stěny - je složena z několika vrstev s různou strukturou i  vlastnostmi, které jsou navíc spojitě proměnné i v osovém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elineární závislost mezi napětím a deforma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mezi napětím a deformací odlišnou v tahu a t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iskoelastické chování –závislé na č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nizotropii – materiálové vlastnosti závislé na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lmi nepatrnou objemovou stlačitel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raznou teplotní závislost vlastn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vlastností na historii zatěž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na věku jed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yto vlastnosti lze na různé úrovni popsat různými typy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onstitutivních modelů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ěna cévy má významné odchylky od rotační symetrie, a to jak po stránce geometrie, tak materiálových vlast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tížení tepny je několikerého druhu: pulzujícím neharmonickým zatížením vnitřním tlakem a prouděním krve, podélným protažením a zbytkovou napjat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zby cévy představují její spojení s okolním prostředím, jehož vlastnosti jsou velmi různorodé a těžce parametrizovatel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chování cévy jsou charakteristické velké de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ní jednoznačně definován výchozí stav materiálu cé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chování tkáně - inervace může významně měnit mechanické vlastnosti tkáně například změnou podráždění svalových vlá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5356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Vliv svalového tonusu na tuhost tepny </a:t>
            </a:r>
            <a:br>
              <a:rPr sz="3200"/>
            </a:b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(krční tepna 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57200" y="1285920"/>
            <a:ext cx="3043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vislost tlaku v tepně (svislá osa) a jejího poloměru (vodorovná osa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rkovaná – relaxovaná svalovi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ná – svalovina podrážděná noradrenalin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9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Faktory významné pro experimentální určování mechanických vlastností cévní st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1557360"/>
            <a:ext cx="7427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živočišném druh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věku a zdravotním stavu jedi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teplotě a chemickém složení tkáně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díly mezi živou a mrtvou tk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stěny není homogenní ani izotrop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ýrazně nelineání elastické ch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koelastické chování – závislost na rychlosti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liv historie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elas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5" descr="Elastin2.JPG"/>
          <p:cNvPicPr/>
          <p:nvPr/>
        </p:nvPicPr>
        <p:blipFill>
          <a:blip r:embed="rId2"/>
          <a:stretch/>
        </p:blipFill>
        <p:spPr>
          <a:xfrm>
            <a:off x="39117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íjním vazu po odstranění kolagenu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až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zanedbatel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9640" y="6165720"/>
            <a:ext cx="712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ff"/>
                </a:solidFill>
                <a:latin typeface="Times New Roman"/>
              </a:rPr>
              <a:t>Valenta a kol.: Biomechanika srdečně-cévního systému, str. 197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kolag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427640" y="981000"/>
            <a:ext cx="3681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laše – téměř čistý kolagen. Kolagenu však existuje víc než 10 různých typů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100-2000 M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4-10 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pevnost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ýraznější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hladké sval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svalovině střeva v pasívním stavu (relaxované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15-25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širo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výraz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Složení stěny cé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25804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én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do 0,1 mm – převážně sval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lé a střed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elký podíl sval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jvětší podíl elast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truktura  podobná tepnám – obtížnější rozlišení jednotlivých vrstev, stěna tenčí, poddajnější (E obvykle řádově nižší), větší objemová kapacita (větší než celkový objem krve v tě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ení stěny tepny u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4429080"/>
          <a:ext cx="6096240" cy="19209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kolage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elasti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hladký sval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ta ascenden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a pulmonali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58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Mechanické vlastnosti tepny (břišní aor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3" descr="modely10.JPG"/>
          <p:cNvPicPr/>
          <p:nvPr/>
        </p:nvPicPr>
        <p:blipFill>
          <a:blip r:embed="rId1"/>
          <a:stretch/>
        </p:blipFill>
        <p:spPr>
          <a:xfrm>
            <a:off x="571680" y="1233360"/>
            <a:ext cx="3985920" cy="5053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071720" y="571680"/>
            <a:ext cx="3827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 – axiální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 – obvodový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rkou je označena křivka získaná na aortě po odstranění intimy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je výrazně ortotropní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786200" y="2924280"/>
            <a:ext cx="39290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rste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ortotropní, axiální tuhost vyšší než obvodová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řevaha elastických a svalových vláken v obvodovém směru, zvlněná šroubovicová kolagenní vlák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élná silná elastická vlákna, převaha neuspořádaných zvlněných vláken kolagenních, nosných jen při mimořádně velkých deformac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245200" y="1000080"/>
            <a:ext cx="2684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yziologický rozsah deformace do cca 20%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vn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1 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yková napětí na povrchu endotelu 10 – 30 P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4795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Podélné předpětí tep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rezid1.JPG"/>
          <p:cNvPicPr/>
          <p:nvPr/>
        </p:nvPicPr>
        <p:blipFill>
          <a:blip r:embed="rId1"/>
          <a:srcRect l="72550" t="45037" r="11353" b="9044"/>
          <a:stretch/>
        </p:blipFill>
        <p:spPr>
          <a:xfrm>
            <a:off x="4500720" y="3141720"/>
            <a:ext cx="1039680" cy="24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332000" y="2436840"/>
            <a:ext cx="6875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 v těle ("in situ"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po vyjmutí ("in vitro"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Obrázek 3" descr="rezid1.JPG"/>
          <p:cNvPicPr/>
          <p:nvPr/>
        </p:nvPicPr>
        <p:blipFill>
          <a:blip r:embed="rId2"/>
          <a:srcRect l="72550" t="45037" r="11353" b="9044"/>
          <a:stretch/>
        </p:blipFill>
        <p:spPr>
          <a:xfrm>
            <a:off x="2268360" y="3141720"/>
            <a:ext cx="1040040" cy="3456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684360" y="1052640"/>
            <a:ext cx="7991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pna je v těle axiálně předepnuta, takže po vyjmutí z těla se zkrátí. Tím je sníženo riziko kolapsu průtoku (v důsledku ztráty tvarové stability stěny) při ohýbání tepny. Velikost podélného přetvoření "in situ" činí u mladého jedince až 30%, s věkem klesá až na jednotky procent. Tento efekt významně ovlivňuje charakter napjatosti ve stěně tepny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71280"/>
            <a:ext cx="36432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jevy zbytkové napjatosti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e stěně tepn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a experimentální určování úhlu rozev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3" descr="rezid1.JPG"/>
          <p:cNvPicPr/>
          <p:nvPr/>
        </p:nvPicPr>
        <p:blipFill>
          <a:blip r:embed="rId1"/>
          <a:srcRect l="11244" t="45037" r="11353" b="9044"/>
          <a:stretch/>
        </p:blipFill>
        <p:spPr>
          <a:xfrm>
            <a:off x="3857760" y="819000"/>
            <a:ext cx="5000400" cy="246708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4" descr="rezid2.JPG"/>
          <p:cNvPicPr/>
          <p:nvPr/>
        </p:nvPicPr>
        <p:blipFill>
          <a:blip r:embed="rId2"/>
          <a:srcRect l="7344" t="0" r="10903" b="0"/>
          <a:stretch/>
        </p:blipFill>
        <p:spPr>
          <a:xfrm>
            <a:off x="3786120" y="3270240"/>
            <a:ext cx="5072040" cy="3373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357800" y="71280"/>
            <a:ext cx="4572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vodový smě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xiální smě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Obrázek 7" descr="úhel_rozevření.JPG"/>
          <p:cNvPicPr/>
          <p:nvPr/>
        </p:nvPicPr>
        <p:blipFill>
          <a:blip r:embed="rId3"/>
          <a:stretch/>
        </p:blipFill>
        <p:spPr>
          <a:xfrm>
            <a:off x="571680" y="2349360"/>
            <a:ext cx="22860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3:39Z</dcterms:modified>
  <cp:revision>287</cp:revision>
  <dc:subject/>
  <dc:title>Biomechanics  of smooth muscle cells </dc:title>
</cp:coreProperties>
</file>