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678-B095-4684-B33D-B2FC7340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D05-4E4F-48E2-B2CD-172C872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AC0-A892-4E94-97D4-32C2A91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DCE-E20B-4051-9B00-336606F7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275-1A4E-4D40-9375-CD252797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2F7-C386-478C-8B5D-716808F6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74B-6ACB-43D0-90CD-8E7732D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8C0-D37B-47E7-A3CD-67B2CF0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CCB-C641-4D39-9615-D9CBEF43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641-A8C1-4296-8A45-F24F39F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0F3-BEFD-4840-B452-81A3F05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D7D-9513-477E-88D3-5264FEB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0C86-CE1C-4C84-BF54-92D0D14D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á pinz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2349360"/>
            <a:ext cx="4536720" cy="3095280"/>
            <a:chOff x="539640" y="2349360"/>
            <a:chExt cx="4536720" cy="3095280"/>
          </a:xfrm>
        </p:grpSpPr>
        <p:sp>
          <p:nvSpPr>
            <p:cNvPr id="43" name=""/>
            <p:cNvSpPr/>
            <p:nvPr/>
          </p:nvSpPr>
          <p:spPr>
            <a:xfrm>
              <a:off x="3467160" y="3804480"/>
              <a:ext cx="414720" cy="38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rozpty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16920" y="3239640"/>
              <a:ext cx="59112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gradi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2708" t="3831" r="1107" b="3339"/>
            <a:stretch/>
          </p:blipFill>
          <p:spPr>
            <a:xfrm>
              <a:off x="588240" y="2553480"/>
              <a:ext cx="4311000" cy="28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59040" y="2382120"/>
              <a:ext cx="51732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2349360"/>
              <a:ext cx="1335240" cy="70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řipevnění mikrokuliček       na buňk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3840" y="2535120"/>
              <a:ext cx="4010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61560" y="3211200"/>
              <a:ext cx="17240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připevněná ke skleněnému povrch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640" y="4379400"/>
              <a:ext cx="1335240" cy="58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zachycená v optické pas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34160" y="2516040"/>
              <a:ext cx="133524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7000" y="4497840"/>
              <a:ext cx="1896480" cy="3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ytrocy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00" y="4692960"/>
              <a:ext cx="1207080" cy="7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e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8440" y="4920480"/>
              <a:ext cx="103464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03640" y="2565360"/>
            <a:ext cx="3384360" cy="2663640"/>
            <a:chOff x="5003640" y="2565360"/>
            <a:chExt cx="3384360" cy="2663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0" t="23247" r="0" b="60426"/>
            <a:stretch/>
          </p:blipFill>
          <p:spPr>
            <a:xfrm>
              <a:off x="5003640" y="2565360"/>
              <a:ext cx="336708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13261" t="76856" r="0" b="0"/>
            <a:stretch/>
          </p:blipFill>
          <p:spPr>
            <a:xfrm>
              <a:off x="5432040" y="3808080"/>
              <a:ext cx="2955960" cy="14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76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 pinz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09:45Z</dcterms:modified>
  <cp:revision>1</cp:revision>
  <dc:subject/>
  <dc:title>Optická pinzeta</dc:title>
</cp:coreProperties>
</file>