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92D4-A4C9-468E-9629-7D8406BB3E1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03A5-CA22-4B59-9612-59548BF6BC5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yužití výpočtového modelování v této oblasti spočívá především v řešení úloh o identifikaci materiálových vlastností buně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ýstupem mechanických zkoušek prováděných na buňkách nejčastěji bývá jistá závislost mezi deformačním zatížením buňky a její silovou odezvou. Pokud chceme z naměřených údajů získat konstitutivní popis materiálu buňky, musíme nejprve zvolit vhodný konstitutivní model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 potom identifikovat jeho parametry. K této identifikaci se využívá právě výpočtových simulací experimentálních met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9D03-D350-44CF-A353-2A146129BA4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yn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í přejdeme k samotnému výpočtovému modelování v oblasti biomechaniky buňky. Nejprve se ve stručnosti  seznámíme se současným stavem poznání.   V současné době používané výpočtové modely lze rozdělit do dvou hlavních kategorií. Jednak jsou to nestrukturní modely,- ty nezohledňují vnitřní struktury buň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a jdnak jsou to  strukturně založené modely-Jsou tvořeny dvěma nebo více strukturními složkami s odlišným materiálovými vlastnostmi, které reprezentují vybrané buněčné komponenty. Strukturní modely  můžeme dále dělit na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Kontinuální--všechny strukturní složky buňky jsou modelovány jako kontinu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diskrétní--buňka nebo její komponenty jsou modelovány diskrétními strukturam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A komplexní ---je tvořen kombinací diskrétního a kontinuálního strukturního model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Jednotlivé reprezentanty těchto kategoríí si následně ukáže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9AA8-E510-4C20-9E6C-C02F5F91FB0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Řešení problémů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iomechaniky bu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ňky vyžaduje interdiscilinární přístup, jehož součástí je i studium chování buňky jako mechanické soustav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o vyžaduje znalosti jednak o struktuře buňky, o jejích interakcích s okolím a v neposlední řadě o jejích mechanických vlastnostec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Zkoumání mechanického chování buněk se v současnosti provádí jednak na základě experimentů prostřednictvím různých mechanických zkoušek a jednak pomocí jejích výpočtového modelován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F702-7C19-4D7D-973A-42E626680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B777-E091-4374-AECD-C0758437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073D-2F92-4472-9FE5-64CA102ED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48B6-30EF-4449-A7B9-D18290605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2810-E7B5-4C4A-AC50-625F695F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2090-0C59-465A-B972-1C7B4B67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A625-CA4E-4C8C-9166-19E5901D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C933-50C2-45D9-B320-5B937EDB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7F8E-D482-42C5-8790-51BA8F58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3871-5309-430C-A7F4-6B7AE812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591F-9D3A-40C1-8B3F-DBA7AF74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844B-ABC1-4E1B-BCAE-F382A22F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ADDF-4220-4FBE-8492-ED0D1E9FE4C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Eukaryotick&#225;%20bu&#328;ka.ppt" TargetMode="External"/><Relationship Id="rId2" Type="http://schemas.openxmlformats.org/officeDocument/2006/relationships/hyperlink" Target="file:///mechanotransdukce.ppt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sval_p&#345;&#237;&#269;n&#283;_pruhovan&#253;.ppt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sval_hladk&#253;.ppt" TargetMode="External"/><Relationship Id="rId2" Type="http://schemas.openxmlformats.org/officeDocument/2006/relationships/hyperlink" Target="file:///SMC-kontraktiln&#237;.ppt" TargetMode="External"/><Relationship Id="rId3" Type="http://schemas.openxmlformats.org/officeDocument/2006/relationships/hyperlink" Target="file:///SMC-kontraktiln&#237;.ppt" TargetMode="External"/><Relationship Id="rId4" Type="http://schemas.openxmlformats.org/officeDocument/2006/relationships/hyperlink" Target="file:///SMC-kontraktiln&#237;.ppt" TargetMode="External"/><Relationship Id="rId5" Type="http://schemas.openxmlformats.org/officeDocument/2006/relationships/hyperlink" Target="file:///SMC-kontraktiln&#237;.ppt" TargetMode="External"/><Relationship Id="rId6" Type="http://schemas.openxmlformats.org/officeDocument/2006/relationships/hyperlink" Target="file:///kolagen-fibrila.ppt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Eukaryotick&#225;%20bu&#328;ka.ppt" TargetMode="External"/><Relationship Id="rId2" Type="http://schemas.openxmlformats.org/officeDocument/2006/relationships/hyperlink" Target="file:///Cytoskelet.ppt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spojen&#237;_bun&#283;k.ppt" TargetMode="External"/><Relationship Id="rId2" Type="http://schemas.openxmlformats.org/officeDocument/2006/relationships/hyperlink" Target="file:///gap%20junction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bu&#328;ky-mechanick&#233;_vlastnosti.doc" TargetMode="External"/><Relationship Id="rId2" Type="http://schemas.openxmlformats.org/officeDocument/2006/relationships/hyperlink" Target="file:///bu&#328;ky-mechanick&#233;_vlastnosti.doc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zkou&#353;ka_aspira&#269;n&#237;.ppt" TargetMode="External"/><Relationship Id="rId2" Type="http://schemas.openxmlformats.org/officeDocument/2006/relationships/hyperlink" Target="file:///zkou&#353;ka_vtla&#269;en&#237;m.ppt" TargetMode="External"/><Relationship Id="rId3" Type="http://schemas.openxmlformats.org/officeDocument/2006/relationships/hyperlink" Target="file:///zkou&#353;ka_tahem.ppt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imes New Roman"/>
              </a:rPr>
              <a:t>Biomechanika buňky</a:t>
            </a:r>
            <a:br>
              <a:rPr sz="4400"/>
            </a:br>
            <a:r>
              <a:rPr b="0" lang="cs-CZ" sz="2800" spc="-1" strike="noStrike">
                <a:solidFill>
                  <a:srgbClr val="333399"/>
                </a:solidFill>
                <a:latin typeface="Times New Roman"/>
              </a:rPr>
              <a:t>Výpočtové modely mechanického chování buň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42920" y="2636640"/>
            <a:ext cx="70581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Přednáška je součástí předmě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Biomechanika II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(Biomechanika srdečně-cévní soustav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Tato přednáška předpokládá zvládnutí úvodních částí předmětu, týkajících se především základů anatomie, histologie a patologie  srdečně-cévní soustav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Times New Roman"/>
              </a:rPr>
              <a:t>Úrovně modelů cévní stě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Homoge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nní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ěn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–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nejjednodušší model nerespektující vnitřní strukturu stěn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eh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omoge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ní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ě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ěna složená z homogenních vrstev s různými konstitutivními vztahy, odpovídajících adven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, medii a intimě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ždá vrstva rozložená na nižší strukturní prvky, např. elastické a svalové membrány (podvrstvy) v případě medie tep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ždá podvrstva rozložena na její prvky, např. na různé typy vláken a základní substanci, příp. buňk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700" spc="-1" strike="noStrike">
                <a:solidFill>
                  <a:srgbClr val="333399"/>
                </a:solidFill>
                <a:latin typeface="Times New Roman"/>
              </a:rPr>
              <a:t>Využití výpočtového modelování buněk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sledky mechanických zkoušek buněk = informace o závislostech mezi  silou a deformac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roky nutné pro modelování vlastností buňk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olba vhodných konstitutivních modelů buňky, resp. jejích k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dentifikace jejich parametrů pomocí výpočtových simulací experimen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 tomu je třeba mít k dispozici univerzální výpočtový model mechanického chování buňky, zohledňující co nejpřesněji její strukturu a umožňující simulovat různé mechanické zkouš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Dílčí krok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tvořit výpočtový model mechanického chování buňky, zahrnující všechny její strukturní složk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statné z mechanického hledisk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alézt vhodné modely konstitutivního chování pro jednotlivé strukturní složky výpočtového modelu buň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yužít vytvořeného modelu buňky pro simulování různých mechanických zkouš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imes New Roman"/>
              </a:rPr>
              <a:t>Typy výpočtových modelů buň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strukturní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buňka modelovaná jako homogenní kontinu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rukturn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– zohledňuje nějakým způsobem vnitřní strukturu buň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tinuáln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buňka modelovaná jako nehomogenní kontinuum s částečným zohledněním strukt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skrétní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buňka modelovaná pomocí diskrétních prvků (např. tensegritní struktu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omplexní - buňka modelovaná kombinací spojitých a diskrétních prvků (např. cytoplasma jako kontinuum a cytoskelet pomocí tensegritní struktu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imes New Roman"/>
              </a:rPr>
              <a:t>Perspekti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ro vyhodnocení deformačně-napěťových stav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 buňce je nutný věrohodný výpočtový model buňky a identifikace jeho parametrů založená na simulaci různých typů mechanických zkouše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odel by měl vytvořit předpoklady pro výpočtov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odelování skupin buněk nebo složitější struktury jednotlivé svalové vrstvy v medii arteriální stěny za normálních i patologických podmín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ýsledky by měly napomáhat k pochopení vlivu mechanických faktorů na remodelaci cévní stěny i na patologické procesy provázející vznik a rozvoj sklerotických změn ve stěně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Motivace - mechanické důsledky </a:t>
            </a:r>
            <a:br>
              <a:rPr sz="4000"/>
            </a:b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chorob cévní soustavy a prováděných zákroků</a:t>
            </a: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Remodelace tkáně,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íp. apoptóza buněk  nastává v reakci na změny mechanického zatížení – např. za těchto podmín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i nekompenzované hypertenzi - dlouhodobé přetížení tká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znik a růst ateromatického plátu - v místech zvýšeného mechanického namáh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erapeutické zákroky navozující změny mechanického zatížení tká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rátkodobé přetížení při zákroku (např. angioplastika) – může vést až k apoptóze (programová smrt) buněk hladkého svalst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louhodobé přetížení (aneurysma, aplikace stentu at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esoulad tuhostí mezi tkání a umělým materiálem – např. po aplikaci cévní protézy –  vyvolává přídavné namáhání tkán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žilní autotransplantáty – v důsledku změny mechanických podmínek, jimž je tkáň vystavena ,  dochází k její remodelaci, příp. až k apoptóze buně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emodelační i sklerotické procesy začínají na úrovni jednotlivých (hladkých svalových) buněk cévní stěny a jsou významně ovlivňovány mechanickými faktory. Základním elementem strukturních změn živých tkání je tedy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eukaryotická buňka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 Biochemické procesy, které v ní probíhají jsou zjevně ovlivněny jejím mechanickým namáháním, tento proces přeměny mechanického signálu na biochemickou odezvu se nazývá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mechanotransdukc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20760"/>
            <a:ext cx="8153280" cy="116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Hierarchic</a:t>
            </a:r>
            <a:r>
              <a:rPr b="0" lang="cs-CZ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ké </a:t>
            </a:r>
            <a:r>
              <a:rPr b="0" lang="en-GB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stru</a:t>
            </a:r>
            <a:r>
              <a:rPr b="0" lang="cs-CZ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k</a:t>
            </a:r>
            <a:r>
              <a:rPr b="0" lang="en-GB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tur</a:t>
            </a:r>
            <a:r>
              <a:rPr b="0" lang="cs-CZ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ní úrovně</a:t>
            </a:r>
            <a:r>
              <a:rPr b="0" lang="en-GB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br>
              <a:rPr sz="3600"/>
            </a:br>
            <a:r>
              <a:rPr b="0" lang="cs-CZ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příčně pruhovaného svalu (</a:t>
            </a:r>
            <a:r>
              <a:rPr b="0" lang="cs-CZ" sz="3600" spc="-1" strike="noStrike" u="sng">
                <a:solidFill>
                  <a:srgbClr val="009999"/>
                </a:solidFill>
                <a:uFillTx/>
                <a:latin typeface="Times New Roman"/>
                <a:ea typeface="Arial"/>
                <a:hlinkClick r:id="rId1"/>
              </a:rPr>
              <a:t>viz obr</a:t>
            </a:r>
            <a:r>
              <a:rPr b="0" lang="cs-CZ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Úroveň 1: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sval jako anatomická jednotka, tzv.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makrostruktur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sva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Úroveň 2: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svalové snopce různých strukturních úrovní a velikostí,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mezzostruktur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sva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Úroveň 3: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každý svalový snopec se skládá z 10 až 100 jednotlivých svalových vláken, z nichž každé představuje jednojadernou svalovou buňku. Délka svalových vláken bývá obvykle v desítkách mm, zatímco jejich tloušťka je pouhých 10 až 10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. Proto bývá tato strukturní úroveň označována jako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mikrostruktur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Úroveň 4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aždé svalové vlákno je tvořeno tzv. myofibrilami o průměru kolem 1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,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ultrastruktur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sva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Úroveň 5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yofibrily jsou tvořeny sadou aktinových (tenkých) a myozinových (tlustých) vláken a dále tzv. Z-disky (Z-liniemi),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nanostruktur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sva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Úroveň 6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aždé filamentum se skládá z makromolekul příslušné bílkoviny, které mají rovněž svou atomovou strukturu; vzhledem k jiným typům podstatných silových interakcí není řešitelná metodami mechaniky těles.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6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Hierarchic</a:t>
            </a:r>
            <a:r>
              <a:rPr b="0" lang="cs-CZ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ké </a:t>
            </a:r>
            <a:r>
              <a:rPr b="0" lang="en-GB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stru</a:t>
            </a:r>
            <a:r>
              <a:rPr b="0" lang="cs-CZ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k</a:t>
            </a:r>
            <a:r>
              <a:rPr b="0" lang="en-GB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tur</a:t>
            </a:r>
            <a:r>
              <a:rPr b="0" lang="cs-CZ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ní úrovně</a:t>
            </a:r>
            <a:r>
              <a:rPr b="0" lang="en-GB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br>
              <a:rPr sz="3600"/>
            </a:br>
            <a:r>
              <a:rPr b="0" lang="cs-CZ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hladkého sval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77240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Úroveň 1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val jako anatomická jednotka ( 10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10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mm), nebo jednotlivé vrstvy cévní stěny, tzv.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krostruktur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Úroveň 2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svalová buňka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řetenovitého tvaru o délce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ž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ikrostruktur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Úroveň 3: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vnitř buňky je kromě p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ních vláken (např. intermediálních) soustava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aktinových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tenkých) a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myozinových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tlustých)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vláken (filam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, která vzájemně propojují tzv.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densní tělíska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nanostruktur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val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Úroveň 4: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ždé filamentum se skládá z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vláknitých makromolekul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lušné bílkoviny, ty mají dále svou atomovou strukturu; vzhledem k jiným typům podstatných silových interakcí není tato úroveň řešitelná metodami mechaniky tě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imes New Roman"/>
              </a:rPr>
              <a:t>Strukturní </a:t>
            </a:r>
            <a:r>
              <a:rPr b="0" lang="cs-CZ" sz="4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prvky živočišné buňky </a:t>
            </a: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podstatné z mechanického hlediska</a:t>
            </a:r>
            <a:r>
              <a:rPr b="0" lang="cs-CZ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Buněčná membrán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tvořená většinou fosfolipidy a cholestero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ytoplazm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zahrnuje základní hmotu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organe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ytoskele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and cytoplas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tické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u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Jádro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nese informaci pro reprodukci buňky v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for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ě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DN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chromo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zomec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Cytoskele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je z mechanického hlediska nejdůležitější složkou hladké svalové buňky, podílí se rozhodující měrou na jejím mechanickém chová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609480"/>
            <a:ext cx="8062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Times New Roman"/>
              </a:rPr>
              <a:t>Schéma vzájemného </a:t>
            </a:r>
            <a:r>
              <a:rPr b="0" lang="cs-CZ" sz="4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propojení buněk </a:t>
            </a: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– nexy neboli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gap junctions </a:t>
            </a: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(podle Fyziologie, Troj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188"/>
          <p:cNvPicPr/>
          <p:nvPr/>
        </p:nvPicPr>
        <p:blipFill>
          <a:blip r:embed="rId3"/>
          <a:stretch/>
        </p:blipFill>
        <p:spPr>
          <a:xfrm>
            <a:off x="468360" y="1700280"/>
            <a:ext cx="8229600" cy="47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Studium buňky jako mechanické sousta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vyžaduj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Znalosti o struktuře buňky a jejích interakcích s okolí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Znalosti o </a:t>
            </a:r>
            <a:r>
              <a:rPr b="0" lang="cs-CZ" sz="26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mechanických vlastnostech buňky</a:t>
            </a:r>
            <a:r>
              <a:rPr b="0" lang="cs-CZ" sz="2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Times New Roman"/>
              </a:rPr>
              <a:t>Vyšetřování mechanických vlastností buněk se provádí na základě experimentů a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výpočtového modelová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Experimentální určování mechanických vlastností buně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4793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chanické zkoušky buněčných popul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atížení deformací podložky (membrane stret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atížení fluidními smykovými  silami (fluid f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chanické zkoušky izolovaných buněk - z hlediska zatížení lze dělit 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globální - zatěžována celá buň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okální  - zatížení se na buňku přenáší jen v malé obla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Příklady mechanických zkoušek prováděných na izolovaných buňká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848720" cy="45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zdělení podle principu vyvození zátěžné sí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echanické met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Times New Roman"/>
                <a:ea typeface="Arial"/>
                <a:hlinkClick r:id="rId1"/>
              </a:rPr>
              <a:t>Aspirační zkouška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nasáváním do mikropipet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Vtlačovací zkou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Zkouška tahem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kouška tlakem s mikrodestičkam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gnetické met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agnetic twisting cyt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agnetická pinz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ptické met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ptická pinz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ptical stret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3-03-27T07:38:47Z</dcterms:modified>
  <cp:revision>245</cp:revision>
  <dc:subject/>
  <dc:title>Biomechanics  of smooth muscle cells </dc:title>
</cp:coreProperties>
</file>