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DC2-5E61-49C1-B84F-E9BE9910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7C4-2D7A-4E83-BE3F-A7B92003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A64-44B8-4541-A14C-4C16EA55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192-DFFB-4E9D-9178-0B5DF367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EC3-00BC-499D-8327-C36BAFF3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474-45E6-45E3-8D90-3680BA0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811-0B5C-409B-B53B-8F3AFE6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2BE-CDC3-4DA6-BB5B-33EF610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D97-BC9F-4474-AE4D-AF29F752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E0E-34EF-4025-B931-8216C1F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F28-957D-4A0E-B735-CDB51D0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31-CEE3-4AB4-9160-5B116A0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DE59-C044-4BAE-BC78-6B0E48DF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exus (spojení gap junction) - schéma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ojení zajišťující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port iontů, aminokyselin, sacharidů a jiných rozpuštěných látek mezi buň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98760" y="20718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1989000"/>
            <a:ext cx="216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28764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45276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40291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a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49417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e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46076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640548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imobuněčný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7-01-07T10:46:04Z</dcterms:modified>
  <cp:revision>4</cp:revision>
  <dc:subject/>
  <dc:title>Schéma spojení gap junction  Spojení zajišťující transport iontů, aminokyselin, sacharidů a jiných rozpuštěných látek mezi buňkami</dc:title>
</cp:coreProperties>
</file>