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BB74-DA2D-4755-B059-C051AF76AC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lastní kvantifikaci by bylo možno provádět následovně:  při provádění dvou různých mechanických zkoušek pro daný typ buňky bychom zjistili při jakých úrovních zatížení dochází ke spuštění biochemických reak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494-0DC3-4BB0-91D4-91FA70FD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721-CF16-417F-8BB0-83E3A37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E00-9971-4F37-9B09-E929B2EE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670-3F43-4250-AA35-E609C4C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1C8-1A61-4B48-A60A-28F84D8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848-3E77-445E-8B02-8E9A653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150-FEA6-46E3-9C30-68D691FD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EE0-0C24-4DAD-91C9-6FC9993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FE2-68BF-4BBA-B268-88BDFC8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4AE-B2BB-491D-8174-5008142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4F8-188D-4274-B193-D562F31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F99-CA87-4299-A3A6-271FDEE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79D-821F-45EC-BAAF-D3CF925EF6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k je možno kvantifikovat vliv hodnot namáhání (napjatosti) prvků struktury buňky na aktivaci biochemických procesů v buňce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09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istit, při jakých úrovních zatížení dojde k aktivaci biochemického procesu pro daný typ buňky při dvou různých mechanických zkouš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566" t="7820" r="6410" b="0"/>
          <a:stretch/>
        </p:blipFill>
        <p:spPr>
          <a:xfrm>
            <a:off x="900000" y="4365720"/>
            <a:ext cx="2880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280" y="2538360"/>
            <a:ext cx="296208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522880" cy="167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5572" r="0" b="0"/>
          <a:stretch/>
        </p:blipFill>
        <p:spPr>
          <a:xfrm>
            <a:off x="6084720" y="4221000"/>
            <a:ext cx="252108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6000" y="5229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300640"/>
            <a:ext cx="12240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57336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ktivace biochemického proc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47640" y="4076640"/>
            <a:ext cx="5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237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ce obou zkoušek při zatížení, které způsobilo aktivaci biochemických procesů při experimen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394" t="15221" r="2238" b="38562"/>
          <a:stretch/>
        </p:blipFill>
        <p:spPr>
          <a:xfrm>
            <a:off x="577800" y="3760920"/>
            <a:ext cx="3776760" cy="1579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59280" y="5084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933720"/>
            <a:ext cx="216000" cy="166680"/>
          </a:xfrm>
          <a:custGeom>
            <a:avLst/>
            <a:gdLst/>
            <a:ahLst/>
            <a:rect l="l" t="t" r="r" b="b"/>
            <a:pathLst>
              <a:path w="136" h="105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5" y="67"/>
                  <a:pt x="136" y="10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5720"/>
            <a:ext cx="1295280" cy="7189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125" y="339"/>
                  <a:pt x="250" y="271"/>
                  <a:pt x="363" y="226"/>
                </a:cubicBezTo>
                <a:cubicBezTo>
                  <a:pt x="476" y="181"/>
                  <a:pt x="613" y="174"/>
                  <a:pt x="681" y="136"/>
                </a:cubicBezTo>
                <a:cubicBezTo>
                  <a:pt x="749" y="98"/>
                  <a:pt x="760" y="49"/>
                  <a:pt x="771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4581360"/>
            <a:ext cx="1295280" cy="516240"/>
          </a:xfrm>
          <a:custGeom>
            <a:avLst/>
            <a:gdLst/>
            <a:ahLst/>
            <a:rect l="l" t="t" r="r" b="b"/>
            <a:pathLst>
              <a:path w="816" h="325">
                <a:moveTo>
                  <a:pt x="0" y="8"/>
                </a:moveTo>
                <a:cubicBezTo>
                  <a:pt x="90" y="4"/>
                  <a:pt x="181" y="0"/>
                  <a:pt x="317" y="53"/>
                </a:cubicBezTo>
                <a:cubicBezTo>
                  <a:pt x="453" y="106"/>
                  <a:pt x="703" y="242"/>
                  <a:pt x="816" y="3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00640" y="4745160"/>
            <a:ext cx="200160" cy="10152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4797360"/>
            <a:ext cx="576000" cy="216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434016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466092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03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268000" y="4508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5516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ovnatelné hodnoty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čitého prvku struktury buň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700280"/>
            <a:ext cx="65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d by bylo dosaženo dostatečné shody u hodnot napjatosti určitých strukturních prvků výpočtového modelu buňky při úrovních zatížení odpovídajících spuštění biochemických reakcí, pak lze vyslovit hypotézu, že spuštění těchto procesů bylo iniciováno právě překročením kritických hodnot namáhání u daného strukturního prvk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0:37Z</dcterms:created>
  <dc:creator>Jiri Bursa</dc:creator>
  <dc:description/>
  <dc:language>en-US</dc:language>
  <cp:lastModifiedBy>Jiri Bursa</cp:lastModifiedBy>
  <dcterms:modified xsi:type="dcterms:W3CDTF">2007-01-07T21:29:24Z</dcterms:modified>
  <cp:revision>2</cp:revision>
  <dc:subject/>
  <dc:title>Jak je možno kvantifikovat vliv hodnot namáhání (napjatosti) prvků struktury buňky na aktivaci biochemických procesů v buňce? </dc:title>
</cp:coreProperties>
</file>