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2D3-F89E-4C68-B285-7CA0BDED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320-0E17-43D1-9993-40571C2F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AF2-7200-40BD-B43E-E08B31D8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4608-0CA1-4D40-BEE9-AF61D1DD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83F-ED90-469C-8633-920EBBE5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894-E66C-498E-836C-05249505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F881-7670-4033-ADF3-92CA765A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E04-66AC-4DE6-899E-3BF27C11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402-E511-40EF-A6BF-C7516CD4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231-F203-4BB1-B190-56F4C35D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2792-92EA-4622-AFBB-FFF4735D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4BFE-30B2-43D3-9870-78B41B8F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BCCC-3D9A-43FA-9C89-6DFD240E5E8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0012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Tepenná výduť (aneurysm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39640" y="1989000"/>
            <a:ext cx="8280360" cy="45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 to patologické rozšíření tepny, ohrožující život pacienta rizikem ruptury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častější lokality arteriálních aneurysmat 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ortální aneurysma - důsledek degradace elastinu, zánětlivých procesů, příp. i aterosklerotických změn, někdy původu infekčního nebo posttraumatického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eurysma břišní aorty (AAA – abdominal aortic aneurysm) – nejčastější, mezi odbočkami renálních tepen a bifurkací, kterou často přesahuje do kyčelních tepen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eurysma mozkových tepen – často v oblasti větvení tepen s významnou dynamickou složkou tlaku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rfologické členění arteriálních aneurysmat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řetenovité aneurysma (časté u břišní aorty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akulární (vakovité) aneurysma (časté u mozkových tepen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3" name="Obrázek 5" descr=""/>
          <p:cNvPicPr/>
          <p:nvPr/>
        </p:nvPicPr>
        <p:blipFill>
          <a:blip r:embed="rId1"/>
          <a:stretch/>
        </p:blipFill>
        <p:spPr>
          <a:xfrm>
            <a:off x="1692360" y="299880"/>
            <a:ext cx="575928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Rizika aneurys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042920" y="907920"/>
            <a:ext cx="748980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eurysma břišní aorty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 - výskyt 2-6% dospělé popula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523880" indent="-152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uptura aneurysmatu břišní aorty – krvácení do retriperitonea s úmrtností 50-70%, u plánovaných operací 3-15%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hlá mozková příhoda („mozková mrtvice“) může být dvojího typu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523880" indent="-152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523880" indent="-152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schemická – nedostatečné prokrvení části mozku v důsledku zúžení některé tepny ateromatickým plátem nebo trombem (trombembolie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523880" indent="-152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rvácení do mozku – nejčastěji ruptury aneurysmat mozkových tepen, zvýšené riziko při zvýšení tlaku v mozkových tepnách (porod, bunjee-jumping). 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523880" indent="-152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 obou případech vysoká úmrtnost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Tepny moz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tepny_mozek0001"/>
          <p:cNvPicPr/>
          <p:nvPr/>
        </p:nvPicPr>
        <p:blipFill>
          <a:blip r:embed="rId1"/>
          <a:stretch/>
        </p:blipFill>
        <p:spPr>
          <a:xfrm>
            <a:off x="241128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web-books.com/eLibrary/Medicine/Cardiovascular/Images/aneurysm_cerebral.jpg"/>
          <p:cNvPicPr/>
          <p:nvPr/>
        </p:nvPicPr>
        <p:blipFill>
          <a:blip r:embed="rId1"/>
          <a:stretch/>
        </p:blipFill>
        <p:spPr>
          <a:xfrm>
            <a:off x="1476360" y="260280"/>
            <a:ext cx="5759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Aneurysma (výduť) břišní ao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9677" t="2784" r="12952" b="54622"/>
          <a:stretch/>
        </p:blipFill>
        <p:spPr>
          <a:xfrm>
            <a:off x="1116000" y="1628640"/>
            <a:ext cx="292572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rcRect l="19249" t="53948" r="12978" b="3444"/>
          <a:stretch/>
        </p:blipFill>
        <p:spPr>
          <a:xfrm>
            <a:off x="4932360" y="1557360"/>
            <a:ext cx="3184560" cy="4551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1042920" y="90792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Zdravá část cévní soustavy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Výduť mezi renálními tepnami 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a bifurkací aort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Statistická pravděpodobnost přežití pacientů </a:t>
            </a:r>
            <a:br>
              <a:rPr sz="3200"/>
            </a:b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s AAA o průměru 4 cm a různou rychlostí růs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3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Ošetření aneurysmatu břišní aorty stentgraf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aneurysm1"/>
          <p:cNvPicPr/>
          <p:nvPr/>
        </p:nvPicPr>
        <p:blipFill>
          <a:blip r:embed="rId1"/>
          <a:stretch/>
        </p:blipFill>
        <p:spPr>
          <a:xfrm>
            <a:off x="1258920" y="1052640"/>
            <a:ext cx="66978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Ošetření AAA </a:t>
            </a:r>
            <a:br>
              <a:rPr sz="3600"/>
            </a:b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klasickým chirurgickým zákro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19" descr="II (35).JPG"/>
          <p:cNvPicPr/>
          <p:nvPr/>
        </p:nvPicPr>
        <p:blipFill>
          <a:blip r:embed="rId1"/>
          <a:stretch/>
        </p:blipFill>
        <p:spPr>
          <a:xfrm>
            <a:off x="1116000" y="1500120"/>
            <a:ext cx="698508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287964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Výpočtový model AAA </a:t>
            </a:r>
            <a:br>
              <a:rPr sz="3600"/>
            </a:b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rozložení redukovaného napě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2" name="Obrázek 8" descr="AAA von mises vs RRI.png"/>
          <p:cNvPicPr/>
          <p:nvPr/>
        </p:nvPicPr>
        <p:blipFill>
          <a:blip r:embed="rId1"/>
          <a:srcRect l="0" t="0" r="49125" b="0"/>
          <a:stretch/>
        </p:blipFill>
        <p:spPr>
          <a:xfrm>
            <a:off x="3419640" y="404640"/>
            <a:ext cx="52560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2-04-04T06:46:34Z</dcterms:modified>
  <cp:revision>271</cp:revision>
  <dc:subject/>
  <dc:title>Biomechanics  of smooth muscle cells </dc:title>
</cp:coreProperties>
</file>