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F23-4319-4414-968E-7F1E6E943A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DAEF-D1B0-416F-8EA3-A16CAA0B2C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hle vypadá cytoskelet ve skut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143-CC5B-408F-B6BB-F7CFCDC3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C9C-9DF9-4EF2-888C-98FDBFF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D0A-B0E7-4199-B11F-57F61695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57F-8784-40E3-BE8B-85221B63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F88-DF5E-4595-82D5-A07740F6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FD5-3E6C-4F4C-8200-E6D6DA6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87A-BE7F-43B1-B894-F5CB4D6A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34D-A306-493B-AA9C-08AD5C9D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BF6-90E7-4653-A9E7-3A0CE92D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6A3-50ED-4A95-A67B-3C66F1A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155-B63C-4584-A97E-F5C8C80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A22-FA3D-4F7D-A088-3D93A550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D59D-5EB2-46DC-B9F4-BAA4734E6C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olagen-fibril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Cyto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výztužná struktura buňky, tvořená bílkovinnými vlákny různých druhů, která jsou rozmístěna  v cytoplazmě  a plní zde různé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í časovou stálost a současně i proměnnost tvaru buňky (tedy její odpor proti deforma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 transportu informací tělem buň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 dynamické organizaci cytoplazmy (přesuny organel a chromosomů v buň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ožňují pohyb buně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mi prvky cytoskeletu jsou: mikrotubuly, mikrofilamenta a intermediální (střední) filam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ákladní klasifikace cytoskele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uboký cyt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endoskele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vořen převážně mikrotubuly  a intermediálními filamenty napříč celou buňkou. Jeho hlavní funkcí je transport látek a buněčných komponent, opora buňky a účast na jejím děl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rtikální 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h výztužných vláken pod buněčnou membráno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lagen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elastinových a fibronektinových vláken v mimobuněčném pro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Cytoskelet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- fo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ctin_microtubules_02[1]"/>
          <p:cNvPicPr/>
          <p:nvPr/>
        </p:nvPicPr>
        <p:blipFill>
          <a:blip r:embed="rId1"/>
          <a:stretch/>
        </p:blipFill>
        <p:spPr>
          <a:xfrm>
            <a:off x="684360" y="2120760"/>
            <a:ext cx="3887640" cy="346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714840" cy="3233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4643280" y="162864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filamenta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ytoskel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krotubu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6410" t="0" r="0" b="7401"/>
          <a:stretch/>
        </p:blipFill>
        <p:spPr>
          <a:xfrm>
            <a:off x="4502160" y="4149720"/>
            <a:ext cx="3814920" cy="209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564320" cy="2647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84360" y="981000"/>
            <a:ext cx="755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zolované mikrotubu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tubuly v buň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39640" y="4292640"/>
            <a:ext cx="38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mikrotubulu – trubice tvořené z molekul tubuli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ký struktura, vyrůstající z centroso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ůstu: cca 0.0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ozpadu: cca 0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Remodelace c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  <a:ea typeface="Arial"/>
              </a:rPr>
              <a:t>ytoskelet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  <a:ea typeface="Arial"/>
              </a:rPr>
              <a:t>v hladkých svalových buň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050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tvary hladkých svalových buně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řetenovit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rozený tvar v cévní stěně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u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buňky volně kultivované „in vitro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lochý paraboloid – buňky kultivované na podlož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změně tvaru buňky probíhá neustálá reorganizace jejího 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toskele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mj. jako odezva na zatížení buňk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ledem k neustálé remodelaci cytoskeletu lze předpokládat, že jeho deformačně – napěťový stav na začátku každého zatěžovacího procesu je téměř stejný – beznapěťový nebo mírně předepjatý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vislost tuhosti buňky na rychlosti zatěžování je vlivem remodelace cytoskeletu opačná než u většiny makromolekulárních lát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ňka – tužší při niž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kromolekulární (viskoelastické) látky - tužší při vyš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 posuvy při magnetic twisting cyt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emicky rozruš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468360" y="1413000"/>
            <a:ext cx="8137440" cy="4464000"/>
            <a:chOff x="468360" y="1413000"/>
            <a:chExt cx="8137440" cy="4464000"/>
          </a:xfrm>
        </p:grpSpPr>
        <p:pic>
          <p:nvPicPr>
            <p:cNvPr id="66" name="Picture 6" descr=""/>
            <p:cNvPicPr/>
            <p:nvPr/>
          </p:nvPicPr>
          <p:blipFill>
            <a:blip r:embed="rId1"/>
            <a:stretch/>
          </p:blipFill>
          <p:spPr>
            <a:xfrm>
              <a:off x="4537080" y="1413000"/>
              <a:ext cx="4068720" cy="44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"/>
            <p:cNvPicPr/>
            <p:nvPr/>
          </p:nvPicPr>
          <p:blipFill>
            <a:blip r:embed="rId2"/>
            <a:srcRect l="0" t="0" r="19715" b="0"/>
            <a:stretch/>
          </p:blipFill>
          <p:spPr>
            <a:xfrm>
              <a:off x="468360" y="1647720"/>
              <a:ext cx="3130560" cy="42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067400" y="200664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5243400" y="204300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199404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06276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2" descr=""/>
            <p:cNvPicPr/>
            <p:nvPr/>
          </p:nvPicPr>
          <p:blipFill>
            <a:blip r:embed="rId3"/>
            <a:stretch/>
          </p:blipFill>
          <p:spPr>
            <a:xfrm>
              <a:off x="3635640" y="1525320"/>
              <a:ext cx="717480" cy="371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1. hlavní napětí ve výpočtovém mod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1625760" y="1557360"/>
            <a:ext cx="5322600" cy="4118040"/>
            <a:chOff x="1625760" y="1557360"/>
            <a:chExt cx="5322600" cy="4118040"/>
          </a:xfrm>
        </p:grpSpPr>
        <p:pic>
          <p:nvPicPr>
            <p:cNvPr id="76" name="Picture 13" descr="pop009"/>
            <p:cNvPicPr/>
            <p:nvPr/>
          </p:nvPicPr>
          <p:blipFill>
            <a:blip r:embed="rId1"/>
            <a:srcRect l="16898" t="29579" r="17469" b="29400"/>
            <a:stretch/>
          </p:blipFill>
          <p:spPr>
            <a:xfrm>
              <a:off x="1625760" y="1557360"/>
              <a:ext cx="22784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4" descr="pop003"/>
            <p:cNvPicPr/>
            <p:nvPr/>
          </p:nvPicPr>
          <p:blipFill>
            <a:blip r:embed="rId2"/>
            <a:srcRect l="15522" t="31558" r="16976" b="31601"/>
            <a:stretch/>
          </p:blipFill>
          <p:spPr>
            <a:xfrm>
              <a:off x="4459320" y="1675800"/>
              <a:ext cx="223884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pop010"/>
            <p:cNvPicPr/>
            <p:nvPr/>
          </p:nvPicPr>
          <p:blipFill>
            <a:blip r:embed="rId3"/>
            <a:srcRect l="16132" t="8124" r="17725" b="3397"/>
            <a:stretch/>
          </p:blipFill>
          <p:spPr>
            <a:xfrm>
              <a:off x="1625760" y="2859840"/>
              <a:ext cx="2327760" cy="23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pop002"/>
            <p:cNvPicPr/>
            <p:nvPr/>
          </p:nvPicPr>
          <p:blipFill>
            <a:blip r:embed="rId4"/>
            <a:srcRect l="16946" t="4843" r="18048" b="7816"/>
            <a:stretch/>
          </p:blipFill>
          <p:spPr>
            <a:xfrm>
              <a:off x="4459320" y="2859840"/>
              <a:ext cx="2260800" cy="22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7" descr="pop000"/>
            <p:cNvPicPr/>
            <p:nvPr/>
          </p:nvPicPr>
          <p:blipFill>
            <a:blip r:embed="rId5"/>
            <a:srcRect l="7745" t="89282" r="5703" b="849"/>
            <a:stretch/>
          </p:blipFill>
          <p:spPr>
            <a:xfrm>
              <a:off x="1625760" y="5221440"/>
              <a:ext cx="532260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8"/>
            <p:cNvSpPr/>
            <p:nvPr/>
          </p:nvSpPr>
          <p:spPr>
            <a:xfrm>
              <a:off x="1625760" y="48729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4340880" y="48657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</a:t>
            </a:r>
            <a:br>
              <a:rPr sz="18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1. hlavní napětí ve výpočtovém modelu zkoušky vtlač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pop018"/>
          <p:cNvPicPr/>
          <p:nvPr/>
        </p:nvPicPr>
        <p:blipFill>
          <a:blip r:embed="rId1"/>
          <a:srcRect l="18515" t="5716" r="19248" b="10853"/>
          <a:stretch/>
        </p:blipFill>
        <p:spPr>
          <a:xfrm>
            <a:off x="2265480" y="1800360"/>
            <a:ext cx="4538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12:39Z</dcterms:created>
  <dc:creator>Jiri Bursa</dc:creator>
  <dc:description/>
  <dc:language>en-US</dc:language>
  <cp:lastModifiedBy>Jiří Burša</cp:lastModifiedBy>
  <dcterms:modified xsi:type="dcterms:W3CDTF">2011-11-09T14:32:12Z</dcterms:modified>
  <cp:revision>22</cp:revision>
  <dc:subject/>
  <dc:title>Cytoskelet  výztužná struktura buňky, tvořená především mikrotubuly a mikrofilamenty</dc:title>
</cp:coreProperties>
</file>