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FDC-70F3-4953-9E2F-C02AAEEF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908-53C1-40CD-94D2-65783F5D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69F-D9AD-4ED4-833B-8AD9ADBA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B49-5067-46B2-9BCC-475EF21A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176-A736-4956-A794-A03B34AA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9C0-B7E2-44CC-B3CC-1912DEB1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553-1CB9-4E52-9669-EA7BD8F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103-3295-4516-9E9A-ECD533ED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443-48CA-4C41-B88D-DAB6CD6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EB6-933B-4BF7-B2D5-BE158A3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D6E-1272-4E48-B37B-F5D047A6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29E-9E81-4824-A093-1CD0BC58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B04F-25F2-4689-9C6A-23B9AC685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ustava tvaru šes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26828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uspořádání úhlopříčných prutů do trojúhelníka nebo vějíře je soustava staticky určitá. Přestože se obě topologie liší počtem os symetrie, ani jedna z obou konfigurací nevykazuje tensegritní vlast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7544" t="9334" r="17544" b="9334"/>
          <a:stretch/>
        </p:blipFill>
        <p:spPr>
          <a:xfrm>
            <a:off x="4772160" y="2852640"/>
            <a:ext cx="3760560" cy="337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684360" y="2852640"/>
            <a:ext cx="3809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ustava tvaru šes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981000"/>
            <a:ext cx="849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egritní soustavu lze vytvořit dvěma následujícími způsob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přeuspořádáním úhlopříčných prutů do tvaru hvězdy, bez změny jejich počtu, jen změnou symetrie soustav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přidáním dalších tří prutů v trojúhelníkovém uspořádání; oba trojúhelníky jsou vzájemně pootoče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604960"/>
            <a:ext cx="3843360" cy="357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17544" t="9334" r="17544" b="9334"/>
          <a:stretch/>
        </p:blipFill>
        <p:spPr>
          <a:xfrm>
            <a:off x="4716360" y="2637000"/>
            <a:ext cx="38689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1:18Z</dcterms:created>
  <dc:creator>Jiri Bursa</dc:creator>
  <dc:description/>
  <dc:language>en-US</dc:language>
  <cp:lastModifiedBy>umt</cp:lastModifiedBy>
  <dcterms:modified xsi:type="dcterms:W3CDTF">2007-01-08T13:18:00Z</dcterms:modified>
  <cp:revision>4</cp:revision>
  <dc:subject/>
  <dc:title>Regular hexagonal structure</dc:title>
</cp:coreProperties>
</file>