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F92-E727-496D-9237-3BE14B1A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70F-98BC-4A6A-8C38-CB1FC201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C6A-48F7-4310-A45C-49915036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0A9-D81C-46F6-BCCF-2AE97CE3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3AE-CED6-44C5-9A36-DB8EDA2C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9A7-C27F-4136-BD45-04395DF6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2BC-A251-4B06-A168-3257BE7D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7CE-5CCD-4E5D-99E9-EB81751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EF8-9A95-43EF-95E0-7E024F6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D9A-00C9-4875-A0F7-831D273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7F3-FDDF-4EFA-9135-2425A42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521-F3E8-4D6F-AE0A-9A67BB7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826-B2B2-4B89-907E-6300F78B26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epny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87040"/>
            <a:ext cx="303516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apojení v krevním obě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Picture 12" descr="bmsc006"/>
          <p:cNvPicPr/>
          <p:nvPr/>
        </p:nvPicPr>
        <p:blipFill>
          <a:blip r:embed="rId1"/>
          <a:srcRect l="12908" t="9867" r="10816" b="33034"/>
          <a:stretch/>
        </p:blipFill>
        <p:spPr>
          <a:xfrm>
            <a:off x="3564000" y="119556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385920" y="3141720"/>
            <a:ext cx="3178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T – plicní tepn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P – mezikomorová přepážka (septum)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 – síňová přepážk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968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ákladní roz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5920" y="1413000"/>
            <a:ext cx="3178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 – plícnice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 uzel – sinoatriální uzel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S – Hissův svazek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 – Tavarova raménk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V – Purkyňova vlákn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M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A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T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P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9" name="Picture 6" descr="bmsc0080001"/>
          <p:cNvPicPr/>
          <p:nvPr/>
        </p:nvPicPr>
        <p:blipFill>
          <a:blip r:embed="rId1"/>
          <a:srcRect l="7147" t="15630" r="3333" b="11622"/>
          <a:stretch/>
        </p:blipFill>
        <p:spPr>
          <a:xfrm>
            <a:off x="3851280" y="1122480"/>
            <a:ext cx="47656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znik vírů za semilunární chlopní v aortálním s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Obrázek 5" descr="proudění za chlopní.JPG"/>
          <p:cNvPicPr/>
          <p:nvPr/>
        </p:nvPicPr>
        <p:blipFill>
          <a:blip r:embed="rId1"/>
          <a:srcRect l="0" t="43085" r="0" b="0"/>
          <a:stretch/>
        </p:blipFill>
        <p:spPr>
          <a:xfrm>
            <a:off x="614520" y="1773360"/>
            <a:ext cx="7845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íčný řez pravou a levou srdeční komor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920" y="907920"/>
            <a:ext cx="360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770200" y="1328760"/>
            <a:ext cx="5689440" cy="404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1413000"/>
            <a:ext cx="230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e kontrakci dochází jednak v příčné rovině, jednak podélné (přiblížení hrotu s báze srdeční)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rpací výkonnost srdce: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,5 l/min. v klidu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ž 25 l/min při námaze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čet cyklů celkově za život řádu miliard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rdeční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rdeční_skelet"/>
          <p:cNvPicPr/>
          <p:nvPr/>
        </p:nvPicPr>
        <p:blipFill>
          <a:blip r:embed="rId1"/>
          <a:srcRect l="0" t="635" r="0" b="1614"/>
          <a:stretch/>
        </p:blipFill>
        <p:spPr>
          <a:xfrm>
            <a:off x="1189080" y="1628640"/>
            <a:ext cx="6765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a názv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elkých tepen tělního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10027" t="19744" r="52243" b="13986"/>
          <a:stretch/>
        </p:blipFill>
        <p:spPr>
          <a:xfrm>
            <a:off x="826920" y="836640"/>
            <a:ext cx="504036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atinské názv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elkých tepen:</a:t>
            </a:r>
            <a:br>
              <a:rPr sz="1800"/>
            </a:br>
            <a:br>
              <a:rPr sz="18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olečná tepna krční  pravá/levá -  Arteria carotis communis dextra/sinist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. podklíčková p./l. 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. subclavia dex./si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blouk aorty – Arcus aort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estupná aorta – Aorta a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stupná aorta hrudní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thoracica de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oronární tepny –Arteriae coronari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ledvinná p./l.– Arteria renalis d./s.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břišní – Aorta abdominal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kyčelní – Arteria iliaca commun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stehen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– Arteria femoralis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48360" y="1341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levá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640" y="764640"/>
            <a:ext cx="2602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éma cév lidského těla</a:t>
            </a:r>
            <a:br>
              <a:rPr sz="3200"/>
            </a:b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ější informace lze nalézt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évy-anatomie"/>
          <p:cNvPicPr/>
          <p:nvPr/>
        </p:nvPicPr>
        <p:blipFill>
          <a:blip r:embed="rId2"/>
          <a:stretch/>
        </p:blipFill>
        <p:spPr>
          <a:xfrm>
            <a:off x="3738600" y="333360"/>
            <a:ext cx="5137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2-22T09:31:06Z</dcterms:modified>
  <cp:revision>253</cp:revision>
  <dc:subject/>
  <dc:title>Biomechanics  of smooth muscle cells </dc:title>
</cp:coreProperties>
</file>