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2E1B-BFF0-4F04-9968-A8C6639F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3CC-4707-40A7-B35C-232959AF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2F25-DF3A-46BD-A669-9A70367A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1D4E-32F9-4944-8B04-F474AC6D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F9CA-6430-4EBA-BA80-9F105C23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8D01-6F03-41C9-857F-DB13EB4E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A0B-961F-47F2-82E4-9F6D31BA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BA0-E9FC-4E3B-B660-713CC658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3A91-0C52-44C2-B87C-A20378DF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1D52-D914-420B-A024-5AB1B60A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7EAD-322F-4052-BC0F-25E4AB57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DFC7-AB78-4C89-BB83-E007053E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B772-85F6-4CB2-9DE8-2F6059796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Schéma desmozomu –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 pevnější mechanické spojení s širokou mezerou mezi oběma membrá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408720" cy="439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716360" y="179712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něčné membrá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3502080"/>
            <a:ext cx="2160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ntermediální vlák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27280" y="5589720"/>
            <a:ext cx="10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rycí des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0000" y="5877000"/>
            <a:ext cx="2735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esmocollin a desmogle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9:21:26Z</dcterms:created>
  <dc:creator>Jiri Bursa</dc:creator>
  <dc:description/>
  <dc:language>en-US</dc:language>
  <cp:lastModifiedBy>Jiri Bursa</cp:lastModifiedBy>
  <dcterms:modified xsi:type="dcterms:W3CDTF">2006-12-27T12:42:58Z</dcterms:modified>
  <cp:revision>4</cp:revision>
  <dc:subject/>
  <dc:title>Schéma desmozomu – pevnější mechanické spojení s širokou mezerou mezi oběma membránami</dc:title>
</cp:coreProperties>
</file>