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5DF-90CE-4941-A25A-66E04BC2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696-7F6A-4FF3-BB0E-3A4FA31B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7BD-66AA-4EEA-A5D3-B6CFA2C2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2E9-0596-4F51-BFC6-BDB50F0F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8EC-4EAA-43B1-BBA4-AB19E685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ED5-F35B-4C06-84BB-020EEE97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BA1-8EAC-488A-A218-5ECA8CED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DC2-B18D-45ED-AFB2-BDE560AE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FDB-356F-4B12-AB43-1DEC9AED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3D6-B16D-47A9-BB97-57B60FF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175-8A42-4CBB-B526-28038320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B43-76FE-4931-8D90-22BDCA1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ED71-B33B-4ADC-95B0-B7E1077AD1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dmínky vnitřní statické určitosti a neurčitosti prutových sou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vzp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styč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to podmínky se běžně používají pro orientační posouzení statické určitosti prutových soustav, selhávají však u výjimkových konfigu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829040" y="1916280"/>
                <a:ext cx="2479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59280" y="2492280"/>
                <a:ext cx="2570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09960" y="3068640"/>
                <a:ext cx="2570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788000" y="3716280"/>
                <a:ext cx="2570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59:23Z</dcterms:created>
  <dc:creator>Jiří Burša</dc:creator>
  <dc:description/>
  <dc:language>en-US</dc:language>
  <cp:lastModifiedBy>Jiří Burša</cp:lastModifiedBy>
  <dcterms:modified xsi:type="dcterms:W3CDTF">2007-01-08T17:13:15Z</dcterms:modified>
  <cp:revision>2</cp:revision>
  <dc:subject/>
  <dc:title>Podmínky vnitřní statické určitosti a neurčitosti prutových soustav</dc:title>
</cp:coreProperties>
</file>