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432-0F57-4A56-90B1-5A44D657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E27-02D4-40B9-B4A0-CEB0C02A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127-6034-4090-967D-CE4FBA52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8E4-6E14-45BA-8052-63C5E672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8C0-67A8-4ABA-8A67-D2D81523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C6A-7501-4A06-ABC0-7D92062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F61-A75C-4B88-BB73-B0FA9DE0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06C-772A-4BB4-A2B7-F7BB57E3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B0A-2373-4171-B205-F22414E3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356-5472-4B92-AFE4-BD67A1F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2C6-C0B3-4F89-9711-E6FC390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55A-4397-4731-A118-44B8212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B12-87EB-4B53-8F75-B3628ACAF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spojení „focal adhesion“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transmembránové spojení mezi aktinovými filamenty a extracelulár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61672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343480"/>
            <a:ext cx="115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1124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6:16Z</dcterms:created>
  <dc:creator>Jiri Bursa</dc:creator>
  <dc:description/>
  <dc:language>en-US</dc:language>
  <cp:lastModifiedBy>Jiri Bursa</cp:lastModifiedBy>
  <dcterms:modified xsi:type="dcterms:W3CDTF">2006-12-27T12:44:46Z</dcterms:modified>
  <cp:revision>2</cp:revision>
  <dc:subject/>
  <dc:title>Schéma spojení „focal adhesion“  -transmembránové spojení mezi aktinovými filamenty a extracelulárními vlákny</dc:title>
</cp:coreProperties>
</file>