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03F0-A37F-4F3B-B4E2-7345FBB3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E3CA-A5BE-4009-8358-69E2B244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8F06-3773-4BAF-89F6-5032C682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213A-EF2B-4FCD-A6E3-5C997CC2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C29E-42FA-40A2-9A8E-860F89C3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8E3C-5A1D-47D9-BF21-22FDBB18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DB64-0AA1-4ABF-8441-9F100CA8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A0F9-3359-454C-A9BA-49AD8AA2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B19E-0765-4A5C-9F23-D955F858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9DCC-7729-4A18-9C3E-813C9E37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EFB8-86CA-4A7C-B726-19C7EB4A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5D8F-BBA7-495D-815D-29F2951F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F293-22A3-4B09-829B-04A27D3FC56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mechanotransdukce.ppt" TargetMode="External"/><Relationship Id="rId2" Type="http://schemas.openxmlformats.org/officeDocument/2006/relationships/hyperlink" Target="file:///mechanotransdukce.ppt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Eukaryotická buň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84280"/>
            <a:ext cx="6400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to každá buňka, obsahující buněčné jádro, které jí umožň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produkci (nese genetickou informaci v podobě D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enou odezvu na změny v působení okolí na buňku (např.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echanotransdukce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ransformace změn v mechanickém zatížení buňky do její biochemické ode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696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Struktura živočišné buňky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podle Anatomie, Čihá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57200" y="1271520"/>
            <a:ext cx="8305920" cy="5181840"/>
            <a:chOff x="457200" y="1271520"/>
            <a:chExt cx="8305920" cy="5181840"/>
          </a:xfrm>
        </p:grpSpPr>
        <p:pic>
          <p:nvPicPr>
            <p:cNvPr id="45" name="" descr=""/>
            <p:cNvPicPr/>
            <p:nvPr/>
          </p:nvPicPr>
          <p:blipFill>
            <a:blip r:embed="rId1"/>
            <a:srcRect l="0" t="2903" r="0" b="1369"/>
            <a:stretch/>
          </p:blipFill>
          <p:spPr>
            <a:xfrm>
              <a:off x="4007520" y="1271520"/>
              <a:ext cx="4755600" cy="472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57200" y="1624320"/>
              <a:ext cx="3604320" cy="42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 algn="just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Arial"/>
                </a:rPr>
                <a:t>Legenda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buněčná (plasmatická membrán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jádro pokryté jadernou membránou s pór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jadérko (nucleolus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agranulární endoplasmatické retikulum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granulární endoplasmatické retikul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mitochondri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desmod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kinocili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sekreční granulom nebo lyzosom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Golgiho komplex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cytoplasmatické inklus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centrosom se dvěma centriol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buněčná membrána, na povrchu glycocalyx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mikroklk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vchlípení pinocytotického váčku</a:t>
              </a: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10720" y="6000840"/>
              <a:ext cx="4858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2:47:31Z</dcterms:created>
  <dc:creator>Jiří Burša</dc:creator>
  <dc:description/>
  <dc:language>en-US</dc:language>
  <cp:lastModifiedBy>Jiri Bursa</cp:lastModifiedBy>
  <dcterms:modified xsi:type="dcterms:W3CDTF">2007-01-07T10:38:14Z</dcterms:modified>
  <cp:revision>4</cp:revision>
  <dc:subject/>
  <dc:title>Eukaryotická buňka</dc:title>
</cp:coreProperties>
</file>