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B61-D3AC-4BBC-9337-E70CFE71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CB7-3A17-4151-9F9F-0C7B6C28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B6E-D233-442A-83D7-C1A18588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2DA-498A-4914-A06A-A3E2060A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A67-1383-470B-8B26-09EE1D71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0DE-2E8A-4AD5-955C-FAD6E100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350-F38D-4690-BF32-F9DD5190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2D65-1BFF-4DE4-BD02-9EE21F2B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006-5C68-4627-83E7-91D1A024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384-E621-4341-89CE-0D3D0ECC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DFF4-5489-41E6-8573-41DE9B66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BBA-819B-4C6D-8FFC-1B57E517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5552-6A87-4228-9CF8-65482A6620B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Schéma zonuly occludens (tight junction)</a:t>
            </a:r>
            <a:br>
              <a:rPr sz="3600"/>
            </a:b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- spojení bez štěrbiny mezi oběma membrá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848360" cy="439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60360" y="1844640"/>
            <a:ext cx="2016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é membrá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300400"/>
            <a:ext cx="2232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extracelulární pro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0720" y="5516640"/>
            <a:ext cx="1582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ytoplasmická část occlu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56360" y="5516640"/>
            <a:ext cx="194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transmembránová část occlu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5080" y="5516640"/>
            <a:ext cx="1582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extracelulární část occlu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480" y="4681440"/>
            <a:ext cx="93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cclud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67640" y="3933720"/>
            <a:ext cx="71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k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8:54:35Z</dcterms:created>
  <dc:creator>Jiri Bursa</dc:creator>
  <dc:description/>
  <dc:language>en-US</dc:language>
  <cp:lastModifiedBy>Jiri Bursa</cp:lastModifiedBy>
  <dcterms:modified xsi:type="dcterms:W3CDTF">2006-12-27T12:32:07Z</dcterms:modified>
  <cp:revision>5</cp:revision>
  <dc:subject/>
  <dc:title>Schéma spojení gap junction  Spojení zajišťující transport iontů, aminokyselin, sacharidů a jiných rozpuštěných látek mezi buňkami</dc:title>
</cp:coreProperties>
</file>