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EB4-A558-4E33-BDF2-373C050EEC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modelování všech komponent buňky používáme lineárně elastický    konstitutivní model, který vzhledem k malému počtu konstitutivních parametrů usnadňuje jejich identifikaci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tabulce jsou hodnoty elastických konstant, které jsme použili jako výchozi pro citlivostní analýz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4AB-0FC0-4D54-BC3B-EBBFE288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9C6-983E-4208-9753-F5ABAA6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5B9-70B1-4EF1-9EBF-D4121E59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780-8760-4F2B-8BF4-DEF71163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A9B-AB70-440C-95B1-4D39C29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AA8-4D8D-4ED8-8F31-679E4B0F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614-3FB5-41D7-9B4D-54B373B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A1B-A3A4-4EED-B456-545118F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84B-7B6B-4759-BD53-C79334E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7DC-6A1F-4856-85C4-EF35E3C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94A-DC41-4127-B2D7-1ADEA22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877-2C76-4E88-A23B-99DF5D8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0C62-FCF2-42AB-AAC0-FC519CAA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Materiálové vlastnosti mode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šechny složky jsou modelovány jako lineárně elastické izotropní materiály (kvůli snížení počtu parametrů, které je třeba identifikovat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dosažení odezvy (tj. křivky hloubka vtlačení – síla) modelu odpovídající experimentům byly zvoleny elastické parametry jednotlivých komponent modelu podle následující tabul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921120"/>
          <a:ext cx="7772400" cy="2100240"/>
        </p:xfrm>
        <a:graphic>
          <a:graphicData uri="http://schemas.openxmlformats.org/drawingml/2006/table">
            <a:tbl>
              <a:tblPr/>
              <a:tblGrid>
                <a:gridCol w="1941480"/>
                <a:gridCol w="1008000"/>
                <a:gridCol w="1224000"/>
                <a:gridCol w="1728720"/>
                <a:gridCol w="1008360"/>
                <a:gridCol w="861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tub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filamen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v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ke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o-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užnost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kP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so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číslo [-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39:17Z</dcterms:created>
  <dc:creator>Jiri Bursa</dc:creator>
  <dc:description/>
  <dc:language>en-US</dc:language>
  <cp:lastModifiedBy>Jiri Bursa</cp:lastModifiedBy>
  <dcterms:modified xsi:type="dcterms:W3CDTF">2007-01-07T20:45:14Z</dcterms:modified>
  <cp:revision>2</cp:revision>
  <dc:subject/>
  <dc:title>Materiálové vlastnosti modelu</dc:title>
</cp:coreProperties>
</file>