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E29-A88C-4AB1-A5A2-2299192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FB7-C180-4158-A398-3FFB8E86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ECE-22CC-40DE-9178-05A0C8F6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ADB-370C-4845-B3FD-3AA627BB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3F1-1FF1-4C28-B008-835807C1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4C2-767C-4E26-A59E-264F222A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EC0-E241-49F5-B71C-DABC1D0F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ADD-D31D-4E47-A847-3226AEFA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61D-B27C-4212-8E36-6D11005F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88E-BF17-4AF2-A501-98DE27D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00-4A7A-4A7E-8A4A-244E511A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217-3390-4469-AE6A-3B1DD555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5F96-F00A-4938-917E-581D70C5F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rovnání výsledků vtlačovací zkoušky s MKP simulac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křivky (plné černé čáry) v porovnání se simulací s hrotem umístěným na centrálním membránovém receptoru (modrá čárkovaná čára), mimo receptor (červená tečkovaná čára dolní) a na bočním receptoru (červená tečkovaná čára horn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16000" y="1700280"/>
            <a:ext cx="7128000" cy="3960720"/>
            <a:chOff x="1116000" y="1700280"/>
            <a:chExt cx="7128000" cy="39607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116000" y="1700280"/>
              <a:ext cx="7128000" cy="3960720"/>
            </a:xfrm>
            <a:prstGeom prst="rect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2264400" y="1997640"/>
              <a:ext cx="5428440" cy="2944800"/>
            </a:xfrm>
            <a:custGeom>
              <a:avLst/>
              <a:gdLst/>
              <a:ahLst/>
              <a:rect l="l" t="t" r="r" b="b"/>
              <a:pathLst>
                <a:path w="5400" h="3600">
                  <a:moveTo>
                    <a:pt x="0" y="3600"/>
                  </a:moveTo>
                  <a:cubicBezTo>
                    <a:pt x="450" y="3450"/>
                    <a:pt x="900" y="3300"/>
                    <a:pt x="1800" y="2700"/>
                  </a:cubicBezTo>
                  <a:cubicBezTo>
                    <a:pt x="2700" y="2100"/>
                    <a:pt x="4800" y="420"/>
                    <a:pt x="540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0160" y="3634200"/>
              <a:ext cx="5332680" cy="1338840"/>
            </a:xfrm>
            <a:custGeom>
              <a:avLst/>
              <a:gdLst/>
              <a:ahLst/>
              <a:rect l="l" t="t" r="r" b="b"/>
              <a:pathLst>
                <a:path w="5400" h="1620">
                  <a:moveTo>
                    <a:pt x="0" y="1620"/>
                  </a:moveTo>
                  <a:cubicBezTo>
                    <a:pt x="900" y="1395"/>
                    <a:pt x="1800" y="1170"/>
                    <a:pt x="2700" y="900"/>
                  </a:cubicBezTo>
                  <a:cubicBezTo>
                    <a:pt x="3600" y="630"/>
                    <a:pt x="4920" y="30"/>
                    <a:pt x="54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38200" y="1700280"/>
              <a:ext cx="1976760" cy="3316680"/>
            </a:xfrm>
            <a:custGeom>
              <a:avLst/>
              <a:gdLst/>
              <a:ahLst/>
              <a:rect l="l" t="t" r="r" b="b"/>
              <a:pathLst>
                <a:path w="1800" h="3870">
                  <a:moveTo>
                    <a:pt x="0" y="3780"/>
                  </a:moveTo>
                  <a:cubicBezTo>
                    <a:pt x="390" y="3825"/>
                    <a:pt x="780" y="3870"/>
                    <a:pt x="1080" y="3240"/>
                  </a:cubicBezTo>
                  <a:cubicBezTo>
                    <a:pt x="1380" y="2610"/>
                    <a:pt x="1680" y="510"/>
                    <a:pt x="18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9640" y="5661000"/>
            <a:ext cx="8132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y podle: Miyazaki et al. (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 Tensile properties and loc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iffness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372280"/>
            <a:ext cx="24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 vtlačení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1316520" y="2707920"/>
            <a:ext cx="4460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 [n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3:41:35Z</dcterms:created>
  <dc:creator>Jiří Burša</dc:creator>
  <dc:description/>
  <dc:language>en-US</dc:language>
  <cp:lastModifiedBy>Jiří Burša</cp:lastModifiedBy>
  <dcterms:modified xsi:type="dcterms:W3CDTF">2007-01-04T13:55:08Z</dcterms:modified>
  <cp:revision>7</cp:revision>
  <dc:subject/>
  <dc:title>Experimental curves (solid black lines) compared with simulations with the tip located at central membrane receptor (blue dashed line) or outside this receptor (red dotted lines)</dc:title>
</cp:coreProperties>
</file>