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803-1E84-4D3B-82B3-C83216F034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je model strukturní diskrétní. Pro modelování mechanického chování cytoskeletu se někdy využívá tzv. tensegritních struktur ,které vykazují podobné mechanické vlastnosti jako buňky. O těchto strukturách si něco řekneme za chví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8E1-8787-4087-BD6B-A1E637AF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C68-5F31-41BE-AF1A-B2FCA4A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4CD-5B78-4300-8553-8623E58A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727-F7DD-405C-830A-5AAF2944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52F-9816-4CB8-B0BB-71AE006A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2F2-992C-466C-9CF8-11F2F9C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F91-7629-42EA-A6E5-E89738AB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BBC-7C8E-42EF-97A1-3C4EE771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3DF-D24F-4C60-8251-A8024F2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789-FE02-4B19-AFB5-34BC1E2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CFD-2104-4861-851B-A4B90BB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1D1-2164-409A-B445-787DD903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6960-0501-41CF-933E-32A320E961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Strukturní model – diskrétní </a:t>
            </a:r>
            <a:br>
              <a:rPr sz="37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(tensegritní sou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ltan C.; Stamenovic D.; Ingber D.E., A Computational Tensegrity Model Predicts Dynamic Rheological Behaviors in Living Cells, Annals of Biomedical Engineering, Vol. 32, No. 4, pp. 520–530,  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05160" cy="294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421" r="0" b="3323"/>
          <a:stretch/>
        </p:blipFill>
        <p:spPr>
          <a:xfrm>
            <a:off x="4724280" y="19810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9:21Z</dcterms:created>
  <dc:creator>Jiří Burša</dc:creator>
  <dc:description/>
  <dc:language>en-US</dc:language>
  <cp:lastModifiedBy>Jiří Burša</cp:lastModifiedBy>
  <dcterms:modified xsi:type="dcterms:W3CDTF">2007-01-04T14:29:45Z</dcterms:modified>
  <cp:revision>1</cp:revision>
  <dc:subject/>
  <dc:title>Strukturní model – diskrétní  (tensegritní soustava)</dc:title>
</cp:coreProperties>
</file>