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785-8505-4798-B8C4-D104242B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4929-74A0-436B-BDA5-41F45AB9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F1A-47F2-4DEA-B89C-2A55C0B0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DBD-764D-44F0-8C15-FE515F34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49C-8718-4F88-BF9B-DF147766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B45-9E9F-40EA-A7AE-FE2E76D9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0F1-E11E-4017-B027-190F2835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3E1-80BD-4E55-8B34-B304A8A2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46E-F47A-47FA-AFD5-B43594D8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E0F-F23E-41CF-AE0B-74491E13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5CB-ED72-4956-951F-A6A82CA8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B05-D4F5-45F3-8B3D-1AB837D9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769A-94A7-4A65-9723-E8D8C9FBBE1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Karcinoid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Chlopenní srdeční v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ákladní typy vad chlop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tenóz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- zmenšení průtočného průřezu při otevření chlopně – nedokonalé otevírání chlop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suficience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nedomykavost) - nedokonalé uzavírání chlopně – vyvolává zpětný tok krve (regurgita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říčiny chlopenních v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ngenitální (vrozen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nfekční endokarditida (záně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vmatický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egenerativní změny spojené s kalcifik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latace kořene aorty nebo plícn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arcinoid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neuroendokrinní nád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schemické (ruptura papilárního svalu po infarktu myokar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raumatické – mechanické poraně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rojev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tenokardie (bolest v srdeční krajině při námaz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uš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ruchy sinusového rytmu - fibrilace sí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toky dolních konče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ětšení j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2"/>
          <a:stretch/>
        </p:blipFill>
        <p:spPr>
          <a:xfrm>
            <a:off x="4284720" y="5373720"/>
            <a:ext cx="4464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Umělá srdeční chlopeň </a:t>
            </a: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Björk-Sh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3" name="Picture 7" descr="chlopen6"/>
          <p:cNvPicPr/>
          <p:nvPr/>
        </p:nvPicPr>
        <p:blipFill>
          <a:blip r:embed="rId1"/>
          <a:stretch/>
        </p:blipFill>
        <p:spPr>
          <a:xfrm>
            <a:off x="4456080" y="1025640"/>
            <a:ext cx="4292640" cy="506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2dubna2"/>
          <p:cNvPicPr/>
          <p:nvPr/>
        </p:nvPicPr>
        <p:blipFill>
          <a:blip r:embed="rId2"/>
          <a:srcRect l="0" t="30339" r="75744" b="11515"/>
          <a:stretch/>
        </p:blipFill>
        <p:spPr>
          <a:xfrm>
            <a:off x="703440" y="1197000"/>
            <a:ext cx="3581280" cy="3490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468360" y="5157720"/>
            <a:ext cx="460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 některých provedení těchto chlopní (velkých mitrálních) docházelo (s pravděpodobností 2-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 na rok života) k odlomení vtokové vzpěry – již se nepoužívají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Umělé srdeční chlopně diskové</a:t>
            </a: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701800" y="1197000"/>
            <a:ext cx="2014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vová kle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55640" y="47973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xtilní prstenec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zavírací těles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0" name="Picture 6" descr="u3v12"/>
          <p:cNvPicPr/>
          <p:nvPr/>
        </p:nvPicPr>
        <p:blipFill>
          <a:blip r:embed="rId1"/>
          <a:stretch/>
        </p:blipFill>
        <p:spPr>
          <a:xfrm>
            <a:off x="635040" y="1538280"/>
            <a:ext cx="3865680" cy="3043080"/>
          </a:xfrm>
          <a:prstGeom prst="rect">
            <a:avLst/>
          </a:prstGeom>
          <a:ln w="0">
            <a:noFill/>
          </a:ln>
        </p:spPr>
      </p:pic>
      <p:sp>
        <p:nvSpPr>
          <p:cNvPr id="91" name="Line 7"/>
          <p:cNvSpPr/>
          <p:nvPr/>
        </p:nvSpPr>
        <p:spPr>
          <a:xfrm flipV="1">
            <a:off x="1042920" y="342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 flipH="1" flipV="1">
            <a:off x="3132000" y="3715920"/>
            <a:ext cx="648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3059280" y="1557360"/>
            <a:ext cx="217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4" name="Picture 10" descr="chlopen8"/>
          <p:cNvPicPr/>
          <p:nvPr/>
        </p:nvPicPr>
        <p:blipFill>
          <a:blip r:embed="rId2"/>
          <a:stretch/>
        </p:blipFill>
        <p:spPr>
          <a:xfrm>
            <a:off x="4600440" y="1568520"/>
            <a:ext cx="3787920" cy="3012840"/>
          </a:xfrm>
          <a:prstGeom prst="rect">
            <a:avLst/>
          </a:prstGeom>
          <a:ln w="0">
            <a:noFill/>
          </a:ln>
        </p:spPr>
      </p:pic>
      <p:sp>
        <p:nvSpPr>
          <p:cNvPr id="95" name="Line 11"/>
          <p:cNvSpPr/>
          <p:nvPr/>
        </p:nvSpPr>
        <p:spPr>
          <a:xfrm flipV="1">
            <a:off x="3780000" y="3933360"/>
            <a:ext cx="208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755640" y="1052640"/>
            <a:ext cx="10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pěr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1403280" y="1413000"/>
            <a:ext cx="1800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1403280" y="1413000"/>
            <a:ext cx="64764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755640" y="5661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jörk-Shiley – modifikovaná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eal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Umělá srdeční chlopeň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kapko</a:t>
            </a: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vá</a:t>
            </a:r>
            <a:br>
              <a:rPr sz="3600"/>
            </a:b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Druckmüller-Dominik</a:t>
            </a: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755640" y="15573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kov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uličkov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apková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3" name="Picture 13" descr="2dubna2"/>
          <p:cNvPicPr/>
          <p:nvPr/>
        </p:nvPicPr>
        <p:blipFill>
          <a:blip r:embed="rId1"/>
          <a:stretch/>
        </p:blipFill>
        <p:spPr>
          <a:xfrm>
            <a:off x="320760" y="1844640"/>
            <a:ext cx="8643960" cy="3514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4"/>
          <p:cNvSpPr/>
          <p:nvPr/>
        </p:nvSpPr>
        <p:spPr>
          <a:xfrm>
            <a:off x="324000" y="566100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apková chlopeň neuspěla, nevýhody převažovaly nad hydrodynamickými přednostmi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Umělé srdeční chlopn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11280" y="1125360"/>
            <a:ext cx="777708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oulistá (St. Jude Medical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protéza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11280" y="5157720"/>
            <a:ext cx="4105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xtilní prstenec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vová klec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zavírací těles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9" name="Picture 7" descr="u3v13"/>
          <p:cNvPicPr/>
          <p:nvPr/>
        </p:nvPicPr>
        <p:blipFill>
          <a:blip r:embed="rId1"/>
          <a:stretch/>
        </p:blipFill>
        <p:spPr>
          <a:xfrm>
            <a:off x="611280" y="1557360"/>
            <a:ext cx="4289400" cy="3321000"/>
          </a:xfrm>
          <a:prstGeom prst="rect">
            <a:avLst/>
          </a:prstGeom>
          <a:ln w="0">
            <a:noFill/>
          </a:ln>
        </p:spPr>
      </p:pic>
      <p:sp>
        <p:nvSpPr>
          <p:cNvPr id="110" name="Line 8"/>
          <p:cNvSpPr/>
          <p:nvPr/>
        </p:nvSpPr>
        <p:spPr>
          <a:xfrm flipV="1">
            <a:off x="1690560" y="4508280"/>
            <a:ext cx="5050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2700360" y="429264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 flipV="1">
            <a:off x="900000" y="3573360"/>
            <a:ext cx="100800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6732720" y="4292640"/>
            <a:ext cx="503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4" name="Picture 13" descr="u3v14"/>
          <p:cNvPicPr/>
          <p:nvPr/>
        </p:nvPicPr>
        <p:blipFill>
          <a:blip r:embed="rId2"/>
          <a:srcRect l="5187" t="0" r="10375" b="0"/>
          <a:stretch/>
        </p:blipFill>
        <p:spPr>
          <a:xfrm>
            <a:off x="5003640" y="1557360"/>
            <a:ext cx="3576960" cy="3672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4"/>
          <p:cNvSpPr/>
          <p:nvPr/>
        </p:nvSpPr>
        <p:spPr>
          <a:xfrm>
            <a:off x="4859280" y="5518080"/>
            <a:ext cx="1873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ípy chlopně z denaturovaného biologického materiálu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875640" y="573408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ztužný prstenec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148360" y="2637000"/>
            <a:ext cx="360360" cy="28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Line 17"/>
          <p:cNvSpPr/>
          <p:nvPr/>
        </p:nvSpPr>
        <p:spPr>
          <a:xfrm flipV="1">
            <a:off x="5148360" y="3933720"/>
            <a:ext cx="15112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9" name="Line 18"/>
          <p:cNvSpPr/>
          <p:nvPr/>
        </p:nvSpPr>
        <p:spPr>
          <a:xfrm flipH="1" flipV="1">
            <a:off x="6300360" y="1773000"/>
            <a:ext cx="107964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Line 19"/>
          <p:cNvSpPr/>
          <p:nvPr/>
        </p:nvSpPr>
        <p:spPr>
          <a:xfrm flipV="1">
            <a:off x="7380360" y="3860280"/>
            <a:ext cx="504720" cy="17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Implantovaná bioprotéza v mitrální pozi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24" name="Picture 6" descr="kardio3"/>
          <p:cNvPicPr/>
          <p:nvPr/>
        </p:nvPicPr>
        <p:blipFill>
          <a:blip r:embed="rId1"/>
          <a:stretch/>
        </p:blipFill>
        <p:spPr>
          <a:xfrm>
            <a:off x="1589040" y="1347840"/>
            <a:ext cx="5791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Ukázka selhání umělé srdeční chlopně kulič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28" name="Picture 13" descr="2dubna1"/>
          <p:cNvPicPr/>
          <p:nvPr/>
        </p:nvPicPr>
        <p:blipFill>
          <a:blip r:embed="rId1"/>
          <a:stretch/>
        </p:blipFill>
        <p:spPr>
          <a:xfrm>
            <a:off x="1692360" y="1197000"/>
            <a:ext cx="575316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KP model bioprotéz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9640" y="1052640"/>
            <a:ext cx="777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tevřená poloh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zavřená poloh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32" name="Picture 6" descr="chlopen7"/>
          <p:cNvPicPr/>
          <p:nvPr/>
        </p:nvPicPr>
        <p:blipFill>
          <a:blip r:embed="rId1"/>
          <a:stretch/>
        </p:blipFill>
        <p:spPr>
          <a:xfrm>
            <a:off x="623880" y="1700280"/>
            <a:ext cx="78948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236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Schéma  anatomické struktury mitrální chlop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ázek 4" descr="mitrální.JPG"/>
          <p:cNvPicPr/>
          <p:nvPr/>
        </p:nvPicPr>
        <p:blipFill>
          <a:blip r:embed="rId1"/>
          <a:stretch/>
        </p:blipFill>
        <p:spPr>
          <a:xfrm>
            <a:off x="428760" y="1785960"/>
            <a:ext cx="828180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90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Léčba c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hlopenní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 srdeční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 vad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 její ri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éčb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dpůrná medikamentóz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lastika chlopně (např. perkutánní balonková pulmonální valvuloplast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áhrada vadné chlopně bioprotézou nebo mechanickou protézou – nejběžnější typ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lič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s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voulis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oproté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izi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nik trombů v souvislosti s turbulencí - u umělých chlopní doživotní antikoagulační léč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ekční protetická endokarditida (záně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ysfunkce chlop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ivotnost - degenerace biologického chlopenního materiálu spojená s retrakcí cípů, kalcifikace způsobující změnu mechanických vlastnost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emo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Morfologie a struktura aortální chlop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7432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storov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chema listů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lamely) aortální chlopn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erveně vyznačeno jejich uchycení ke stěně aortálního si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hlopen1"/>
          <p:cNvPicPr/>
          <p:nvPr/>
        </p:nvPicPr>
        <p:blipFill>
          <a:blip r:embed="rId1"/>
          <a:stretch/>
        </p:blipFill>
        <p:spPr>
          <a:xfrm>
            <a:off x="539640" y="1989000"/>
            <a:ext cx="225108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hlopen3"/>
          <p:cNvPicPr/>
          <p:nvPr/>
        </p:nvPicPr>
        <p:blipFill>
          <a:blip r:embed="rId2"/>
          <a:stretch/>
        </p:blipFill>
        <p:spPr>
          <a:xfrm>
            <a:off x="2916360" y="3213000"/>
            <a:ext cx="2708280" cy="2881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4140360" y="907920"/>
            <a:ext cx="45352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chema vrstevnaté struktury listu aortální chlopně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Times New Roman"/>
              </a:rPr>
              <a:t>Modr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fibrosa – vazivová vrstva s převahou obvodových kolagenních vláken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66"/>
                </a:solidFill>
                <a:latin typeface="Times New Roman"/>
              </a:rPr>
              <a:t>Červ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spongiosa – řídká želatinová trámčina – zajišťuje kluzné vlastnosti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66"/>
                </a:solidFill>
                <a:latin typeface="Times New Roman"/>
              </a:rPr>
              <a:t>Zel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ventricularis – vrstva z elastinu a kolagenu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3" name="Picture 9" descr="chlopen5"/>
          <p:cNvPicPr/>
          <p:nvPr/>
        </p:nvPicPr>
        <p:blipFill>
          <a:blip r:embed="rId3"/>
          <a:srcRect l="3447" t="0" r="0" b="0"/>
          <a:stretch/>
        </p:blipFill>
        <p:spPr>
          <a:xfrm>
            <a:off x="5649840" y="3213000"/>
            <a:ext cx="30258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Struktura listu aortální chlop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ísla udávají tlouštku listu v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hlopen2"/>
          <p:cNvPicPr/>
          <p:nvPr/>
        </p:nvPicPr>
        <p:blipFill>
          <a:blip r:embed="rId1"/>
          <a:stretch/>
        </p:blipFill>
        <p:spPr>
          <a:xfrm>
            <a:off x="971640" y="2060640"/>
            <a:ext cx="78483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Mechanické vlastnosti listu chlop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4103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odul pružnosti v tangenciálním směru 0,3-5 MPa; závisí n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vápenatění chlopně, které je ovlivněno jejím mechanickým namáhá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enaturaci – modul pružnosti klesá, tažnost ros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anedbatelná hystere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loušťka šipky – modul pru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élka šipky – taž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hlopen4"/>
          <p:cNvPicPr/>
          <p:nvPr/>
        </p:nvPicPr>
        <p:blipFill>
          <a:blip r:embed="rId1"/>
          <a:stretch/>
        </p:blipFill>
        <p:spPr>
          <a:xfrm>
            <a:off x="6019920" y="1341360"/>
            <a:ext cx="236844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5942160" y="1052640"/>
            <a:ext cx="259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značení směrů na listu aortální chlopně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1" name="Picture 6" descr="chlopne-anizo"/>
          <p:cNvPicPr/>
          <p:nvPr/>
        </p:nvPicPr>
        <p:blipFill>
          <a:blip r:embed="rId2"/>
          <a:srcRect l="0" t="25752" r="0" b="0"/>
          <a:stretch/>
        </p:blipFill>
        <p:spPr>
          <a:xfrm>
            <a:off x="2700360" y="4294080"/>
            <a:ext cx="6048360" cy="1871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2989440" y="4005360"/>
            <a:ext cx="5686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zotropní materiál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ibrosa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Ventricularis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Chlopně postižené stenóz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826920" y="1413000"/>
            <a:ext cx="756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ez výrazné kalcifikac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ě kalcifikovaná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3" descr="kardio2"/>
          <p:cNvPicPr/>
          <p:nvPr/>
        </p:nvPicPr>
        <p:blipFill>
          <a:blip r:embed="rId1"/>
          <a:stretch/>
        </p:blipFill>
        <p:spPr>
          <a:xfrm>
            <a:off x="349200" y="1957320"/>
            <a:ext cx="4438800" cy="3848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kardio1"/>
          <p:cNvPicPr/>
          <p:nvPr/>
        </p:nvPicPr>
        <p:blipFill>
          <a:blip r:embed="rId2"/>
          <a:stretch/>
        </p:blipFill>
        <p:spPr>
          <a:xfrm>
            <a:off x="4808520" y="1982880"/>
            <a:ext cx="394020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90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Typy náhrad srdeční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 chlop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) Biologické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oprotézy)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 stentu umístěná denaturovaná chlopeň z prasete nebo listy vytvořeny z telecího perikar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výhody – pozvolná kalcifikace, zvýšení tuhosti listů, vznik trhlinek v nejnamáhanějších místech – postupná degrad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éměř ideální hem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ichý c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může dojít k náhlému selh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) Umělé – samočinné ventily různých konstrukčních princip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ípaté – není vhodný materi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ličková (Starr-Edwards, Smeloff-Cu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sková (Björk-Shiley, Beall) – menší setrvačná hmot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výh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molý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modynamika- turbulence – vznik tromb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ivot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Umělé srdeční chlopně kuličkov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2" name="Picture 5" descr="u3v11"/>
          <p:cNvPicPr/>
          <p:nvPr/>
        </p:nvPicPr>
        <p:blipFill>
          <a:blip r:embed="rId1"/>
          <a:srcRect l="0" t="0" r="57721" b="0"/>
          <a:stretch/>
        </p:blipFill>
        <p:spPr>
          <a:xfrm>
            <a:off x="638280" y="1628640"/>
            <a:ext cx="3573360" cy="3395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u3v11"/>
          <p:cNvPicPr/>
          <p:nvPr/>
        </p:nvPicPr>
        <p:blipFill>
          <a:blip r:embed="rId2"/>
          <a:srcRect l="49476" t="0" r="0" b="0"/>
          <a:stretch/>
        </p:blipFill>
        <p:spPr>
          <a:xfrm>
            <a:off x="4260960" y="1628640"/>
            <a:ext cx="4343400" cy="3463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1238400" y="1125360"/>
            <a:ext cx="62132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r-Edwar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meloff-Cutter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755640" y="5300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zavírací těles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ová kle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xtilní prstenec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" name="Line 9"/>
          <p:cNvSpPr/>
          <p:nvPr/>
        </p:nvSpPr>
        <p:spPr>
          <a:xfrm flipV="1">
            <a:off x="1403280" y="3573360"/>
            <a:ext cx="28908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Line 10"/>
          <p:cNvSpPr/>
          <p:nvPr/>
        </p:nvSpPr>
        <p:spPr>
          <a:xfrm flipH="1" flipV="1">
            <a:off x="3058920" y="2349360"/>
            <a:ext cx="1152360" cy="29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Line 11"/>
          <p:cNvSpPr/>
          <p:nvPr/>
        </p:nvSpPr>
        <p:spPr>
          <a:xfrm flipV="1">
            <a:off x="4211640" y="2491920"/>
            <a:ext cx="136836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Line 12"/>
          <p:cNvSpPr/>
          <p:nvPr/>
        </p:nvSpPr>
        <p:spPr>
          <a:xfrm flipV="1">
            <a:off x="4211640" y="486864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0" name="Line 13"/>
          <p:cNvSpPr/>
          <p:nvPr/>
        </p:nvSpPr>
        <p:spPr>
          <a:xfrm flipV="1">
            <a:off x="6877080" y="407664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05:46Z</dcterms:modified>
  <cp:revision>283</cp:revision>
  <dc:subject/>
  <dc:title>Biomechanics  of smooth muscle cells </dc:title>
</cp:coreProperties>
</file>