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C53C-3969-4157-ADBD-2FE5745F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61D-BE7A-4F21-B906-03AD30B4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02DC-0BAA-4982-B169-37856D50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B84-ADA1-437A-91DE-565F8817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F33-975C-4931-B603-E1CABDC1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5C59-2083-494E-B39A-FB58DCA0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C16-6910-40D6-A002-E4D527CA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8D5C-1C8A-4B88-A41B-FE4A1FD2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4747-CCFC-4E94-B60F-F364FD8E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4F82-215C-4D14-9457-10FE5DB2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273-B49C-48C6-AB21-5C4B56D7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1FDF-0CDD-4AE9-B0C7-DCC0992D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ADCE-4049-4930-AF94-3C0EB7D98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netická pinzet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agnetic tweez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9414" r="0" b="0"/>
          <a:stretch/>
        </p:blipFill>
        <p:spPr>
          <a:xfrm>
            <a:off x="1403280" y="1773360"/>
            <a:ext cx="5977080" cy="3671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40160" y="1897200"/>
            <a:ext cx="129528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kušební kom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38640" y="4255920"/>
            <a:ext cx="1476360" cy="5702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leněná podlož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5:55:08Z</dcterms:created>
  <dc:creator>Jiri Bursa</dc:creator>
  <dc:description/>
  <dc:language>en-US</dc:language>
  <cp:lastModifiedBy>umt</cp:lastModifiedBy>
  <dcterms:modified xsi:type="dcterms:W3CDTF">2007-01-08T12:49:21Z</dcterms:modified>
  <cp:revision>2</cp:revision>
  <dc:subject/>
  <dc:title>Magnetická pinzeta (magnetic tweezer)</dc:title>
</cp:coreProperties>
</file>