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613-B880-4400-A32A-9A0F91E1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63F-DCBD-4CF5-B208-21A7E345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9D0-96A5-46F7-AE86-666D71B9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9D7-3436-441C-869B-0CBD2DB0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7C1-5234-4025-932C-3ED1A04C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030-2D6A-4434-82D4-BCC3462B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F32-6169-4D16-B345-5EB9E0DC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B87-B5BC-41AC-9580-0B26939E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90F-9B42-4EE6-8E73-875E304F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3E0-DE1B-40B3-97AF-47818593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C1C-03EB-4B8C-A553-00EE8C8F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A3E-406D-4F1F-B60A-3965D345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5DA7-DE9B-4C0F-9E00-84767F4866E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chéma zonuly adherens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– méně pevné  spojení se širokou štěrbinou mezi oběma membránami, založené na iontové vaz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89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414972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nová fila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4720" y="4676760"/>
            <a:ext cx="122364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1800" y="1579680"/>
            <a:ext cx="201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17:54Z</dcterms:created>
  <dc:creator>Jiri Bursa</dc:creator>
  <dc:description/>
  <dc:language>en-US</dc:language>
  <cp:lastModifiedBy>Jiri Bursa</cp:lastModifiedBy>
  <dcterms:modified xsi:type="dcterms:W3CDTF">2006-12-27T12:37:44Z</dcterms:modified>
  <cp:revision>2</cp:revision>
  <dc:subject/>
  <dc:title>Scheme of anchoring junction  – less cohesive connection with a wide gap between both membranes, based on ion cohesion</dc:title>
</cp:coreProperties>
</file>