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C5F-DEF9-4DA1-A2BD-5BEF3BE2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93F-2138-4618-B467-9565C8F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985-7A55-4091-B85A-929E2612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DD6-BFB2-46EC-B6D0-3D3A223A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D0B-A39B-414B-BED9-1B0FE816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7C3-CD89-4B14-80D1-3B7C8E15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1F8-183A-40CA-B1C3-16160D7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924-851C-474A-86E4-C4BA7A3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F3C-4F8D-49F4-BA27-3E8335C4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565-9D6A-4F84-A251-918B094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5BE-7E91-4287-A7BC-841928E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8CE-3E18-4BD6-B2E6-E7AF11F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6ADD-4803-4DFD-B380-F121A9BB70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57243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cture of arterial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7"/>
          <p:cNvGrpSpPr/>
          <p:nvPr/>
        </p:nvGrpSpPr>
        <p:grpSpPr>
          <a:xfrm>
            <a:off x="468360" y="333360"/>
            <a:ext cx="8064360" cy="6048000"/>
            <a:chOff x="468360" y="333360"/>
            <a:chExt cx="8064360" cy="6048000"/>
          </a:xfrm>
        </p:grpSpPr>
        <p:pic>
          <p:nvPicPr>
            <p:cNvPr id="43" name="Picture 4" descr="CEVA"/>
            <p:cNvPicPr/>
            <p:nvPr/>
          </p:nvPicPr>
          <p:blipFill>
            <a:blip r:embed="rId1"/>
            <a:stretch/>
          </p:blipFill>
          <p:spPr>
            <a:xfrm>
              <a:off x="1663560" y="1947600"/>
              <a:ext cx="6126120" cy="44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468360" y="4285440"/>
              <a:ext cx="1223640" cy="11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outer elastic membra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6518160" y="4043520"/>
              <a:ext cx="1295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inner elastic membrá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>
              <a:off x="4610160" y="1639800"/>
              <a:ext cx="12952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rythr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3132000" y="2308320"/>
              <a:ext cx="1387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ndothelium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2700360" y="2635560"/>
              <a:ext cx="1004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intim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2124000" y="3273840"/>
              <a:ext cx="9856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medi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6627600" y="1250280"/>
              <a:ext cx="1158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leuc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86680" y="333360"/>
              <a:ext cx="13460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thromb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5784840" y="5472720"/>
              <a:ext cx="12286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adventitia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 flipV="1">
              <a:off x="2762280" y="5753520"/>
              <a:ext cx="3184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V="1">
              <a:off x="7692840" y="706320"/>
              <a:ext cx="17784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>
              <a:off x="7256520" y="163980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12400"/>
            <a:ext cx="84247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tructure of aortic wall obtained by histolog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Aorta-histo1"/>
          <p:cNvPicPr/>
          <p:nvPr/>
        </p:nvPicPr>
        <p:blipFill>
          <a:blip r:embed="rId1"/>
          <a:srcRect l="0" t="0" r="0" b="13416"/>
          <a:stretch/>
        </p:blipFill>
        <p:spPr>
          <a:xfrm>
            <a:off x="2411280" y="635040"/>
            <a:ext cx="4589640" cy="5962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977160" y="1484280"/>
            <a:ext cx="1482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orcein for elastic fibre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52360" y="1413000"/>
            <a:ext cx="15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haematoxyline and eosin for SMC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604960" y="5805360"/>
            <a:ext cx="2266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8T08:36:51Z</dcterms:modified>
  <cp:revision>258</cp:revision>
  <dc:subject/>
  <dc:title>Biomechanics  of smooth muscle cells </dc:title>
</cp:coreProperties>
</file>