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CC7E-AF0B-48CC-A5B7-C38C15A5B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8DC6-6606-4458-9975-1B40C388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CB6E-D829-4437-9FD7-72C88DC20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28BD-4A0E-4635-829D-A29AB84BA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7546-44A2-44C4-8442-7A687754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2FB3-F654-4426-B8D4-FC02CFB8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8AA7-0ECE-4BDA-95A0-8DB4CE73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FC96-8852-4480-AA16-AB647F2E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C60D-9ED0-4870-B9D1-561EE72E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A6DD-18DB-4BCB-B603-5D18129F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926C-C1FA-4372-B8D3-CE02BECD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9806-52F5-4ABA-8ABE-B63FB6B5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070A-5393-41F5-9302-B199A6A93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6985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ff"/>
                </a:solidFill>
                <a:latin typeface="Times New Roman"/>
              </a:rPr>
              <a:t>Mechanical properties of elas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4" descr="Elastin1.JPG"/>
          <p:cNvPicPr/>
          <p:nvPr/>
        </p:nvPicPr>
        <p:blipFill>
          <a:blip r:embed="rId1"/>
          <a:stretch/>
        </p:blipFill>
        <p:spPr>
          <a:xfrm>
            <a:off x="611280" y="1989000"/>
            <a:ext cx="2838240" cy="404028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5" descr="Elastin2.JPG"/>
          <p:cNvPicPr/>
          <p:nvPr/>
        </p:nvPicPr>
        <p:blipFill>
          <a:blip r:embed="rId2"/>
          <a:stretch/>
        </p:blipFill>
        <p:spPr>
          <a:xfrm>
            <a:off x="3924360" y="4213080"/>
            <a:ext cx="3973320" cy="18799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4427640" y="1427040"/>
            <a:ext cx="36813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asured with ligament after having removed the collagen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= 200-400 kPa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ery narrow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yster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s loop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uctilit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p t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130%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egligible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elax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ion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1476360" y="2001960"/>
            <a:ext cx="1943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eck ligament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5292720" y="4078440"/>
            <a:ext cx="1943280" cy="50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eck ligament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1403280" y="3741840"/>
            <a:ext cx="1008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ading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268360" y="4654440"/>
            <a:ext cx="129564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loading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6084720" y="5805360"/>
            <a:ext cx="201636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ime (minutes)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2268360" y="5734080"/>
            <a:ext cx="151164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retch ratio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6985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ff"/>
                </a:solidFill>
                <a:latin typeface="Times New Roman"/>
              </a:rPr>
              <a:t>Mechanical properties of coll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Obrázek 7" descr="Kolagen1.JPG"/>
          <p:cNvPicPr/>
          <p:nvPr/>
        </p:nvPicPr>
        <p:blipFill>
          <a:blip r:embed="rId1"/>
          <a:stretch/>
        </p:blipFill>
        <p:spPr>
          <a:xfrm>
            <a:off x="468360" y="1960560"/>
            <a:ext cx="3832200" cy="4421160"/>
          </a:xfrm>
          <a:prstGeom prst="rect">
            <a:avLst/>
          </a:prstGeom>
          <a:ln w="0">
            <a:noFill/>
          </a:ln>
        </p:spPr>
      </p:pic>
      <p:pic>
        <p:nvPicPr>
          <p:cNvPr id="53" name="Obrázek 8" descr="Kolagen2.JPG"/>
          <p:cNvPicPr/>
          <p:nvPr/>
        </p:nvPicPr>
        <p:blipFill>
          <a:blip r:embed="rId2"/>
          <a:stretch/>
        </p:blipFill>
        <p:spPr>
          <a:xfrm>
            <a:off x="3995640" y="3973680"/>
            <a:ext cx="4619880" cy="2263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4716360" y="1197000"/>
            <a:ext cx="36813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asured with a tendon – created of a nearly pure collagen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=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00-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00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a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arrow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yster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s loop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uctilit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4 - 1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0%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rength 90-130 MPa;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lax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ion more pronounced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1836720" y="2062080"/>
            <a:ext cx="1943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endon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5581800" y="4005360"/>
            <a:ext cx="19429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endon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2916360" y="5950080"/>
            <a:ext cx="1511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retch ratio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6588000" y="5878440"/>
            <a:ext cx="201636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ime (minutes)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7416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ff"/>
                </a:solidFill>
                <a:latin typeface="Times New Roman"/>
              </a:rPr>
              <a:t>Mechanical properties of smooth muscle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rázek 7" descr="Hladký_sval1.JPG"/>
          <p:cNvPicPr/>
          <p:nvPr/>
        </p:nvPicPr>
        <p:blipFill>
          <a:blip r:embed="rId1"/>
          <a:stretch/>
        </p:blipFill>
        <p:spPr>
          <a:xfrm>
            <a:off x="539640" y="1197000"/>
            <a:ext cx="3629160" cy="5040360"/>
          </a:xfrm>
          <a:prstGeom prst="rect">
            <a:avLst/>
          </a:prstGeom>
          <a:ln w="0">
            <a:noFill/>
          </a:ln>
        </p:spPr>
      </p:pic>
      <p:pic>
        <p:nvPicPr>
          <p:cNvPr id="61" name="Obrázek 8" descr="Hladký_sval2.JPG"/>
          <p:cNvPicPr/>
          <p:nvPr/>
        </p:nvPicPr>
        <p:blipFill>
          <a:blip r:embed="rId2"/>
          <a:stretch/>
        </p:blipFill>
        <p:spPr>
          <a:xfrm>
            <a:off x="3995640" y="4151160"/>
            <a:ext cx="4727520" cy="18702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6516720" y="5734080"/>
            <a:ext cx="2016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ime (minutes)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700360" y="5805360"/>
            <a:ext cx="1511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retch ratio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437080" y="4149720"/>
            <a:ext cx="2448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mooth muscle tissue of intestine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619280" y="1700280"/>
            <a:ext cx="2448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mooth muscle tissue of intestine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4716360" y="1268280"/>
            <a:ext cx="36813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asured with smooth muscle tissue of intestine in a passive (relaxed) state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=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kPa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road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yster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s loop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ery prononounced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elax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ion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Influence of smooth muscle excitation on the arterial wall stiffness (canine carotid arte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rázek 3" descr="vliv-svaloviny.jpg"/>
          <p:cNvPicPr/>
          <p:nvPr/>
        </p:nvPicPr>
        <p:blipFill>
          <a:blip r:embed="rId1"/>
          <a:srcRect l="12126" t="0" r="0" b="11597"/>
          <a:stretch/>
        </p:blipFill>
        <p:spPr>
          <a:xfrm>
            <a:off x="3714840" y="1428840"/>
            <a:ext cx="4754520" cy="50004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2916360" y="1989000"/>
            <a:ext cx="115416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nner pressure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076640" y="5877000"/>
            <a:ext cx="388008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hange of artery radius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6443640" y="5237280"/>
            <a:ext cx="19461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mooth muscle cells relaxed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4572000" y="4365720"/>
            <a:ext cx="1946160" cy="4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mooth muscle cells excited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1-07-03T09:08:18Z</dcterms:modified>
  <cp:revision>295</cp:revision>
  <dc:subject/>
  <dc:title>Biomechanics  of smooth muscle cells </dc:title>
</cp:coreProperties>
</file>