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77A1-0837-4C92-979D-93E8F7E143F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9462-054D-4288-8D2C-B9DB4CCCA4F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EB4A-62EA-4C5B-BF8F-1D1DB443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F4C1-7F7F-4D9C-9C1C-87EAD005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C5D7-0E5D-407C-866D-052C7EFDE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F033-C6CA-4707-A71E-B5C81597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5F93-78C3-461D-8A2A-9D9211C5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99A8-C615-48D9-AD8F-D326B4E7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6CFE-B138-4D93-959A-6B9F7D66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2D67-9755-40E9-9418-6AC4B343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E600-F2B2-431F-AA0B-6D713BEB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FB70-E6C2-489A-A87D-707C8DFF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A7DE-33C8-4E7C-935D-5506705D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BAA1-ED6E-4EED-91C2-2C90ECFD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37A9-2EA9-4012-8DC7-B451A4D14AD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Vzájemné přepočtové vztahy pro tenzory přetvoř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3"/>
              <p:cNvSpPr txBox="1"/>
              <p:nvPr/>
            </p:nvSpPr>
            <p:spPr>
              <a:xfrm>
                <a:off x="1979640" y="4941720"/>
                <a:ext cx="11332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" name="Rectangle 4"/>
          <p:cNvSpPr/>
          <p:nvPr/>
        </p:nvSpPr>
        <p:spPr>
          <a:xfrm>
            <a:off x="468360" y="1525680"/>
            <a:ext cx="813600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Nejvhodnější pro vzájemný přepočet tenzorů přetvoření jsou poměrná protažení </a:t>
            </a:r>
            <a:r>
              <a:rPr b="0" lang="el-GR" sz="2000" spc="-1" strike="noStrike">
                <a:solidFill>
                  <a:srgbClr val="333333"/>
                </a:solidFill>
                <a:latin typeface="Tahoma"/>
                <a:ea typeface="Tahoma"/>
              </a:rPr>
              <a:t>λ</a:t>
            </a:r>
            <a:r>
              <a:rPr b="0" lang="cs-CZ" sz="2000" spc="-1" strike="noStrike" baseline="-25000">
                <a:solidFill>
                  <a:srgbClr val="333333"/>
                </a:solidFill>
                <a:latin typeface="Tahoma"/>
                <a:ea typeface="Tahoma"/>
              </a:rPr>
              <a:t>i</a:t>
            </a: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, tedy složky tenzoru deformačního gradientu. Pro jednoduchost jsou uvedena jen hlavní přetvoření jako funkce hlavních poměrných protažení </a:t>
            </a:r>
            <a:r>
              <a:rPr b="0" lang="el-GR" sz="2000" spc="-1" strike="noStrike">
                <a:solidFill>
                  <a:srgbClr val="333333"/>
                </a:solidFill>
                <a:latin typeface="Arial"/>
              </a:rPr>
              <a:t>λ</a:t>
            </a:r>
            <a:r>
              <a:rPr b="0" lang="cs-CZ" sz="2000" spc="-1" strike="noStrike" baseline="-25000">
                <a:solidFill>
                  <a:srgbClr val="333333"/>
                </a:solidFill>
                <a:latin typeface="Arial"/>
              </a:rPr>
              <a:t>i</a:t>
            </a: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Smluvní přetvoření - vztah se odvozuje v základní PP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Green-Lagran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Almansi-Ham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Cauch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6"/>
              <p:cNvSpPr txBox="1"/>
              <p:nvPr/>
            </p:nvSpPr>
            <p:spPr>
              <a:xfrm>
                <a:off x="6769080" y="2587680"/>
                <a:ext cx="11160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7"/>
              <p:cNvSpPr txBox="1"/>
              <p:nvPr/>
            </p:nvSpPr>
            <p:spPr>
              <a:xfrm>
                <a:off x="2838600" y="3230640"/>
                <a:ext cx="53337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8"/>
              <p:cNvSpPr txBox="1"/>
              <p:nvPr/>
            </p:nvSpPr>
            <p:spPr>
              <a:xfrm>
                <a:off x="2690640" y="4005360"/>
                <a:ext cx="548172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zdíly mezi jednotlivými definicemi tenzoru přetvoře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5"/>
          <p:cNvGraphicFramePr/>
          <p:nvPr/>
        </p:nvGraphicFramePr>
        <p:xfrm>
          <a:off x="457200" y="2743200"/>
          <a:ext cx="4792680" cy="32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43200"/>
                    <a:ext cx="479268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Rectangle 7"/>
          <p:cNvSpPr/>
          <p:nvPr/>
        </p:nvSpPr>
        <p:spPr>
          <a:xfrm>
            <a:off x="1187280" y="2492280"/>
            <a:ext cx="3024360" cy="730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1187280" y="2708280"/>
            <a:ext cx="4537080" cy="730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>
            <a:off x="4211640" y="2540160"/>
            <a:ext cx="151128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268360" y="2133720"/>
            <a:ext cx="64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2916360" y="27813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4572000" y="2133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13"/>
              <p:cNvSpPr txBox="1"/>
              <p:nvPr/>
            </p:nvSpPr>
            <p:spPr>
              <a:xfrm>
                <a:off x="5187960" y="2708280"/>
                <a:ext cx="31161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14"/>
              <p:cNvSpPr txBox="1"/>
              <p:nvPr/>
            </p:nvSpPr>
            <p:spPr>
              <a:xfrm>
                <a:off x="5243400" y="3645000"/>
                <a:ext cx="30006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5"/>
              <p:cNvSpPr txBox="1"/>
              <p:nvPr/>
            </p:nvSpPr>
            <p:spPr>
              <a:xfrm>
                <a:off x="5289480" y="4292640"/>
                <a:ext cx="18748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16"/>
              <p:cNvSpPr txBox="1"/>
              <p:nvPr/>
            </p:nvSpPr>
            <p:spPr>
              <a:xfrm>
                <a:off x="5381640" y="4946760"/>
                <a:ext cx="21430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Text Box 28"/>
          <p:cNvSpPr/>
          <p:nvPr/>
        </p:nvSpPr>
        <p:spPr>
          <a:xfrm>
            <a:off x="1619280" y="1700280"/>
            <a:ext cx="4681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20:01:20Z</dcterms:created>
  <dc:creator>Jiri Bursa</dc:creator>
  <dc:description/>
  <dc:language>en-US</dc:language>
  <cp:lastModifiedBy>Prof. Jindrich Petruska</cp:lastModifiedBy>
  <dcterms:modified xsi:type="dcterms:W3CDTF">2010-01-08T11:55:01Z</dcterms:modified>
  <cp:revision>7</cp:revision>
  <dc:subject/>
  <dc:title>Vzájemné přepočtové vztahy pro tenzory přetvoření</dc:title>
</cp:coreProperties>
</file>