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31E-65A1-491C-A789-157CCC25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664-22DC-4003-9595-EEF998DA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6FC-148B-4FD2-8038-03185231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7A5-6BBC-406D-9071-9577C63A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32B-4A10-4782-B473-03C9BA50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0E1-685C-4EB4-8120-DA00DD4D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C90-C05A-4CCD-9939-B182982E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BC0-BD1F-4E14-9F59-53710136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E69-C936-4A38-A482-5144B9E3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1692-4EA6-4679-BBE1-9C2057FA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489-273B-42F0-A810-B0FF0A09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781-1375-4C73-85BD-C205C831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EA11-687C-46A0-9A3C-A607EB93A52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nergeticky%20konjugovan&#233;%20tenzory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435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iola-Kirchhoffův tenzor napětí 2. dru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748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2. Piola-Kirchhoffův (označovaný také jen jako Kirchhoffův) tenzor napětí je definován jako elementární síla dF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Arial"/>
              </a:rPr>
              <a:t>0i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 vztažená na původní (tj. nedeformovanou) plochu elementu. Tato síla je však při přenášení na původní element změněna oproti skutečné síle  dF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 stejným poměrem jako elementární rozměr v odpovídajícím směru. Ten se mění při zatížení podle vztahu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       , re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při zpětné transformaci do nedeformovaného tvaru. Podobně transformujeme i elementární sí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takže  napětí 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Konkrétně pro normálové napětí ve směru 1 plat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Tento tenzor nemá jasný fyzikální význam, používá se proto, že je i pro velká přetvoření symetrický a je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ergeticky konjugovaný 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s Green-Lagrangeovým tenzorem přetvoř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2700360" y="3929040"/>
                <a:ext cx="1508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7"/>
              <p:cNvSpPr txBox="1"/>
              <p:nvPr/>
            </p:nvSpPr>
            <p:spPr>
              <a:xfrm>
                <a:off x="6365880" y="4640400"/>
                <a:ext cx="15764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9"/>
              <p:cNvSpPr txBox="1"/>
              <p:nvPr/>
            </p:nvSpPr>
            <p:spPr>
              <a:xfrm>
                <a:off x="3389400" y="2482920"/>
                <a:ext cx="15015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0"/>
              <p:cNvSpPr txBox="1"/>
              <p:nvPr/>
            </p:nvSpPr>
            <p:spPr>
              <a:xfrm>
                <a:off x="6183360" y="2482920"/>
                <a:ext cx="14605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1"/>
              <p:cNvSpPr txBox="1"/>
              <p:nvPr/>
            </p:nvSpPr>
            <p:spPr>
              <a:xfrm>
                <a:off x="5487840" y="3419640"/>
                <a:ext cx="15210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6:19Z</dcterms:created>
  <dc:creator>Jiri Bursa</dc:creator>
  <dc:description/>
  <dc:language>en-US</dc:language>
  <cp:lastModifiedBy>Prof. Jindrich Petruska</cp:lastModifiedBy>
  <dcterms:modified xsi:type="dcterms:W3CDTF">2010-01-08T11:53:45Z</dcterms:modified>
  <cp:revision>9</cp:revision>
  <dc:subject/>
  <dc:title>Piola-Kirchhoffův tenzor napětí 1. druhu </dc:title>
</cp:coreProperties>
</file>