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9D8-ADF3-400F-9709-429489FF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FC8-55A6-41FD-8316-064C2A0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3E9-AA92-428C-A41F-DC5E3510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AFF-2BFD-4EC7-B9A0-00D3BFD6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FDD-6EB8-4764-80AC-68E276D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543-6CC8-4161-849C-F15EDF7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DB2-5E87-4179-B8FE-37F95066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935-55D5-4313-8C23-618714A1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962-633E-4AB7-ACAE-5D21C95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FB8-F75B-4EC5-98A7-EBEAC60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BD7-380D-4F9E-A27F-D1FD61B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7CE-590F-4101-8AA4-10C565C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D4EC-D77C-47A1-9860-81D08C8099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značení deformovaných a nedeformovaných souřad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068480" y="2006640"/>
            <a:ext cx="724860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1:44Z</dcterms:created>
  <dc:creator>Jiri Bursa</dc:creator>
  <dc:description/>
  <dc:language>en-US</dc:language>
  <cp:lastModifiedBy>Prof. Jindrich Petruska</cp:lastModifiedBy>
  <dcterms:modified xsi:type="dcterms:W3CDTF">2010-01-08T11:52:40Z</dcterms:modified>
  <cp:revision>2</cp:revision>
  <dc:subject/>
  <dc:title>Označení deformovaných a nedeformovaných souřadnic</dc:title>
</cp:coreProperties>
</file>