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93F-6E40-4C4D-9280-A3958A0FB6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D78-C5C2-41AD-9482-681BB75BB6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FC0-4147-4C64-8377-75BF65404D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F85-DA6E-4A70-AF94-A7DAE1CE8D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9FA3-131E-42F6-B114-A7A5237CA0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E03-C361-4C6C-BBE4-0A2F5EBA54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6BD7-DAA9-4A73-B61C-0C0ED73838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3B0-263A-4F6B-BB8B-3D925AE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4C9-275F-4683-AE89-05C030B5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363-7CD2-4E38-9FB7-687BAE0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D8D-91D0-4786-B72F-1FFAD89D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4DF5-7958-47D6-B172-DCA017A5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3F60-FC31-4223-806F-527343E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CEDA-691B-49BF-B857-898705A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D91A-8689-4B09-940D-5334245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81DE-CA4B-4A95-9EF1-2BD4AE6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E3B8-8A7C-4BD2-8975-75A5302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9319-0C36-4B42-A17A-6F6640E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AC6-2CC8-4841-873D-2557293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51D5-61C2-4508-A652-8457997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E5B5-A99B-4032-A99A-AAB1BD6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21B7-33AF-4EE6-8EC5-B16711D1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D71E-F74B-45C8-B4C1-80FB4713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A9D2-12C8-42BD-B61B-5EC5E52C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61C-5A7E-478A-8940-9C7CE7A4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128-2C90-4C08-9082-245C046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15F-1646-45CC-8547-326B5525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CED-7EE6-4345-A755-53B8FA4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8F6F-10BB-42D1-92E7-CBD6705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54F-6FCD-4A30-BF5F-DE1A22F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036-2559-4D90-A43E-E0D39ED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3F3-F465-4E5B-8E60-6CE7978313D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C8D-B937-4975-89A2-A366CF71B04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5815-6ADF-4DE8-B88E-C5FCCCDD302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84360" y="692280"/>
            <a:ext cx="777240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antový  projekt  FRVŠ  MŠMT  č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9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F1/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ovac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ýuky nelineární mechaniky těles ve vybraných předmětech studia strojního inženýr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bdélník 5"/>
          <p:cNvSpPr/>
          <p:nvPr/>
        </p:nvSpPr>
        <p:spPr>
          <a:xfrm>
            <a:off x="1071720" y="4572000"/>
            <a:ext cx="6643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itel:    Prof. Ing. Jindřich Petruška, CSc.,  FSI VUT v Br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8"/>
          <p:cNvSpPr/>
          <p:nvPr/>
        </p:nvSpPr>
        <p:spPr>
          <a:xfrm>
            <a:off x="2071800" y="492912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f. Ing. Stanislav Holý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Miroslav Španiel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Jitka Jágrová, CSc., FS TU Libe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ovéPole 9"/>
          <p:cNvSpPr/>
          <p:nvPr/>
        </p:nvSpPr>
        <p:spPr>
          <a:xfrm>
            <a:off x="169560" y="4005360"/>
            <a:ext cx="88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ást 1 – MKP v nelineárních úlohách mechaniky těles - podklady k přednáškám a samostud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ovéPole 10"/>
          <p:cNvSpPr/>
          <p:nvPr/>
        </p:nvSpPr>
        <p:spPr>
          <a:xfrm>
            <a:off x="433800" y="48578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řešitel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C6D7-D6AD-4B9D-8951-A8CCF6C511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58920" y="3428640"/>
            <a:ext cx="380988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GSTR111"/>
          <p:cNvPicPr/>
          <p:nvPr/>
        </p:nvPicPr>
        <p:blipFill>
          <a:blip r:embed="rId1"/>
          <a:stretch/>
        </p:blipFill>
        <p:spPr>
          <a:xfrm>
            <a:off x="1042920" y="3357720"/>
            <a:ext cx="3800520" cy="286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808200" y="1843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55640" y="1541520"/>
            <a:ext cx="7848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ůžeme identifikovat tři základní příčiny nelineárního chování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 posuvy (případně i přetvoření), tedy změna geometrické konfigurace v průběhu zatěžování (jako např. ztráta stabilit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lineární odezva materiálu (plasticita, viskózní chování 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měna stykové plochy při kontaktu mezi těl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640-2819-42AA-9378-D5F1D174C2A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924360" y="2924280"/>
                <a:ext cx="1114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 txBox="1"/>
          <p:nvPr/>
        </p:nvSpPr>
        <p:spPr>
          <a:xfrm>
            <a:off x="900000" y="1773360"/>
            <a:ext cx="7710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 všech případech dostaneme nelineární průběh závislosti mezi zatížením a deformací tělesa – tedy proměnnou tuhost konstrukce. Základní rovnice deformační varianty MKP pro statickou lineární úlo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tuhost nezávisela na deformaci se mění tak, že matice tuhosti je závislá na dosaženém stupni deform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3924360" y="4221000"/>
                <a:ext cx="1519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5E7B-1332-47A9-AF32-0B357526CF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Line 5"/>
          <p:cNvSpPr/>
          <p:nvPr/>
        </p:nvSpPr>
        <p:spPr>
          <a:xfrm>
            <a:off x="3059280" y="3141720"/>
            <a:ext cx="79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708360" y="3141720"/>
            <a:ext cx="0" cy="2087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276720" y="393372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619280" y="4459320"/>
            <a:ext cx="1079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556000" y="393372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995640" y="3789360"/>
            <a:ext cx="79236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-22444"/>
              <a:gd name="adj5" fmla="val 77986"/>
              <a:gd name="adj6" fmla="val -356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ad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95640" y="4581360"/>
            <a:ext cx="79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8495"/>
              <a:gd name="adj5" fmla="val -29513"/>
              <a:gd name="adj6" fmla="val -89379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987640" y="3429000"/>
            <a:ext cx="878040" cy="298440"/>
          </a:xfrm>
          <a:prstGeom prst="borderCallout2">
            <a:avLst>
              <a:gd name="adj1" fmla="val 18750"/>
              <a:gd name="adj2" fmla="val -8333"/>
              <a:gd name="adj3" fmla="val 38296"/>
              <a:gd name="adj4" fmla="val -8680"/>
              <a:gd name="adj5" fmla="val 262763"/>
              <a:gd name="adj6" fmla="val -4792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788000" y="1989000"/>
            <a:ext cx="381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mnoha MKP systémech je pro řešení nelineárních problémů aplikován algoritmus modifikované Newtonovy-Raphsonovy metody. Celkové zatížení je zde zpravidla rozděleno do jednoho nebo více zatěžovacích kroků (load steps). I v rámci jednoho kroku narůstá zatížení po přírůstcích (substeps), jejichž velikost je obvykle automaticky přizpůsobována aktuální rychlosti konvergence – tedy počtu iterací nutných k dosažení rovnováhy v rámci daného substep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258920" y="5516640"/>
            <a:ext cx="194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5508720" y="662040"/>
                <a:ext cx="1727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9A0-99A5-473C-ADA9-94385CB0E9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5435640" y="662040"/>
                <a:ext cx="1800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 Box 7"/>
          <p:cNvSpPr/>
          <p:nvPr/>
        </p:nvSpPr>
        <p:spPr>
          <a:xfrm>
            <a:off x="4572000" y="1916280"/>
            <a:ext cx="385128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ždá z iterací představuje řešení lineární soustavy rovnic pro přírůstek posuvů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 – K(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kamžitá matice tuhosti (tečná ke křivce F-u) a na pravé straně je rozdíl mezi aktuálním vnějším zatížením a vnitřními silami v řešeném tělese, označovaný jako reziduum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ční proces je ukončen po splnění kritérií konvergence, která kontrolují velikost reziduálních sil vůči celkovému zatíže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adně i velikost přírůstku posuv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hledem k předem daným tolerancím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547640" y="458136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846440" y="4219560"/>
            <a:ext cx="0" cy="86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547640" y="5013360"/>
            <a:ext cx="287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19280" y="4508640"/>
            <a:ext cx="1512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411280" y="397188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763640" y="479736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268360" y="4005360"/>
            <a:ext cx="18003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 – K(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1989000" y="2246400"/>
            <a:ext cx="63828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579" y="6322"/>
                </a:moveTo>
                <a:lnTo>
                  <a:pt x="-20257" y="6322"/>
                </a:lnTo>
                <a:lnTo>
                  <a:pt x="-20257" y="64010"/>
                </a:lnTo>
                <a:lnTo>
                  <a:pt x="-10048" y="105278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042920" y="5445000"/>
            <a:ext cx="324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ova-Raphsonova iterační met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97836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51D-FC1E-4A91-8272-3E6686B636D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940360" y="1844640"/>
            <a:ext cx="2664000" cy="1584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16720" cy="196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755640" y="1773360"/>
            <a:ext cx="504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některých případech může být matice tuhosti singulární, což způsobuje velké problémy s konvergenc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aphs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 metody. V takových případech je vhodné aktivovat metodu „arc length“, která hledá rovnovážný bod v rámci iterací podél oblouku a snáze se tak vyrovná s případy nulové nebo i negativní tuhosti konstrukce, která nastává typicky u stabilitních problémů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5940360" y="1773360"/>
          <a:ext cx="257976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773360"/>
                    <a:ext cx="2579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039-11A3-4A7D-ABB6-0146CE2734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556000" y="3429000"/>
            <a:ext cx="3527280" cy="2808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zervativní a nekonzervativní soust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55640" y="1773360"/>
            <a:ext cx="763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o volbu velikosti zatěžovacích přírůstků je důležité, zda je vyšetřovaný problém pružný, tj. křivka F-u je stejná pro fázi zatížení i odlehčení, nebo ne. V prvním případě hovoříme o konzervativní, ve druhém o nekonzervativní soustavě. U konzervativních soustav nezáleží na posloupnosti zatěžovacích kroků a pro dané zatížení je deformace i napjatost vždy stejná. U nekonzervativních záleží výsledek na celé historii zatěžování, nejen na finální hodnotě. Zpravidla je proto nutné u takových úloh volit menší přírůstky zatížení, abychom správně kopírovali celou zatěžovací cestu. Typickým příkladem nekonzervativních problémů jsou úlohy z oblasti plasti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GSTR105"/>
          <p:cNvPicPr/>
          <p:nvPr/>
        </p:nvPicPr>
        <p:blipFill>
          <a:blip r:embed="rId1"/>
          <a:stretch/>
        </p:blipFill>
        <p:spPr>
          <a:xfrm>
            <a:off x="2771640" y="3706920"/>
            <a:ext cx="3110040" cy="2386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276720" y="364500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ký klo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11T21:03:14Z</dcterms:modified>
  <cp:revision>119</cp:revision>
  <dc:subject/>
  <dc:title>STRUKTURNÍ STABILITA ŽÁRUPEVNÝCH OCELÍ A JEJICH SVAROVÝCH SPOJŮ</dc:title>
</cp:coreProperties>
</file>