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CEC9-E3DB-4167-864B-06749D1C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DDAD-160D-497D-AE27-94EB900E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DE55-FD37-4B9D-B7B4-2117501D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81FE-62B9-44E8-A1B9-DF79B14C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DAF-D486-44ED-B76A-17C9A230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CBC6-5AA8-4271-A126-BDA98542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824B-D1C4-4060-BC7B-77DEEB76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3069-3A03-44A1-8631-617CD750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8BBC-D5B9-4EFD-9F89-2287D5A4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0E82-D360-4DF8-912B-072D12C4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4610-A2E1-4BDE-9405-583AFBD7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8CA6-A3C1-4D04-82F7-73961455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5ED3-DC04-40B4-AC7A-9842FDFFF98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nap&#283;t&#237;-Cauchy.ppt" TargetMode="External"/><Relationship Id="rId2" Type="http://schemas.openxmlformats.org/officeDocument/2006/relationships/hyperlink" Target="nap&#283;t&#237;-1.Piola-Kirchhoff.ppt" TargetMode="External"/><Relationship Id="rId3" Type="http://schemas.openxmlformats.org/officeDocument/2006/relationships/hyperlink" Target="nap&#283;t&#237;-2.Piola-Kirchhoff.ppt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8548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Vzájemné přepočtové vztahy pro tenzory napě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68360" y="1382760"/>
            <a:ext cx="8136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Nejvhodnější pro vzájemný přepočet tenzorů přetvoření jsou poměrná protažení </a:t>
            </a:r>
            <a:r>
              <a:rPr b="0" lang="el-GR" sz="1800" spc="-1" strike="noStrike">
                <a:solidFill>
                  <a:srgbClr val="333333"/>
                </a:solidFill>
                <a:latin typeface="Tahoma"/>
                <a:ea typeface="Tahoma"/>
              </a:rPr>
              <a:t>λ</a:t>
            </a:r>
            <a:r>
              <a:rPr b="0" lang="cs-CZ" sz="1800" spc="-1" strike="noStrike" baseline="-25000">
                <a:solidFill>
                  <a:srgbClr val="333333"/>
                </a:solidFill>
                <a:latin typeface="Tahoma"/>
                <a:ea typeface="Tahoma"/>
              </a:rPr>
              <a:t>i</a:t>
            </a: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, tedy složky tenzoru deformačního gradientu. V hlavním souřadnicovém systému platí následující vztah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Hlavní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Cauchyho (skutečné) napětí </a:t>
            </a: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lze vyjádřit pomocí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1.P.K.napě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Pro nestlačitelný materiál platí </a:t>
            </a: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a tedy napětí jsou ve vzta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Podobně lze vyjádřit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2.P.K. napě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Cauchyho napětí lze vyjádřit i pomocí 2.P.K. napě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nebo jednodušeji pro nestlačitelný mater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8"/>
              <p:cNvSpPr txBox="1"/>
              <p:nvPr/>
            </p:nvSpPr>
            <p:spPr>
              <a:xfrm>
                <a:off x="3454560" y="2421000"/>
                <a:ext cx="40701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9"/>
              <p:cNvSpPr txBox="1"/>
              <p:nvPr/>
            </p:nvSpPr>
            <p:spPr>
              <a:xfrm>
                <a:off x="3708360" y="3189240"/>
                <a:ext cx="1295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Object 10"/>
              <p:cNvSpPr txBox="1"/>
              <p:nvPr/>
            </p:nvSpPr>
            <p:spPr>
              <a:xfrm>
                <a:off x="1332000" y="3500280"/>
                <a:ext cx="1855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11"/>
              <p:cNvSpPr txBox="1"/>
              <p:nvPr/>
            </p:nvSpPr>
            <p:spPr>
              <a:xfrm>
                <a:off x="4356000" y="3933720"/>
                <a:ext cx="29019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12"/>
              <p:cNvSpPr txBox="1"/>
              <p:nvPr/>
            </p:nvSpPr>
            <p:spPr>
              <a:xfrm>
                <a:off x="6149880" y="4903920"/>
                <a:ext cx="20224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13"/>
              <p:cNvSpPr txBox="1"/>
              <p:nvPr/>
            </p:nvSpPr>
            <p:spPr>
              <a:xfrm>
                <a:off x="5219640" y="5689440"/>
                <a:ext cx="15670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20:03:58Z</dcterms:created>
  <dc:creator>Jiri Bursa</dc:creator>
  <dc:description/>
  <dc:language>en-US</dc:language>
  <cp:lastModifiedBy>Prof. Jindrich Petruska</cp:lastModifiedBy>
  <dcterms:modified xsi:type="dcterms:W3CDTF">2010-01-08T11:54:03Z</dcterms:modified>
  <cp:revision>6</cp:revision>
  <dc:subject/>
  <dc:title>Vzájemné přepočtové vztahy pro tenzory napětí</dc:title>
</cp:coreProperties>
</file>