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2E93-24F2-42B7-A06B-4FA325E24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E693-125F-43AF-8FD8-09264A80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54D5-DBDE-4948-9C49-17FB638A2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A6D4-3EE5-4CE7-8312-2C1A9F068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6B9B-DBF6-48B9-8178-36E6621B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403B-0B79-40EB-B9BC-15697E95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E086-6FD4-41E0-96FA-5775484D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E97D-A06B-4502-8EB8-3378CABA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889B-74B4-4781-B1A1-E5D10D90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552B-1CE3-411D-A4CA-41CAC092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F3BE-1385-4951-9FDC-30B9BA8A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582E-C999-493B-B940-89E8164A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7D7E-AFC8-4D42-98F8-5651125B22B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auchy-Greenův tenzor deform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8478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ato definice nepracuje s přetvořeními, ale s poměrnými protaženími, podobně jako tenzor deformačního gradientu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z nějž se odvozuje pomocí vztahů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vý Cauchy-Greenův tenzor deform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vý Cauchy-Greenův tenzor deform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e složkovém tvaru lze například pravý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auchy-Greenův tenzor deformace zapsat následovně (s využitím Einsteinova sčítacího pravid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lavními souřadnicemi tohoto tenzoru jsou tedy kvadráty poměrných protažení v hlavních směr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Object 22"/>
              <p:cNvSpPr txBox="1"/>
              <p:nvPr/>
            </p:nvSpPr>
            <p:spPr>
              <a:xfrm>
                <a:off x="6041880" y="2421000"/>
                <a:ext cx="15544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Object 19"/>
              <p:cNvSpPr txBox="1"/>
              <p:nvPr/>
            </p:nvSpPr>
            <p:spPr>
              <a:xfrm>
                <a:off x="6059520" y="1773360"/>
                <a:ext cx="16081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Object 36"/>
              <p:cNvSpPr txBox="1"/>
              <p:nvPr/>
            </p:nvSpPr>
            <p:spPr>
              <a:xfrm>
                <a:off x="2411280" y="3645000"/>
                <a:ext cx="15480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Object 38"/>
              <p:cNvSpPr txBox="1"/>
              <p:nvPr/>
            </p:nvSpPr>
            <p:spPr>
              <a:xfrm>
                <a:off x="4573440" y="4581360"/>
                <a:ext cx="237492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Invarianty </a:t>
            </a:r>
            <a:br>
              <a:rPr sz="36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auchy-Greenova tenzoru deform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07552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varianty tohoto tenzoru lze v hlavním souřadnicovém systému vyjádřit následovně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de J je třetí invariant tenzoru deformačního gradientu. Třetí invariant tedy i u Cauchy-Greenova tenzoru deformace vyjadřuje změnu objemu (je roven jedné, pokud se při deformaci objem nemění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 vztazích pro funkce měrné energie napjatosti se kromě něj používají tzv. modifikované invarianty Cauchy-Greenova tenzoru deformace, případně modifikované hodnoty hlavních poměrných protažení, které vyjadřují pouze tvarovou (deviátorovou) část tenzoru deform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14"/>
              <p:cNvSpPr txBox="1"/>
              <p:nvPr/>
            </p:nvSpPr>
            <p:spPr>
              <a:xfrm>
                <a:off x="2927520" y="2589120"/>
                <a:ext cx="27968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15"/>
              <p:cNvSpPr txBox="1"/>
              <p:nvPr/>
            </p:nvSpPr>
            <p:spPr>
              <a:xfrm>
                <a:off x="684360" y="2301840"/>
                <a:ext cx="19652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16"/>
              <p:cNvSpPr txBox="1"/>
              <p:nvPr/>
            </p:nvSpPr>
            <p:spPr>
              <a:xfrm>
                <a:off x="5940360" y="2949480"/>
                <a:ext cx="20415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4T16:56:55Z</dcterms:created>
  <dc:creator>Jiri Bursa</dc:creator>
  <dc:description/>
  <dc:language>en-US</dc:language>
  <cp:lastModifiedBy>Prof. Jindrich Petruska</cp:lastModifiedBy>
  <dcterms:modified xsi:type="dcterms:W3CDTF">2010-01-08T11:51:54Z</dcterms:modified>
  <cp:revision>10</cp:revision>
  <dc:subject/>
  <dc:title>Tenzor deformačního gradientu</dc:title>
</cp:coreProperties>
</file>