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DE1-F0CB-438D-966D-546AF99D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9DF-2320-467F-9535-B2E3564E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785-F351-4AD1-9D28-A733C87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AF1-8029-4017-9EC1-400C0FB3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F03-AB59-4E70-B391-E70FBC10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C1C-587B-4384-A096-3E2B649C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0FF-EC33-40BB-8DCA-49849244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741-A18F-47A0-AFA9-9D2BB2E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5F2-0234-4073-81FD-17EE7784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2EE-24B2-4C7B-BA8F-34157BB0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A80-3A4D-48CE-A666-D7274228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4A4-0F13-4817-9290-BF19E11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1A95-8E92-4CD5-A7E0-BF18746C5C6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nergeticky konjugované tenz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tenzorech napětí a přetvoření říkáme, že jso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nergeticky konjug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družené),  jestliže jejich skalární součin integrovaný přes odpovídající vztažnou geometrickou konfigurac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ává práci vnitřních  si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Uvedené tenzory přitom nelze kombinovat libovolně. Energeticky konjugované jsou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een-Lagrangeův tenzor přetvoření a 2. Piola-Kirchhoffův tenzor napětí, 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mansiho tenzor přetvoření a Cauchyho tenzor (skutečných) napě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jich prostřednictvím lze vyjádřit virtuální práci vnitřních sil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 V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počáteční, V finální geometrická konfigu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á jiná kombinace tenzorů či vztažných geometrií by poskytla nesprávný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692360" y="4349880"/>
                <a:ext cx="50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51:50Z</dcterms:created>
  <dc:creator>Jiri Bursa</dc:creator>
  <dc:description/>
  <dc:language>en-US</dc:language>
  <cp:lastModifiedBy>Prof. Jindrich Petruska</cp:lastModifiedBy>
  <dcterms:modified xsi:type="dcterms:W3CDTF">2010-01-08T11:53:08Z</dcterms:modified>
  <cp:revision>5</cp:revision>
  <dc:subject/>
  <dc:title>Energeticky konjugované tenzory</dc:title>
</cp:coreProperties>
</file>