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6D7-231A-4A69-9BE1-1F5BD7A2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E8D-D846-4C71-8C71-1F4DC3CE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0C7-DE5C-4F40-9AE5-61E8438D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B68-F6B9-4B4C-8EBE-460C2648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A34-1882-4E8F-8C9B-9A7C10E1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E1A-197B-4291-B028-E3013A89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9A0-5ECA-495C-9473-AF7E3D9C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E99-CB84-46A3-A2BA-8DDB9EC2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AC5-152C-4F89-95C2-4C05C5E3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355-1070-4527-94C7-397916B4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D98-434E-4396-B7ED-E3552DB7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6D16-981C-4B54-9B9C-8FA38A93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E419-663D-4C8C-A5BC-E4BDBECD1A2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P&#345;etvo&#345;en&#237;-obr&#225;zek Almansi.ppt" TargetMode="External"/><Relationship Id="rId2" Type="http://schemas.openxmlformats.org/officeDocument/2006/relationships/hyperlink" Target="p&#345;etvo&#345;en&#237;_Green-Lagrange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Einsteinovo pravidlo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mansi-Hamelův tenzor konečných přetv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Eulerově popisu deformace se poměrné přetvoření vztahuje ke konečným rozměrům, které tak definují výchozí vztažnou geometrickou konfiguraci – 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ráz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Pak délkové přetvoření lze vyjád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obným postupem s využitím binomické řady jako pr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reen-Lagrangeův tenzor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me výraz upravit na t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7"/>
              <p:cNvSpPr txBox="1"/>
              <p:nvPr/>
            </p:nvSpPr>
            <p:spPr>
              <a:xfrm>
                <a:off x="928800" y="2070000"/>
                <a:ext cx="73357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/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/>
                            </m:sSup>
                          </m:num>
                          <m:den/>
                        </m:f>
                      </m:e>
                    </m:eqAr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9"/>
              <p:cNvSpPr txBox="1"/>
              <p:nvPr/>
            </p:nvSpPr>
            <p:spPr>
              <a:xfrm>
                <a:off x="746280" y="3573360"/>
                <a:ext cx="7354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f>
                          <m:num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12"/>
              <p:cNvSpPr txBox="1"/>
              <p:nvPr/>
            </p:nvSpPr>
            <p:spPr>
              <a:xfrm>
                <a:off x="755640" y="4595760"/>
                <a:ext cx="32209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" name="Rectangle 13"/>
          <p:cNvSpPr/>
          <p:nvPr/>
        </p:nvSpPr>
        <p:spPr>
          <a:xfrm>
            <a:off x="473400" y="5300640"/>
            <a:ext cx="57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ostatní složky délkových přetvoření platí analog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14"/>
              <p:cNvSpPr txBox="1"/>
              <p:nvPr/>
            </p:nvSpPr>
            <p:spPr>
              <a:xfrm>
                <a:off x="803160" y="5667480"/>
                <a:ext cx="3264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5"/>
              <p:cNvSpPr txBox="1"/>
              <p:nvPr/>
            </p:nvSpPr>
            <p:spPr>
              <a:xfrm>
                <a:off x="4572000" y="5676840"/>
                <a:ext cx="35290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1979640" y="2492280"/>
                <a:ext cx="410832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Rectangle 8"/>
          <p:cNvSpPr/>
          <p:nvPr/>
        </p:nvSpPr>
        <p:spPr>
          <a:xfrm>
            <a:off x="468360" y="54514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é použití Almansiho tenzoru je omezeno tím, že konečné (deformované) souřadnice obvykle předem nezná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24000" y="1557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zobecnění na všechny složky je možné Almansiho tenzor přetvoření zapsat v kompaktní podobě pomocí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insteinova sčítacího pravid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mansi-Hamelův tenzor konečných přetv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95280" y="3645000"/>
            <a:ext cx="828036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igorózní odvození tohoto tenzoru včetně mimodiagonálních složek je možno nalézt v literatuře, např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.A. Holzapfel: Nonlinear Solid Mechanics, Wiley and Sons,  20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. Okrouhlík a kol.: Mechanika poddajných těles, numerická matematika a superpočítače, Ústav termomechaniky AV ČR, Praha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25:54Z</dcterms:created>
  <dc:creator>Jiri Bursa</dc:creator>
  <dc:description/>
  <dc:language>en-US</dc:language>
  <cp:lastModifiedBy>Prof. Jindrich Petruska</cp:lastModifiedBy>
  <dcterms:modified xsi:type="dcterms:W3CDTF">2010-01-08T11:54:14Z</dcterms:modified>
  <cp:revision>6</cp:revision>
  <dc:subject/>
  <dc:title>Almansi-Hamelův tenzor konečných deformací</dc:title>
</cp:coreProperties>
</file>