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6DA-E23C-44A2-8569-4B2FEB15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936-6026-4D32-82CF-AE03CB2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CA8-3FEB-4A7E-BB5F-B1737194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8F4-F3AE-4992-9A3E-3C07F5B0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2EEC-F404-4187-AB11-580DD750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835B-DDFF-4C0E-A0EC-5E860CB5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FE48-2BAA-41E6-895B-B3904F9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9EBB-0499-42AE-BF16-926891D6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E601-273E-425E-96A3-58971B5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3C89-0FF9-4152-983E-5EDED9C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68AB-83F8-47A9-B8D6-CC7205D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0FE-EC82-4DE6-AE56-1C2AA3A7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1360-D10F-4996-A700-86CAA7F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385D-8AE3-4526-A36C-EF927FF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06CA-DF32-48AE-86EF-9729BA7F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B262-827C-4044-B28F-B047A46C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AFF8-1C28-4D4F-B02A-12E98C22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BCA-FF6C-4D6B-938F-778B4637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49C-AAE6-49CA-93A9-CDA6B598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3F1-2E98-47CA-B9DC-A5C104A7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059-050A-4DBE-958A-28DD3974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BA9-FE0C-4DF3-94BA-43C7852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8DC-7787-4259-97A5-6FC52691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8DB-550C-42E4-AD70-613593C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294-BC6E-4BB1-9BF7-82C8B8EDE75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266-A564-45E0-B6A8-95C577C14F4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3357720"/>
            <a:ext cx="3743280" cy="2519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asticit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46720" y="4508640"/>
                <a:ext cx="2104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331280"/>
            <a:ext cx="79869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e charakterizovaná nevratnou plastickou deformací, která vzniká po překročení meze kluzu (Yield stress). Nelineární závislost mezi napětím a přetvořením přitom nastává již po překročení meze úměrnosti (Proportional limit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zhledem k blízkosti obou těchto mezních bodů nejsou v praxi rozlišovány a pracuje se pouze s hodnotou meze klu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lasticita je nekonzervativní proces jehož výsledek je závislý na celé historii zatěžování. Vyžaduje proto při výpočtovém řešení správně zadat celou sekvenci zatěžovacích (a odlehčovacích) kroků s dostatečně jemným rozdělením zatěžovacích přírůstků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3286080" cy="193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292720" y="5300640"/>
                <a:ext cx="1279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716360" y="2924280"/>
            <a:ext cx="381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matice tuhosti na aktuální deformaci je zprostředkována pomocí matice materiálových charakteristik D, která vyjadřuje závislost mezi napětím a přetvořením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= D.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 V případě elastoplastického stavu je tato matice závislá na dosažené úrovni a historii průběhu deformace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4941720"/>
            <a:ext cx="216000" cy="287640"/>
          </a:xfrm>
          <a:prstGeom prst="downArrow">
            <a:avLst>
              <a:gd name="adj1" fmla="val 50000"/>
              <a:gd name="adj2" fmla="val 33292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603-8C1C-44C0-B193-FD04A7DB566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4832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krementální (přírůstková) teorie plasticity poskytuje matematický aparát, umožňující výpočtově modelovat elastoplastickou odezvu materiálu na zatížení. Tři základní komponenty teorie plasticity jsou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mínka plasticity, zákon teč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zpevně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4760" y="299628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odmínka plasticit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3407040"/>
            <a:ext cx="7394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hoduje o úrovni napjatosti, při které je iniciován proces plastizace. Pro obecnou napjatost je kriteriální veličinou ekvivalentní (redukované) napětí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0890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740720" y="4797360"/>
            <a:ext cx="287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5878440"/>
            <a:ext cx="934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415040"/>
            <a:ext cx="43480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mínka plasticity má 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prostoru hlavních napětí je reprezentována plochou plasticity, která má pro nejčastěji používanou podmínku HMH válcový tvar dle 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167-0C74-476F-8FAA-9781F04570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8920" y="126756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ákon teč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6992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rčuje velikost přírůstku složek plastického přetvoření v závislosti na přírůstku napětí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848640" cy="16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4437000"/>
            <a:ext cx="20890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7164360" y="5950080"/>
            <a:ext cx="863640" cy="215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4797360"/>
            <a:ext cx="287280" cy="216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427560"/>
            <a:ext cx="6624720" cy="8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tický multiplikátor (rozhoduje o velikosti přírůstk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plastický potenciál, obvykle ztotožněn s plochou plastic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641-07E6-4C20-9FA5-3081297887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48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pev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971640"/>
            <a:ext cx="777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změnu plochy plasticity během procesu plastické deformace, aby bylo možno formulovat následné podmínky plasticity při opakované, cyklické plastizaci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va základní modely jsou izotropní zpevnění, při kterém se plocha plasticity rovnoměrně „nafukuje“ všemi směry, a kinematické zpevnění, při kterém dochází k jejímu posunu ve směru působícího napětí. Bližší realitě je kinematické zpevnění, které odpovídá experimentálně prokázanému jevu označovanému jako Bauschingerův efe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63640" y="3475080"/>
            <a:ext cx="5451480" cy="26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 flipV="1">
            <a:off x="2556000" y="4901760"/>
            <a:ext cx="576000" cy="73080"/>
          </a:xfrm>
          <a:prstGeom prst="line">
            <a:avLst/>
          </a:prstGeom>
          <a:ln cap="sq" w="284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959360" y="4941360"/>
            <a:ext cx="669960" cy="73080"/>
          </a:xfrm>
          <a:prstGeom prst="line">
            <a:avLst/>
          </a:prstGeom>
          <a:ln cap="sq" w="284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6371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33"/>
                </a:solidFill>
                <a:latin typeface="Times New Roman"/>
              </a:rPr>
              <a:t>Loading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465300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33"/>
                </a:solidFill>
                <a:latin typeface="Times New Roman"/>
              </a:rPr>
              <a:t>Loading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15E-E39C-4701-8F86-0D8355A8069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2360" y="2132280"/>
            <a:ext cx="2925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uschinge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ů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k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2232000" cy="1865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84760" y="50839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ké zpev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43280" y="2755800"/>
          <a:ext cx="3097440" cy="24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755800"/>
                    <a:ext cx="30974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713840" y="5083920"/>
            <a:ext cx="22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rop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pev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38D-6485-4C45-B31C-CAC3A2C2E3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asti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77156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roximace tahového dia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ilin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rn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Multilin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r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975280" cy="29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F76-1717-47FE-A5DA-48693A1359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120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základní modely zpevnění: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bilineární kinematick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multilineární kinematick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bilineární izotropní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multilineární izotrop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319640" cy="38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3B4-7AF9-4263-9B1E-D38E62B78C9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Jindřich Petruška</cp:lastModifiedBy>
  <dcterms:modified xsi:type="dcterms:W3CDTF">2010-01-06T18:02:18Z</dcterms:modified>
  <cp:revision>111</cp:revision>
  <dc:subject/>
  <dc:title>STRUKTURNÍ STABILITA ŽÁRUPEVNÝCH OCELÍ A JEJICH SVAROVÝCH SPOJŮ</dc:title>
</cp:coreProperties>
</file>