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C4ADC-9FDF-42E8-B8A3-C89336D55D5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0171B-F484-4CF9-98C7-9C29ED385FA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0C0BD-C88E-42C9-A5B5-5BF28026427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37A88-09BA-49AD-A827-054349BE3CC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28886-226B-48BD-8601-53158602263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4333F-4A52-4333-9DD5-E482FC942A3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D4DF9-2773-4604-A708-F29420235DE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F4570-FAFB-4B4F-AA6F-613CF3390B9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B46FC-45B0-4649-AA25-5366B3CDDAB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18F9-FA30-4EBC-B4E4-93B64D9CE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51BE-0EFA-4494-8D60-E1D74AFF8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0A47-32B6-456E-A62C-7C07D2BE2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2324-777B-4FD6-B07D-7FC31B980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24EB-E4E6-4ECB-A1F9-28A7A8F09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771C-24B9-45C3-ABCD-D6C544F84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1FFB-913A-41A5-AF1F-E8FC34E25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9275-ABAB-46B7-B751-1EB8B6701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00C5-ADE9-4F6F-844B-FF13F5CBB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3A28-015D-44F9-BF9F-B57A750AA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89C9-1C24-4495-860C-946A2EF3C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853E-15D3-4801-A141-53B264B79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B9A4C-B9B6-4E12-B6D6-5C5BC3D6B3F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hyperlink" Target="file:///deformovan&#233;%20sou&#345;adnice.ppt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hyperlink" Target="file:///p&#345;etvo&#345;en&#237;_smluvn&#237;.ppt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p&#345;etvo&#345;en&#237;_Green-Lagrange.pp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p&#345;etvo&#345;en&#237;_Green-Lagrange.pp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ometric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á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elinearit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5"/>
          <p:cNvGraphicFramePr/>
          <p:nvPr/>
        </p:nvGraphicFramePr>
        <p:xfrm>
          <a:off x="1344600" y="1571760"/>
          <a:ext cx="6454800" cy="446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44600" y="1571760"/>
                    <a:ext cx="6454800" cy="446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" name="Picture 6" descr="GSTR110"/>
          <p:cNvPicPr/>
          <p:nvPr/>
        </p:nvPicPr>
        <p:blipFill>
          <a:blip r:embed="rId3"/>
          <a:stretch/>
        </p:blipFill>
        <p:spPr>
          <a:xfrm>
            <a:off x="1332000" y="2565360"/>
            <a:ext cx="6750000" cy="182232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7"/>
          <p:cNvSpPr/>
          <p:nvPr/>
        </p:nvSpPr>
        <p:spPr>
          <a:xfrm>
            <a:off x="826920" y="4503600"/>
            <a:ext cx="7705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metric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linearita je zapříčiněna „velkými“ posuvy, které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h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být doprovázeny velkým přetvořením. Podle toho rozlišujeme dva rozdílné případy geometrické nelinear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. Velké posuvy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 displacemen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. Velká přetvořen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 strai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zahrnují v sobě vždy i velké posuv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5"/>
              <p:cNvSpPr txBox="1"/>
              <p:nvPr/>
            </p:nvSpPr>
            <p:spPr>
              <a:xfrm>
                <a:off x="4081320" y="3616200"/>
                <a:ext cx="257832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C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U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05" name="Picture 9" descr=""/>
          <p:cNvPicPr/>
          <p:nvPr/>
        </p:nvPicPr>
        <p:blipFill>
          <a:blip r:embed="rId1"/>
          <a:stretch/>
        </p:blipFill>
        <p:spPr>
          <a:xfrm>
            <a:off x="826920" y="4765680"/>
            <a:ext cx="3468960" cy="1471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6" name="Text Box 10"/>
          <p:cNvSpPr/>
          <p:nvPr/>
        </p:nvSpPr>
        <p:spPr>
          <a:xfrm>
            <a:off x="5076720" y="5013360"/>
            <a:ext cx="324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lární rozklad na příkladu smykové deforma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Rotace + Změna tva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684360" y="620640"/>
            <a:ext cx="7991280" cy="37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olární rozklad deformačního gradien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F = R.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rtogonální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tenzor rot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(rotace elementárního okol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ravý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tenzor protažení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v hlavním souřadném systé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(změna tvaru elementárního prvk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enzor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řirozených přetvoř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12"/>
              <p:cNvSpPr txBox="1"/>
              <p:nvPr/>
            </p:nvSpPr>
            <p:spPr>
              <a:xfrm>
                <a:off x="3564000" y="1844640"/>
                <a:ext cx="324000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" name="AutoShape 13"/>
          <p:cNvSpPr/>
          <p:nvPr/>
        </p:nvSpPr>
        <p:spPr>
          <a:xfrm>
            <a:off x="4427640" y="5373720"/>
            <a:ext cx="503280" cy="288720"/>
          </a:xfrm>
          <a:prstGeom prst="leftArrow">
            <a:avLst>
              <a:gd name="adj1" fmla="val 50000"/>
              <a:gd name="adj2" fmla="val 43579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15"/>
              <p:cNvSpPr txBox="1"/>
              <p:nvPr/>
            </p:nvSpPr>
            <p:spPr>
              <a:xfrm>
                <a:off x="6399360" y="2565360"/>
                <a:ext cx="206028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755640" y="836640"/>
            <a:ext cx="7920000" cy="55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Tenzory napětí při velkých přetvoření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iší se podle toho, v jaké geometrické konfiguraci je vyjádřena plocha, přenášející vnitřní síly v materiál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auchyho tenzor skutečných napětí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j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síla je vztažena ke skutečné ploše v aktuální deformované konfigura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vní Piola-Kirchhoffův tenzor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apět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j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síla je vztažena k ploše v počáteční geometrické konfigura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vní z tenzorů je energeticky konjugovaný s Almansiho tenzorem přetvoření, druhý s Green-Lagrangeovým tenzorem přetvoření, proto využíván v oblasti analýzy deformovatelných tě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 posouzení mezních stavů těles je nutno znát přepočet mezi oběma tenzor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zde představuje deformační grad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2"/>
              <p:cNvSpPr txBox="1"/>
              <p:nvPr/>
            </p:nvSpPr>
            <p:spPr>
              <a:xfrm>
                <a:off x="5065560" y="2421000"/>
                <a:ext cx="101916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3"/>
              <p:cNvSpPr txBox="1"/>
              <p:nvPr/>
            </p:nvSpPr>
            <p:spPr>
              <a:xfrm>
                <a:off x="5086440" y="3500280"/>
                <a:ext cx="99828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Object 4"/>
              <p:cNvSpPr txBox="1"/>
              <p:nvPr/>
            </p:nvSpPr>
            <p:spPr>
              <a:xfrm>
                <a:off x="1547640" y="5843520"/>
                <a:ext cx="172908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t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τ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6"/>
          <p:cNvSpPr/>
          <p:nvPr/>
        </p:nvSpPr>
        <p:spPr>
          <a:xfrm>
            <a:off x="468360" y="476280"/>
            <a:ext cx="7993080" cy="64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vní Piola-Kirchhoffův tenzor napětí je de facto dobře známým „smluvním napětím“, používaným tradičně pro záznam tahové zkoušky materiál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kutečné napětí F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mluvní napětí F/S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aktické využití prvního P.-K. tenzoru je komplikováno skutečností, že se jedná o nesymetrický tenzor. Proto se více využív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. Druhý Piola-Kirchhoffův tenzor napětí S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k ploše v počáteční geometrické konfiguraci je vztažena fiktivní síla, přepočtená ze skutečné síly pomocí deformačního gradientu. Jedná se o symetrický tenzor bez jasné fyzikální interpretace, který je používán proto, že je energeticky konjugovaný s Green-Lagrangeovým tenzorem přetvoření. Jeho transformace na skutečný tenzor napětí je dána vzta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Object 2"/>
          <p:cNvGraphicFramePr/>
          <p:nvPr/>
        </p:nvGraphicFramePr>
        <p:xfrm>
          <a:off x="1763640" y="1197000"/>
          <a:ext cx="2743200" cy="21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197000"/>
                    <a:ext cx="2743200" cy="21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18" name="Object 3"/>
              <p:cNvSpPr txBox="1"/>
              <p:nvPr/>
            </p:nvSpPr>
            <p:spPr>
              <a:xfrm>
                <a:off x="1763640" y="5943600"/>
                <a:ext cx="237672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t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Object 2"/>
          <p:cNvGraphicFramePr/>
          <p:nvPr/>
        </p:nvGraphicFramePr>
        <p:xfrm>
          <a:off x="903240" y="2573280"/>
          <a:ext cx="3354480" cy="263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3240" y="2573280"/>
                    <a:ext cx="3354480" cy="26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2" name="Object 3"/>
              <p:cNvSpPr txBox="1"/>
              <p:nvPr/>
            </p:nvSpPr>
            <p:spPr>
              <a:xfrm>
                <a:off x="5859360" y="4964040"/>
                <a:ext cx="144936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C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ε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4"/>
              <p:cNvSpPr txBox="1"/>
              <p:nvPr/>
            </p:nvSpPr>
            <p:spPr>
              <a:xfrm>
                <a:off x="4181400" y="4521240"/>
                <a:ext cx="107316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C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5"/>
              <p:cNvSpPr txBox="1"/>
              <p:nvPr/>
            </p:nvSpPr>
            <p:spPr>
              <a:xfrm>
                <a:off x="4249800" y="5186520"/>
                <a:ext cx="92376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l</m:t>
                        </m:r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6"/>
              <p:cNvSpPr txBox="1"/>
              <p:nvPr/>
            </p:nvSpPr>
            <p:spPr>
              <a:xfrm>
                <a:off x="4086360" y="3357720"/>
                <a:ext cx="70632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7"/>
              <p:cNvSpPr txBox="1"/>
              <p:nvPr/>
            </p:nvSpPr>
            <p:spPr>
              <a:xfrm>
                <a:off x="4086360" y="2708280"/>
                <a:ext cx="76968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8"/>
              <p:cNvSpPr txBox="1"/>
              <p:nvPr/>
            </p:nvSpPr>
            <p:spPr>
              <a:xfrm>
                <a:off x="5640480" y="3130560"/>
                <a:ext cx="147636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>
                      <m:t xml:space="preserve">τ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ε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" name="Text Box 13"/>
          <p:cNvSpPr/>
          <p:nvPr/>
        </p:nvSpPr>
        <p:spPr>
          <a:xfrm>
            <a:off x="4356000" y="2565360"/>
            <a:ext cx="172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4788000" y="4221000"/>
            <a:ext cx="172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468360" y="692280"/>
            <a:ext cx="8136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řepočet pracovního diagramu materiál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e smluvních hodnot inženýrského napětí a přetvoření na závislost mezi skutečným napětím a přirozeným (logaritmickým) přetvořen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ometric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á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elinearit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Object 4"/>
          <p:cNvGraphicFramePr/>
          <p:nvPr/>
        </p:nvGraphicFramePr>
        <p:xfrm>
          <a:off x="1104840" y="2948040"/>
          <a:ext cx="274320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4840" y="2948040"/>
                    <a:ext cx="27432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468360" y="732240"/>
            <a:ext cx="7705800" cy="56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elké posuvy - Příčina nelinearit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Rozdíl mezi výchozí nedeformovanou geometrií </a:t>
            </a:r>
            <a:r>
              <a:rPr b="1" i="1" lang="cs-CZ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a deformovanou geometrickou konfigurací </a:t>
            </a:r>
            <a:r>
              <a:rPr b="1" i="1" lang="cs-CZ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dle 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obrázku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je popsán jednoduchým vztahem </a:t>
            </a:r>
            <a:r>
              <a:rPr b="1" i="1" lang="cs-CZ" sz="1400" spc="-1" strike="noStrike">
                <a:solidFill>
                  <a:srgbClr val="000000"/>
                </a:solidFill>
                <a:latin typeface="Arial"/>
              </a:rPr>
              <a:t>x = X + 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odmínky rovnováhy v lineárním případě, vyjádřené pomocí MKP známou rovnicí </a:t>
            </a:r>
            <a:r>
              <a:rPr b="1" i="1" lang="cs-CZ" sz="1400" spc="-1" strike="noStrike">
                <a:solidFill>
                  <a:srgbClr val="000000"/>
                </a:solidFill>
                <a:latin typeface="Arial"/>
              </a:rPr>
              <a:t>K.U = F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opisují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cs-CZ" sz="1400" spc="-1" strike="noStrike">
                <a:solidFill>
                  <a:srgbClr val="000000"/>
                </a:solidFill>
                <a:latin typeface="Arial"/>
              </a:rPr>
              <a:t>deformovaný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stav. Pro sestavení matice tuhosti se ovšem vychází z výchozí, známé </a:t>
            </a:r>
            <a:r>
              <a:rPr b="1" i="1" lang="cs-CZ" sz="1400" spc="-1" strike="noStrike">
                <a:solidFill>
                  <a:srgbClr val="000000"/>
                </a:solidFill>
                <a:latin typeface="Arial"/>
              </a:rPr>
              <a:t>nedeformované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konfigurace, te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 tom je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rozpor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a výsledky lze akceptovat pouze za předpokladu, že posuv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je zanedbatelný z hlediska změny geometrie řešeného problém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400" spc="-1" strike="noStrike">
                <a:solidFill>
                  <a:srgbClr val="000000"/>
                </a:solidFill>
                <a:latin typeface="Arial"/>
              </a:rPr>
              <a:t>Kdy to lze předpokláda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Na to bohužel neexistuje jednoduše kvantifikovatelná odpověď.  Například u tenkostěnných konstrukcí se uvádí jako hrubé měřítko požadavek, aby průhyb nepřesáhl tloušťku stěn. Jak se lze přesvědčit, v některých případech dominantního ohybového namáhání, případně spojeného s tahovou membránovou napjatostí stěn, je odezva lineární i při významném překročení zmíněného kritéria. Naopak v přítomnosti tlakového membránového namáhání stěn může dojít k nelineárnímu chování už při průhybech řádově menší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>
                <a:solidFill>
                  <a:srgbClr val="000000"/>
                </a:solidFill>
                <a:latin typeface="Arial"/>
              </a:rPr>
              <a:t>Závěr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: v případě tlakového membránového namáhání a i v dalších sporných případech nezbývá než použít nelineární algoritmus řešení, který je obecnější a lineární případy v sobě přirozeně zahrnuj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7"/>
              <p:cNvSpPr txBox="1"/>
              <p:nvPr/>
            </p:nvSpPr>
            <p:spPr>
              <a:xfrm>
                <a:off x="2987640" y="2708280"/>
                <a:ext cx="19447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/>
                      <m:e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D</m:t>
                        </m:r>
                      </m:e>
                    </m:nary>
                    <m:r>
                      <m:t xml:space="preserve">B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ometric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á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elinearit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Object 3"/>
          <p:cNvGraphicFramePr/>
          <p:nvPr/>
        </p:nvGraphicFramePr>
        <p:xfrm>
          <a:off x="1104840" y="2948040"/>
          <a:ext cx="274320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4840" y="2948040"/>
                    <a:ext cx="27432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539640" y="963360"/>
            <a:ext cx="7705800" cy="53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2.  Velká přetvoření - Příčina nelinearit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ři odvození geometrických vztahů mezi složkami posuvů a přetvoření jsme v základním kurzu pružnosti předpokládali, že složky tenzoru přetvoření jsou malé, řádu 10</a:t>
            </a:r>
            <a:r>
              <a:rPr b="0" lang="cs-CZ" sz="14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. Pak lze zanedbat kvadratické členy geometrických vztahů a používat běžně známý 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inženýrský (též smluvní, infinitesimální) tenzor přetvoření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Tato formulace zcela vyhovuje pro inženýrskou analýzu ocelových strojních konstrukcí. Hranice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použitelnosti inženýrského tenzoru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přetvoření bývá obvykle uváděna hodnotou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přetvoření 1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%,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tedy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řádem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cs-CZ" sz="14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 případech jako je simulace toku materiálu při tváření, deformace komponent z pryže, plastu a jiných netradičních materiálů, mohou složky přetvoření dosáhnout i stovek procent. Nelineární členy pak není možno zanedbat a je nutno používat obecnější tenzory přetvoření. Ty lze definovat různým způsobem podle toho, kterou geometrickou konfiguraci tělesa považujeme za základní vztažnou. Existují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dva základní přístupy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k popisu kinematiky při velkých deformacíc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Lagrangeův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, kdy nezávisle proměnnou je nedeformovaná geometrie </a:t>
            </a:r>
            <a:r>
              <a:rPr b="1" i="1" lang="cs-CZ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, pohyb je popsán funkcí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cs-CZ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 = x</a:t>
            </a:r>
            <a:r>
              <a:rPr b="0" i="1" lang="cs-CZ" sz="14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i="1" lang="cs-CZ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,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Eulerův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, nezávisle proměnnou je deformovaná geometrie </a:t>
            </a:r>
            <a:r>
              <a:rPr b="1" i="1" lang="cs-CZ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, pohyb je popsán funkcí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cs-CZ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 = X</a:t>
            </a:r>
            <a:r>
              <a:rPr b="0" i="1" lang="cs-CZ" sz="14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i="1" lang="cs-CZ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,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8"/>
              <p:cNvSpPr txBox="1"/>
              <p:nvPr/>
            </p:nvSpPr>
            <p:spPr>
              <a:xfrm>
                <a:off x="4427640" y="2421000"/>
                <a:ext cx="165708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755640" y="543960"/>
            <a:ext cx="7705800" cy="54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ednoduchým způsobem lze rozdíl mezi oběma přístupy znázornit na příkladu řady vozidel projíždějících úsekem dálnice. Zatímco pozice řidiče, pevně svázaného s vozidlem a zaznamenávajícího změny polohy, rychlosti a zrychlení, odpovídá Lagrangeově popisu, Eulerův popis odpovídá pozici pozorovatele, sledujícího z místa na okraji silnice proud voz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Lagrangeův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přístup je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typický pro popis pohybu tvárných těles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kdy je v čase sledována trajektorie jednotlivých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materiálových bodů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přiřazených počáteční geometrické konfiguraci v čase t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. Jednoduchým způsobem tak lze průběžně sledovat deformačně napěťovou historii v každém bodě kontinua, která je nezbytná pro adekvátní popis chování materiálu u mnoha typů konstitutivních vztahů (plasticita, viskoplasticita). Někdy se proto používá termín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materiálový popis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. Tenzor přetvoření svázaný s Lagrangeovým popisem se nazývá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Greenův-Lagrangeův tenz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eho odvození je názorným způsobem uvedeno</a:t>
            </a: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 zd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. Pro úlohy MKP řešené Lagrangeovským přístupem je typická síť prvků, jejichž uzlové body jsou svázány s materiálem a která se v průběhu řešení deformuje a „protéká“ vymezeným prostor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10"/>
              <p:cNvSpPr txBox="1"/>
              <p:nvPr/>
            </p:nvSpPr>
            <p:spPr>
              <a:xfrm>
                <a:off x="2571840" y="3749760"/>
                <a:ext cx="3224160" cy="83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L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684360" y="690120"/>
            <a:ext cx="770544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Eulerův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přístup je naopak typický pro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opis pohybu kapalin a plynů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kdy je vztažný souřadný systém svázán s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fixovanou oblastí prostoru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(lopatková mříž, průtokový profil potrubí, armatury) a sledované médium touto oblastí protéká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enzor přetvoření svázaný s Eulerovým popisem se nazývá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Almansiho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( též Almansiho-Hamelův) tenzor přetvoře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eho odvození je názorným způsobem uvedeno</a:t>
            </a: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de. Pro úlohy MKP řešené Eulerovským přístupem je typická síť prvků, jejichž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uzlové body jsou svázány s pevnými body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v prostoru, kterými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sledované médium volně protéká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ak se lze snadno přesvědčit, v případě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malých přetvořen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kdy lze zanedbat kvadratické členy,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splývají oba uvedené tenzory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se známým inženýrským tenzorem přetvoře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ůležitou vlastností obou uvedených tenzorů je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objektivnost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tedy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nezávislost na posuvech a rotacích tělesa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jako tuhého celku. Tuto vlastnost nemá inženýrský tenzor a je proto použitelný pouze pro malá přetvoře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6"/>
              <p:cNvSpPr txBox="1"/>
              <p:nvPr/>
            </p:nvSpPr>
            <p:spPr>
              <a:xfrm>
                <a:off x="3708360" y="2235240"/>
                <a:ext cx="230364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4"/>
          <p:cNvSpPr/>
          <p:nvPr/>
        </p:nvSpPr>
        <p:spPr>
          <a:xfrm>
            <a:off x="611280" y="239400"/>
            <a:ext cx="7705800" cy="60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eformační gradient 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yjadřuje transformaci mezi aktuální a výchozí geometrickou konfigurac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Fyzikální význam jeho složek jsou poměrná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rotažen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(stretch). V jednoosém případě s uvažováním konečných hodnot tyče protažené z délky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cs-CZ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a délku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je protažení rovn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 obecném trojosém případě je tvar deformačního gradientu uveden zde, v případě orientace ve směru hlavních os protažení bývá označován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de                        , obdobně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eformační gradient je tenzor, který sám o sobě nemůže sloužit jako míra přetvoření, protože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není objektivn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– při pohybu tělesa jako tuhého celku jsou jeho složky nenulové.  Jeho prostřednictvím je však možno vyjádřit další tenzory přetvoření, např. Greenův-Lagrangeů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Umožňuje rovněž vyjádření dalších kinematických veličin při velkých deformacích, například poměrnou změnu objemu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5"/>
              <p:cNvSpPr txBox="1"/>
              <p:nvPr/>
            </p:nvSpPr>
            <p:spPr>
              <a:xfrm>
                <a:off x="3203640" y="1011240"/>
                <a:ext cx="86364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ct 7"/>
              <p:cNvSpPr txBox="1"/>
              <p:nvPr/>
            </p:nvSpPr>
            <p:spPr>
              <a:xfrm>
                <a:off x="2906640" y="2133720"/>
                <a:ext cx="52092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Object 10"/>
              <p:cNvSpPr txBox="1"/>
              <p:nvPr/>
            </p:nvSpPr>
            <p:spPr>
              <a:xfrm>
                <a:off x="2627280" y="3295800"/>
                <a:ext cx="136836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13"/>
              <p:cNvSpPr txBox="1"/>
              <p:nvPr/>
            </p:nvSpPr>
            <p:spPr>
              <a:xfrm>
                <a:off x="5076720" y="3348000"/>
                <a:ext cx="86364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77" name="Picture 16" descr=""/>
          <p:cNvPicPr/>
          <p:nvPr/>
        </p:nvPicPr>
        <p:blipFill>
          <a:blip r:embed="rId1"/>
          <a:stretch/>
        </p:blipFill>
        <p:spPr>
          <a:xfrm>
            <a:off x="5364000" y="5229360"/>
            <a:ext cx="2202120" cy="46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8" name="Picture 17" descr=""/>
          <p:cNvPicPr/>
          <p:nvPr/>
        </p:nvPicPr>
        <p:blipFill>
          <a:blip r:embed="rId2"/>
          <a:stretch/>
        </p:blipFill>
        <p:spPr>
          <a:xfrm>
            <a:off x="4356000" y="5950080"/>
            <a:ext cx="1513080" cy="679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539640" y="404640"/>
            <a:ext cx="8064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řirozené (Cauchyho, logaritmické) přetvoř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 dříve uvedených tenzorů přetvoření byly všechny poměrné změny vztaženy ke konkrétní, počáteční nebo konečné geometrické konfiguraci. Přirozené přetvoření vztahuje každý přírůstek k okamžité aktuální geometrii. V jednoosém případě je tedy přirozené přetvoření definová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případě orientace ve směru hlavních os protažení je možno tenzor přirozeného přetvoření získat jednoduše logaritmováním složek deformačního gradien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5"/>
              <p:cNvSpPr txBox="1"/>
              <p:nvPr/>
            </p:nvSpPr>
            <p:spPr>
              <a:xfrm>
                <a:off x="1403280" y="2349360"/>
                <a:ext cx="518472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C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t xml:space="preserve">l</m:t>
                        </m:r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nary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l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λ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Δl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ε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Object 7"/>
              <p:cNvSpPr txBox="1"/>
              <p:nvPr/>
            </p:nvSpPr>
            <p:spPr>
              <a:xfrm>
                <a:off x="1332000" y="4208400"/>
                <a:ext cx="230328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C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n</m:t>
                              </m:r>
                              <m:sSub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n</m:t>
                              </m:r>
                              <m:sSub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n</m:t>
                              </m:r>
                              <m:sSub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Vzájemné přepočtové vztahy pro tenzory přetvořen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3"/>
              <p:cNvSpPr txBox="1"/>
              <p:nvPr/>
            </p:nvSpPr>
            <p:spPr>
              <a:xfrm>
                <a:off x="1979640" y="4941720"/>
                <a:ext cx="11332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C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4" name="Rectangle 4"/>
          <p:cNvSpPr/>
          <p:nvPr/>
        </p:nvSpPr>
        <p:spPr>
          <a:xfrm>
            <a:off x="468360" y="1525680"/>
            <a:ext cx="8136000" cy="39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Tahoma"/>
              </a:rPr>
              <a:t>Nejvhodnější pro vzájemný přepočet tenzorů přetvoření jsou poměrná protažení </a:t>
            </a:r>
            <a:r>
              <a:rPr b="0" lang="el-GR" sz="2000" spc="-1" strike="noStrike">
                <a:solidFill>
                  <a:srgbClr val="333333"/>
                </a:solidFill>
                <a:latin typeface="Tahoma"/>
                <a:ea typeface="Tahoma"/>
              </a:rPr>
              <a:t>λ</a:t>
            </a:r>
            <a:r>
              <a:rPr b="0" lang="cs-CZ" sz="2000" spc="-1" strike="noStrike" baseline="-25000">
                <a:solidFill>
                  <a:srgbClr val="333333"/>
                </a:solidFill>
                <a:latin typeface="Tahoma"/>
                <a:ea typeface="Tahoma"/>
              </a:rPr>
              <a:t>i</a:t>
            </a:r>
            <a:r>
              <a:rPr b="0" lang="cs-CZ" sz="2000" spc="-1" strike="noStrike">
                <a:solidFill>
                  <a:srgbClr val="333333"/>
                </a:solidFill>
                <a:latin typeface="Tahoma"/>
              </a:rPr>
              <a:t>, tedy složky tenzoru deformačního gradientu. Pro jednoduchost jsou uvedena jen hlavní přetvoření jako funkce hlavních poměrných protažení </a:t>
            </a:r>
            <a:r>
              <a:rPr b="0" lang="el-GR" sz="2000" spc="-1" strike="noStrike">
                <a:solidFill>
                  <a:srgbClr val="333333"/>
                </a:solidFill>
                <a:latin typeface="Arial"/>
              </a:rPr>
              <a:t>λ</a:t>
            </a:r>
            <a:r>
              <a:rPr b="0" lang="cs-CZ" sz="2000" spc="-1" strike="noStrike" baseline="-25000">
                <a:solidFill>
                  <a:srgbClr val="333333"/>
                </a:solidFill>
                <a:latin typeface="Arial"/>
              </a:rPr>
              <a:t>i</a:t>
            </a:r>
            <a:r>
              <a:rPr b="0" lang="cs-CZ" sz="2000" spc="-1" strike="noStrike">
                <a:solidFill>
                  <a:srgbClr val="333333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Tahoma"/>
              </a:rPr>
              <a:t>Smluvní přetvoření - vztah se odvozuje v základní PP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Tahoma"/>
              </a:rPr>
              <a:t>Green-Lagrang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Tahoma"/>
              </a:rPr>
              <a:t>Almansi-Ham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Tahoma"/>
              </a:rPr>
              <a:t>Cauch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Object 5"/>
              <p:cNvSpPr txBox="1"/>
              <p:nvPr/>
            </p:nvSpPr>
            <p:spPr>
              <a:xfrm>
                <a:off x="6769080" y="2587680"/>
                <a:ext cx="111600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Object 6"/>
              <p:cNvSpPr txBox="1"/>
              <p:nvPr/>
            </p:nvSpPr>
            <p:spPr>
              <a:xfrm>
                <a:off x="2838600" y="3230640"/>
                <a:ext cx="533376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L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Object 7"/>
              <p:cNvSpPr txBox="1"/>
              <p:nvPr/>
            </p:nvSpPr>
            <p:spPr>
              <a:xfrm>
                <a:off x="2690640" y="4005360"/>
                <a:ext cx="548172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bSup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ozdíly mezi jednotlivými definicemi tenzoru přetvoření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Object 4"/>
          <p:cNvGraphicFramePr/>
          <p:nvPr/>
        </p:nvGraphicFramePr>
        <p:xfrm>
          <a:off x="457200" y="2743200"/>
          <a:ext cx="4792680" cy="323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743200"/>
                    <a:ext cx="4792680" cy="32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Rectangle 5"/>
          <p:cNvSpPr/>
          <p:nvPr/>
        </p:nvSpPr>
        <p:spPr>
          <a:xfrm>
            <a:off x="1187280" y="2492280"/>
            <a:ext cx="3024360" cy="7308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1187280" y="2708280"/>
            <a:ext cx="4537080" cy="7308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7"/>
          <p:cNvSpPr/>
          <p:nvPr/>
        </p:nvSpPr>
        <p:spPr>
          <a:xfrm>
            <a:off x="4211640" y="2540160"/>
            <a:ext cx="1511280" cy="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2268360" y="2133720"/>
            <a:ext cx="648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2916360" y="278136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4572000" y="213372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11"/>
              <p:cNvSpPr txBox="1"/>
              <p:nvPr/>
            </p:nvSpPr>
            <p:spPr>
              <a:xfrm>
                <a:off x="5187960" y="2708280"/>
                <a:ext cx="311616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L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12"/>
              <p:cNvSpPr txBox="1"/>
              <p:nvPr/>
            </p:nvSpPr>
            <p:spPr>
              <a:xfrm>
                <a:off x="5243400" y="3645000"/>
                <a:ext cx="300060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A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13"/>
              <p:cNvSpPr txBox="1"/>
              <p:nvPr/>
            </p:nvSpPr>
            <p:spPr>
              <a:xfrm>
                <a:off x="5289480" y="4292640"/>
                <a:ext cx="18748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λ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14"/>
              <p:cNvSpPr txBox="1"/>
              <p:nvPr/>
            </p:nvSpPr>
            <p:spPr>
              <a:xfrm>
                <a:off x="5381640" y="4946760"/>
                <a:ext cx="214308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C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Text Box 15"/>
          <p:cNvSpPr/>
          <p:nvPr/>
        </p:nvSpPr>
        <p:spPr>
          <a:xfrm>
            <a:off x="1619280" y="1700280"/>
            <a:ext cx="4681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0T14:40:05Z</dcterms:created>
  <dc:creator>Jindřich Petruška</dc:creator>
  <dc:description/>
  <dc:language>en-US</dc:language>
  <cp:lastModifiedBy>Prof. Jindrich Petruska</cp:lastModifiedBy>
  <dcterms:modified xsi:type="dcterms:W3CDTF">2010-01-08T11:53:22Z</dcterms:modified>
  <cp:revision>18</cp:revision>
  <dc:subject/>
  <dc:title>Geometric nonlinearity </dc:title>
</cp:coreProperties>
</file>