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340-03EC-46C8-AF79-EDE497AE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484-C3BA-4645-A1AE-3FD7EFC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952-003C-4D23-B202-4FB2AC73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98A-F5F8-4B97-BB7A-1B847F26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845-F7B5-47C7-84AD-C6018FE1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B8-AACD-47FD-A359-4249C02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F5B-8337-48CB-AED4-CABC3567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A86-CCE6-47FA-8459-CBE3117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CE5-7E65-4A83-BD18-54277885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17B-8794-4F47-B4DD-B5D4AC2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087-EBB4-4420-B907-6D0137A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219-4E53-4072-9453-BAE26D4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F8B-1021-4D08-A768-1DDB58FB44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(logaritmický) tenzor konečných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4"/>
              <p:cNvSpPr txBox="1"/>
              <p:nvPr/>
            </p:nvSpPr>
            <p:spPr>
              <a:xfrm>
                <a:off x="971640" y="4797360"/>
                <a:ext cx="67294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" name="Rectangle 5"/>
          <p:cNvSpPr/>
          <p:nvPr/>
        </p:nvSpPr>
        <p:spPr>
          <a:xfrm>
            <a:off x="468360" y="1382760"/>
            <a:ext cx="813600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dostatky tenzorů konečných přetvoř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reen-Lagrange: změny délek jsou stále vztahovány k původním hodnotám, zatímco aktuální již mohou být v průběhu procesu zatěžování významně odliš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mansi-Hamel: změny délek jsou stále vztahovány ke konečným (deformovaným) hodnotám délek, zatímco aktuální od nich mohou být v průběhu procesu zatěžování ještě podstatně odliš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auchyho definice přetvoření je exaktnější v tom, že infinitezimální přírůstek délky vztahuje vždy k aktuální délce v daném stadiu zatěžovacího proc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úsečky o původní délce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0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která se vlivem zatížení mění na aktuální hodnotu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až dosáhne konečné (deformované) délky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určíme integrací přírůstků její délky d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viz obráze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9640" y="5925960"/>
            <a:ext cx="813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Hlavní souřadnice tohoto tenzoru jsou tedy rovny přirozeným  logaritmům odpovídajících souřadnic tenzoru deformačního gradi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44:05Z</dcterms:created>
  <dc:creator>Jiri Bursa</dc:creator>
  <dc:description/>
  <dc:language>en-US</dc:language>
  <cp:lastModifiedBy>Prof. Jindrich Petruska</cp:lastModifiedBy>
  <dcterms:modified xsi:type="dcterms:W3CDTF">2010-01-08T11:54:25Z</dcterms:modified>
  <cp:revision>6</cp:revision>
  <dc:subject/>
  <dc:title>Cauchyho (logaritmický) tenzor přetvoření</dc:title>
</cp:coreProperties>
</file>