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19B-3CF4-4FB5-9F5D-82B04723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ACE-6240-4A10-BAC6-275029D4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364-7DE3-431F-A69D-D4404BCC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828-DA99-46FB-8192-AD3FE7B6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EF2-0237-4AD1-91C7-99358B36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A52-082B-4760-9F1C-0E1FE353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33A-07D4-4AFA-99A6-483E77A8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3C2-33C3-48C2-B12E-1F79E92C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C9F-BAD6-4692-89DC-A7735F48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660-3F05-4286-8DC5-9AE13292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E1A-F842-4DD6-9DE8-FD500C4B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67E-3448-41C0-8A40-D5843BD3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4ACA-1DE7-4569-8A9C-7F12923AD01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insteinovo sčítací pravid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507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Einsteinovo sčítací pravidlo se používá pro zjednodušení obecných tenzorových zápisů. Vyskytuje-li se v některém členu opakovaný index (tzv. sčítací index, v našem případě index k) pak se provádí sumace přes tento index. Např. obecný zápis Green-Lagrangeova tenzoru přetvoření ve tv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je třeba interpretovat následovn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5"/>
              <p:cNvSpPr txBox="1"/>
              <p:nvPr/>
            </p:nvSpPr>
            <p:spPr>
              <a:xfrm>
                <a:off x="3241800" y="2603520"/>
                <a:ext cx="39942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2268360" y="4205160"/>
                <a:ext cx="4116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4:19:40Z</dcterms:created>
  <dc:creator>Jiri Bursa</dc:creator>
  <dc:description/>
  <dc:language>en-US</dc:language>
  <cp:lastModifiedBy>Prof. Jindrich Petruska</cp:lastModifiedBy>
  <dcterms:modified xsi:type="dcterms:W3CDTF">2010-01-08T11:52:55Z</dcterms:modified>
  <cp:revision>4</cp:revision>
  <dc:subject/>
  <dc:title>Einsteinovo sčítací pravidlo</dc:title>
</cp:coreProperties>
</file>