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6.jpeg" ContentType="image/jpeg"/>
  <Override PartName="/ppt/media/image24.png" ContentType="image/png"/>
  <Override PartName="/ppt/media/image22.png" ContentType="image/png"/>
  <Override PartName="/ppt/media/image13.jpeg" ContentType="image/jpeg"/>
  <Override PartName="/ppt/media/image23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4651-5679-4294-A717-AE775C58C26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B69F-8E35-434C-B387-4DBC2AA0C1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C89C-1120-4EB0-ABC7-4FC5A9ADECE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1269-1DCA-4AAF-8954-456C67C3A85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C7C8-712A-417D-8F5C-7C4688DBDB4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4869-4A0A-41D2-BAB0-78A75E32921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562-A35F-489B-8B17-48B27C60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46C-89AB-4AE6-A973-510BC1BA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664-4013-48AC-8C6D-3A408FA6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986-8DB9-48D5-AC26-657D68B3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45D3-6ACC-483B-B598-E9743480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169B-A680-41C1-95EC-FDEE553C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F878-6155-4E0A-AEAA-40114A76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2656-E078-458C-9324-D0D630C8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DDE3-EC31-4D2F-AE2C-D4EAC9BB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63BB-6940-44A6-8F7D-27B4A22C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C634-E143-4565-8293-9AEE76DE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BBB-8D61-48E6-9D43-6B0BD311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597B-57A7-4783-ACE0-086E787F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0826-B018-413C-9525-2B458EB7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4342-5166-45E7-9D92-68325DE8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77A0-E972-416C-A000-515487D7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0262-D1E6-4A4A-99C4-32BCBBFC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D02-BD4A-42CA-9A97-EB26B8CF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A2D-BA3F-4EDE-96E1-F1F787F8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CF5-E2E0-4B66-98C9-C94CFF6C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FE9-48FC-440D-9C81-E637B12A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F62-7079-42C3-826E-B34B5FED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232-97C4-4245-B6B9-08C17444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B3D-53B1-483F-99B9-731DEDAF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7631-9098-41D3-B870-6C3E4BE186D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E223-5DB1-4ABA-B73D-77C93D2E895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6693-4068-4BE1-9F69-3237ADC1EDC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ĚKTERÉ PROBLÉMY VÝPOČTOVÉ SIMULACE TVÁŘECÍCH PROCES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474192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Z historie výpočtového řeš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aint-Venant (70. léta 19.stol.) – deformační teorie plast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.Prandtl (1921) – teorie kluzových č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.Hill (1950) – inkrementální teorie plast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ornfield, Lee, Zienkiewicz (70. léta 20.stol.) – MKP v problémech tvář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120" name="Rectangle 6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" name="Object 7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3" name="Picture 9" descr="O8"/>
          <p:cNvPicPr/>
          <p:nvPr/>
        </p:nvPicPr>
        <p:blipFill>
          <a:blip r:embed="rId3"/>
          <a:stretch/>
        </p:blipFill>
        <p:spPr>
          <a:xfrm>
            <a:off x="5003640" y="1628640"/>
            <a:ext cx="2727360" cy="152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Picture 10" descr="O9"/>
          <p:cNvPicPr/>
          <p:nvPr/>
        </p:nvPicPr>
        <p:blipFill>
          <a:blip r:embed="rId4"/>
          <a:stretch/>
        </p:blipFill>
        <p:spPr>
          <a:xfrm>
            <a:off x="5364000" y="3213000"/>
            <a:ext cx="3267360" cy="9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5210280" y="4425840"/>
                <a:ext cx="15224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ε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dλ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C7DC-3A48-42E6-87DB-1FDDC5860EC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plikace explicitního algoritmu M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Výpočtová predikce zvlnění okrajů při lisování lamel odporníků elektrických lokomoti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6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234" name="Rectangle 7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5" name="Object 8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Napětí ve směru osy Z - celá lamela.avi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3809880" cy="2852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"/>
          <p:cNvPicPr/>
          <p:nvPr/>
        </p:nvPicPr>
        <p:blipFill>
          <a:blip r:embed="rId4"/>
          <a:stretch/>
        </p:blipFill>
        <p:spPr>
          <a:xfrm>
            <a:off x="6443640" y="189000"/>
            <a:ext cx="24494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icture 21" descr=""/>
          <p:cNvPicPr/>
          <p:nvPr/>
        </p:nvPicPr>
        <p:blipFill>
          <a:blip r:embed="rId5"/>
          <a:srcRect l="0" t="0" r="0" b="12434"/>
          <a:stretch/>
        </p:blipFill>
        <p:spPr>
          <a:xfrm>
            <a:off x="5003640" y="2133720"/>
            <a:ext cx="3387960" cy="1971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2" descr=""/>
          <p:cNvPicPr/>
          <p:nvPr/>
        </p:nvPicPr>
        <p:blipFill>
          <a:blip r:embed="rId6"/>
          <a:srcRect l="0" t="2210" r="0" b="6999"/>
          <a:stretch/>
        </p:blipFill>
        <p:spPr>
          <a:xfrm>
            <a:off x="5724360" y="4149720"/>
            <a:ext cx="2907000" cy="20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2" name="AutoShape 23"/>
          <p:cNvSpPr/>
          <p:nvPr/>
        </p:nvSpPr>
        <p:spPr>
          <a:xfrm>
            <a:off x="6588000" y="3645000"/>
            <a:ext cx="289080" cy="647640"/>
          </a:xfrm>
          <a:prstGeom prst="upDownArrow">
            <a:avLst>
              <a:gd name="adj1" fmla="val 50000"/>
              <a:gd name="adj2" fmla="val 44599"/>
            </a:avLst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24"/>
          <p:cNvSpPr/>
          <p:nvPr/>
        </p:nvSpPr>
        <p:spPr>
          <a:xfrm>
            <a:off x="7380360" y="26028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e4fb0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0200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5AD3-45CA-4A8F-8F81-161DD9BF7C2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počtová predikce tvárného poruš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rné porušení jako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nežádoucí fenomé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který limituje míru přípustných tvarových změ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mpirická kritéria tvárného lomu ty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kritické zhodnocení použitelnosti jednotlivých kritéri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návrh postupu výpočtově- experimentální kalibrace jednotlivých kritérií pro konkrétní materiá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implementace kritérií do postprocesoru MK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aplikace na základní typy tvářecích procesů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5" descr="cockroft_srouby_v92"/>
          <p:cNvPicPr/>
          <p:nvPr/>
        </p:nvPicPr>
        <p:blipFill>
          <a:blip r:embed="rId1"/>
          <a:stretch/>
        </p:blipFill>
        <p:spPr>
          <a:xfrm>
            <a:off x="6732720" y="3645000"/>
            <a:ext cx="188748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2" name="Picture 17" descr="P1100478"/>
          <p:cNvPicPr/>
          <p:nvPr/>
        </p:nvPicPr>
        <p:blipFill>
          <a:blip r:embed="rId2"/>
          <a:stretch/>
        </p:blipFill>
        <p:spPr>
          <a:xfrm>
            <a:off x="826920" y="4437000"/>
            <a:ext cx="2629080" cy="1809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8" descr="file009"/>
          <p:cNvPicPr/>
          <p:nvPr/>
        </p:nvPicPr>
        <p:blipFill>
          <a:blip r:embed="rId3"/>
          <a:stretch/>
        </p:blipFill>
        <p:spPr>
          <a:xfrm>
            <a:off x="3780000" y="4451400"/>
            <a:ext cx="2736720" cy="207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54" name="Object 21"/>
              <p:cNvSpPr txBox="1"/>
              <p:nvPr/>
            </p:nvSpPr>
            <p:spPr>
              <a:xfrm>
                <a:off x="5508720" y="2120760"/>
                <a:ext cx="14824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78DE-1E17-49CA-8CD2-7876DB47D8F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počtová predikce tvárného poruš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várné porušení jako klíčový proces při popisu operací dělení materiá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užití modelů založených na popisu iniciace, růstu a koalescence du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plikace na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roces ořezávání hlav šroub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260" name="Rectangle 5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1" name="Object 6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Radius.avi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101760" cy="2327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1" descr=""/>
          <p:cNvPicPr/>
          <p:nvPr/>
        </p:nvPicPr>
        <p:blipFill>
          <a:blip r:embed="rId4"/>
          <a:stretch/>
        </p:blipFill>
        <p:spPr>
          <a:xfrm>
            <a:off x="826920" y="52466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2" descr=""/>
          <p:cNvPicPr/>
          <p:nvPr/>
        </p:nvPicPr>
        <p:blipFill>
          <a:blip r:embed="rId5"/>
          <a:stretch/>
        </p:blipFill>
        <p:spPr>
          <a:xfrm>
            <a:off x="1835280" y="5064120"/>
            <a:ext cx="1655640" cy="1241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3" descr=""/>
          <p:cNvPicPr/>
          <p:nvPr/>
        </p:nvPicPr>
        <p:blipFill>
          <a:blip r:embed="rId6"/>
          <a:stretch/>
        </p:blipFill>
        <p:spPr>
          <a:xfrm>
            <a:off x="2771640" y="477684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4" descr="16"/>
          <p:cNvPicPr/>
          <p:nvPr/>
        </p:nvPicPr>
        <p:blipFill>
          <a:blip r:embed="rId7"/>
          <a:stretch/>
        </p:blipFill>
        <p:spPr>
          <a:xfrm>
            <a:off x="3419640" y="3552840"/>
            <a:ext cx="24699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8200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Zástupný symbol pro číslo snímku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67E4-4F4A-4301-80B8-166B4DC35CF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61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počtová simulace tvářecích procesů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hrnutí a perspekti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-2160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toda konečných prvků se i v oblasti tváření prosadila jako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standardní nástroj počítačové podpor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ro návrh a optimalizaci procesních parametrů a geometrie nástrojů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alší vývoj lze díky stále rostoucím výkonům výpočetní techniky očekávat v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ostupném nahrazování dosud dominujícího modelu makroskopického kontinua strukturně-mechanickými materiálovými model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na bázi mesomechaniky. Zejména se to týká modelů v oblasti  - lokalizace plastických efektů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poškozování a tvárného lom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strukturně vázaných výpočtových mode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stykových podmínek u „multibody“ úlo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5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276" name="Rectangle 6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7" name="Object 7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8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Zástupný symbol pro číslo snímku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372C-FE7B-4B7D-9FE9-85AD47CED3E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uhoplastická rychlostní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ormu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5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130" name="Rectangle 6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1" name="Object 7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33" name="Object 141"/>
              <p:cNvSpPr txBox="1"/>
              <p:nvPr/>
            </p:nvSpPr>
            <p:spPr>
              <a:xfrm>
                <a:off x="5068800" y="2781360"/>
                <a:ext cx="1519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40"/>
              <p:cNvSpPr txBox="1"/>
              <p:nvPr/>
            </p:nvSpPr>
            <p:spPr>
              <a:xfrm>
                <a:off x="3564000" y="3463920"/>
                <a:ext cx="2232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39"/>
              <p:cNvSpPr txBox="1"/>
              <p:nvPr/>
            </p:nvSpPr>
            <p:spPr>
              <a:xfrm>
                <a:off x="6300720" y="3429000"/>
                <a:ext cx="2232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38"/>
              <p:cNvSpPr txBox="1"/>
              <p:nvPr/>
            </p:nvSpPr>
            <p:spPr>
              <a:xfrm>
                <a:off x="3564000" y="4197240"/>
                <a:ext cx="14396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l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Rectangle 150"/>
          <p:cNvSpPr/>
          <p:nvPr/>
        </p:nvSpPr>
        <p:spPr>
          <a:xfrm>
            <a:off x="0" y="2104920"/>
            <a:ext cx="44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53"/>
          <p:cNvSpPr/>
          <p:nvPr/>
        </p:nvSpPr>
        <p:spPr>
          <a:xfrm>
            <a:off x="0" y="2104920"/>
            <a:ext cx="228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55"/>
          <p:cNvSpPr/>
          <p:nvPr/>
        </p:nvSpPr>
        <p:spPr>
          <a:xfrm>
            <a:off x="0" y="210492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58"/>
          <p:cNvSpPr/>
          <p:nvPr/>
        </p:nvSpPr>
        <p:spPr>
          <a:xfrm>
            <a:off x="0" y="2104920"/>
            <a:ext cx="228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60"/>
          <p:cNvSpPr/>
          <p:nvPr/>
        </p:nvSpPr>
        <p:spPr>
          <a:xfrm>
            <a:off x="0" y="278136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5"/>
          <p:cNvSpPr/>
          <p:nvPr/>
        </p:nvSpPr>
        <p:spPr>
          <a:xfrm>
            <a:off x="6229440" y="51195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álníh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konu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61"/>
          <p:cNvSpPr/>
          <p:nvPr/>
        </p:nvSpPr>
        <p:spPr>
          <a:xfrm>
            <a:off x="0" y="475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3"/>
          <p:cNvSpPr/>
          <p:nvPr/>
        </p:nvSpPr>
        <p:spPr>
          <a:xfrm>
            <a:off x="1180080" y="17733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roblé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65"/>
          <p:cNvSpPr/>
          <p:nvPr/>
        </p:nvSpPr>
        <p:spPr>
          <a:xfrm>
            <a:off x="3702600" y="1773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lasti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66"/>
          <p:cNvSpPr/>
          <p:nvPr/>
        </p:nvSpPr>
        <p:spPr>
          <a:xfrm>
            <a:off x="6588000" y="1773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vář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6"/>
          <p:cNvSpPr/>
          <p:nvPr/>
        </p:nvSpPr>
        <p:spPr>
          <a:xfrm>
            <a:off x="870480" y="220500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Neznámá veliči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88"/>
          <p:cNvSpPr/>
          <p:nvPr/>
        </p:nvSpPr>
        <p:spPr>
          <a:xfrm>
            <a:off x="2676600" y="5148360"/>
            <a:ext cx="3408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irtuální prá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89"/>
          <p:cNvSpPr/>
          <p:nvPr/>
        </p:nvSpPr>
        <p:spPr>
          <a:xfrm>
            <a:off x="3709800" y="2205000"/>
            <a:ext cx="1038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suv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90"/>
          <p:cNvSpPr/>
          <p:nvPr/>
        </p:nvSpPr>
        <p:spPr>
          <a:xfrm>
            <a:off x="6601320" y="2168640"/>
            <a:ext cx="130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ychlost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91"/>
          <p:cNvSpPr/>
          <p:nvPr/>
        </p:nvSpPr>
        <p:spPr>
          <a:xfrm>
            <a:off x="866160" y="285264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Rovnice rovnováh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94"/>
          <p:cNvSpPr/>
          <p:nvPr/>
        </p:nvSpPr>
        <p:spPr>
          <a:xfrm>
            <a:off x="819360" y="3429000"/>
            <a:ext cx="23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Geometrické vztah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95"/>
          <p:cNvSpPr/>
          <p:nvPr/>
        </p:nvSpPr>
        <p:spPr>
          <a:xfrm>
            <a:off x="764640" y="422100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onstitutivní rovn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96"/>
          <p:cNvSpPr/>
          <p:nvPr/>
        </p:nvSpPr>
        <p:spPr>
          <a:xfrm>
            <a:off x="839880" y="5157720"/>
            <a:ext cx="229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Výchozí princ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Diskretizace MK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9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97"/>
              <p:cNvSpPr txBox="1"/>
              <p:nvPr/>
            </p:nvSpPr>
            <p:spPr>
              <a:xfrm>
                <a:off x="6300720" y="3860640"/>
                <a:ext cx="1532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</m:acc>
                      </m:den>
                    </m:f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Rectangle 30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99"/>
              <p:cNvSpPr txBox="1"/>
              <p:nvPr/>
            </p:nvSpPr>
            <p:spPr>
              <a:xfrm>
                <a:off x="6300720" y="4683240"/>
                <a:ext cx="23036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</m:acc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30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01"/>
              <p:cNvSpPr txBox="1"/>
              <p:nvPr/>
            </p:nvSpPr>
            <p:spPr>
              <a:xfrm>
                <a:off x="3830760" y="5751360"/>
                <a:ext cx="10476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03"/>
              <p:cNvSpPr txBox="1"/>
              <p:nvPr/>
            </p:nvSpPr>
            <p:spPr>
              <a:xfrm>
                <a:off x="6227640" y="5746680"/>
                <a:ext cx="2376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Line 305"/>
          <p:cNvSpPr/>
          <p:nvPr/>
        </p:nvSpPr>
        <p:spPr>
          <a:xfrm>
            <a:off x="3276720" y="1773360"/>
            <a:ext cx="0" cy="4392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06"/>
          <p:cNvSpPr/>
          <p:nvPr/>
        </p:nvSpPr>
        <p:spPr>
          <a:xfrm>
            <a:off x="5867280" y="1773360"/>
            <a:ext cx="0" cy="93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07"/>
          <p:cNvSpPr/>
          <p:nvPr/>
        </p:nvSpPr>
        <p:spPr>
          <a:xfrm>
            <a:off x="5867280" y="3357720"/>
            <a:ext cx="0" cy="2808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08"/>
          <p:cNvSpPr/>
          <p:nvPr/>
        </p:nvSpPr>
        <p:spPr>
          <a:xfrm>
            <a:off x="684360" y="2205000"/>
            <a:ext cx="7991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309"/>
          <p:cNvSpPr/>
          <p:nvPr/>
        </p:nvSpPr>
        <p:spPr>
          <a:xfrm>
            <a:off x="684360" y="2708280"/>
            <a:ext cx="7991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10"/>
          <p:cNvSpPr/>
          <p:nvPr/>
        </p:nvSpPr>
        <p:spPr>
          <a:xfrm>
            <a:off x="684360" y="3357720"/>
            <a:ext cx="7991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11"/>
          <p:cNvSpPr/>
          <p:nvPr/>
        </p:nvSpPr>
        <p:spPr>
          <a:xfrm>
            <a:off x="684360" y="3895560"/>
            <a:ext cx="7991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12"/>
          <p:cNvSpPr/>
          <p:nvPr/>
        </p:nvSpPr>
        <p:spPr>
          <a:xfrm>
            <a:off x="684360" y="5157720"/>
            <a:ext cx="7991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13"/>
          <p:cNvSpPr/>
          <p:nvPr/>
        </p:nvSpPr>
        <p:spPr>
          <a:xfrm>
            <a:off x="755640" y="5661000"/>
            <a:ext cx="7920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14"/>
          <p:cNvSpPr/>
          <p:nvPr/>
        </p:nvSpPr>
        <p:spPr>
          <a:xfrm>
            <a:off x="684360" y="1773360"/>
            <a:ext cx="7991280" cy="4392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01F9-54BC-4159-BF1F-F5E5C92AF7D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4" descr="O6"/>
          <p:cNvPicPr/>
          <p:nvPr/>
        </p:nvPicPr>
        <p:blipFill>
          <a:blip r:embed="rId1"/>
          <a:stretch/>
        </p:blipFill>
        <p:spPr>
          <a:xfrm>
            <a:off x="826920" y="3789360"/>
            <a:ext cx="3071880" cy="24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 aplikace válc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D a 3D problé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družené teplotně-deformační řeš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stacionární analý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pojení stude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polupráce s průmys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ÚHŽ Dobrá, ITA Ostr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178" name="Rectangle 6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9" name="Object 7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0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21" descr="O1"/>
          <p:cNvPicPr/>
          <p:nvPr/>
        </p:nvPicPr>
        <p:blipFill>
          <a:blip r:embed="rId4"/>
          <a:stretch/>
        </p:blipFill>
        <p:spPr>
          <a:xfrm>
            <a:off x="6659640" y="260280"/>
            <a:ext cx="208584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Picture 25" descr="O7"/>
          <p:cNvPicPr/>
          <p:nvPr/>
        </p:nvPicPr>
        <p:blipFill>
          <a:blip r:embed="rId5"/>
          <a:stretch/>
        </p:blipFill>
        <p:spPr>
          <a:xfrm>
            <a:off x="5224320" y="1700280"/>
            <a:ext cx="3451320" cy="224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8" name="Picture 22" descr="O2"/>
          <p:cNvPicPr/>
          <p:nvPr/>
        </p:nvPicPr>
        <p:blipFill>
          <a:blip r:embed="rId6"/>
          <a:stretch/>
        </p:blipFill>
        <p:spPr>
          <a:xfrm>
            <a:off x="4211640" y="3573360"/>
            <a:ext cx="3987720" cy="208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Zástupný symbol pro číslo snímku 7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36B3-9D94-443C-BD24-FE709348EBF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" descr="obr01"/>
          <p:cNvPicPr/>
          <p:nvPr/>
        </p:nvPicPr>
        <p:blipFill>
          <a:blip r:embed="rId1"/>
          <a:stretch/>
        </p:blipFill>
        <p:spPr>
          <a:xfrm>
            <a:off x="2700360" y="2349360"/>
            <a:ext cx="5543640" cy="356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obr02"/>
          <p:cNvPicPr/>
          <p:nvPr/>
        </p:nvPicPr>
        <p:blipFill>
          <a:blip r:embed="rId2"/>
          <a:stretch/>
        </p:blipFill>
        <p:spPr>
          <a:xfrm>
            <a:off x="1044720" y="2349360"/>
            <a:ext cx="4606920" cy="3529080"/>
          </a:xfrm>
          <a:prstGeom prst="rect">
            <a:avLst/>
          </a:prstGeom>
          <a:ln w="0">
            <a:noFill/>
          </a:ln>
        </p:spPr>
      </p:pic>
      <p:pic>
        <p:nvPicPr>
          <p:cNvPr id="193" name="animace04.avi" descr=""/>
          <p:cNvPicPr/>
          <p:nvPr/>
        </p:nvPicPr>
        <p:blipFill>
          <a:blip r:embed="rId3"/>
          <a:stretch/>
        </p:blipFill>
        <p:spPr>
          <a:xfrm>
            <a:off x="5938920" y="189000"/>
            <a:ext cx="2954160" cy="20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112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imulace příčného válc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0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Zástupný symbol pro číslo snímku 7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1AC5-7452-46FE-BB27-FA54E3AF376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3" descr="obr07"/>
          <p:cNvPicPr/>
          <p:nvPr/>
        </p:nvPicPr>
        <p:blipFill>
          <a:blip r:embed="rId1"/>
          <a:stretch/>
        </p:blipFill>
        <p:spPr>
          <a:xfrm>
            <a:off x="826920" y="1773360"/>
            <a:ext cx="4537080" cy="33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Picture 4" descr="obr08"/>
          <p:cNvPicPr/>
          <p:nvPr/>
        </p:nvPicPr>
        <p:blipFill>
          <a:blip r:embed="rId2"/>
          <a:stretch/>
        </p:blipFill>
        <p:spPr>
          <a:xfrm>
            <a:off x="4356000" y="3206880"/>
            <a:ext cx="4138560" cy="30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Picture 5" descr="FSI-ZP1-ANGL-SPEC"/>
          <p:cNvPicPr/>
          <p:nvPr/>
        </p:nvPicPr>
        <p:blipFill>
          <a:blip r:embed="rId3"/>
          <a:stretch/>
        </p:blipFill>
        <p:spPr>
          <a:xfrm>
            <a:off x="6915240" y="189000"/>
            <a:ext cx="183348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854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imulace příčného válc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59E1-E693-4C06-B223-0D4C50264A0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animace10.avi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810240" cy="3352680"/>
          </a:xfrm>
          <a:prstGeom prst="rect">
            <a:avLst/>
          </a:prstGeom>
          <a:ln w="0">
            <a:noFill/>
          </a:ln>
        </p:spPr>
      </p:pic>
      <p:pic>
        <p:nvPicPr>
          <p:cNvPr id="204" name="animace11.avi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809880" cy="3352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FSI-ZP1-ANGL-SPEC"/>
          <p:cNvPicPr/>
          <p:nvPr/>
        </p:nvPicPr>
        <p:blipFill>
          <a:blip r:embed="rId3"/>
          <a:stretch/>
        </p:blipFill>
        <p:spPr>
          <a:xfrm>
            <a:off x="6915240" y="189000"/>
            <a:ext cx="183348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imulace příčného válc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80DF-DC02-4FED-83B9-E1DC63DD807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animace12.avi" descr=""/>
          <p:cNvPicPr/>
          <p:nvPr/>
        </p:nvPicPr>
        <p:blipFill>
          <a:blip r:embed="rId1"/>
          <a:stretch/>
        </p:blipFill>
        <p:spPr>
          <a:xfrm>
            <a:off x="838080" y="2205000"/>
            <a:ext cx="3810240" cy="3208320"/>
          </a:xfrm>
          <a:prstGeom prst="rect">
            <a:avLst/>
          </a:prstGeom>
          <a:ln w="0">
            <a:noFill/>
          </a:ln>
        </p:spPr>
      </p:pic>
      <p:pic>
        <p:nvPicPr>
          <p:cNvPr id="210" name="animace13.avi" descr=""/>
          <p:cNvPicPr/>
          <p:nvPr/>
        </p:nvPicPr>
        <p:blipFill>
          <a:blip r:embed="rId2"/>
          <a:stretch/>
        </p:blipFill>
        <p:spPr>
          <a:xfrm>
            <a:off x="4800600" y="2163600"/>
            <a:ext cx="3809880" cy="3291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FSI-ZP1-ANGL-SPEC"/>
          <p:cNvPicPr/>
          <p:nvPr/>
        </p:nvPicPr>
        <p:blipFill>
          <a:blip r:embed="rId3"/>
          <a:stretch/>
        </p:blipFill>
        <p:spPr>
          <a:xfrm>
            <a:off x="6915240" y="189000"/>
            <a:ext cx="183348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imulace příčného válc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Zástupný symbol pro číslo snímku 7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9D1C-E1D1-4DE4-B5E5-454CE3EDFB1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animace14.avi" descr=""/>
          <p:cNvPicPr/>
          <p:nvPr/>
        </p:nvPicPr>
        <p:blipFill>
          <a:blip r:embed="rId1"/>
          <a:stretch/>
        </p:blipFill>
        <p:spPr>
          <a:xfrm>
            <a:off x="755640" y="1763640"/>
            <a:ext cx="3013200" cy="260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6" name="animace15.avi" descr=""/>
          <p:cNvPicPr/>
          <p:nvPr/>
        </p:nvPicPr>
        <p:blipFill>
          <a:blip r:embed="rId2"/>
          <a:stretch/>
        </p:blipFill>
        <p:spPr>
          <a:xfrm>
            <a:off x="3132000" y="2852640"/>
            <a:ext cx="2725920" cy="235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animace16.avi" descr=""/>
          <p:cNvPicPr/>
          <p:nvPr/>
        </p:nvPicPr>
        <p:blipFill>
          <a:blip r:embed="rId3"/>
          <a:stretch/>
        </p:blipFill>
        <p:spPr>
          <a:xfrm>
            <a:off x="5557680" y="3886200"/>
            <a:ext cx="2830680" cy="24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6" descr="FSI-ZP1-ANGL-SPEC"/>
          <p:cNvPicPr/>
          <p:nvPr/>
        </p:nvPicPr>
        <p:blipFill>
          <a:blip r:embed="rId4"/>
          <a:stretch/>
        </p:blipFill>
        <p:spPr>
          <a:xfrm>
            <a:off x="6915240" y="217440"/>
            <a:ext cx="1833480" cy="11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imulace válcování v kalib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35D2-2AC9-462C-8229-7570272B48A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5965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mplicitní a explicitní algoritmus MKP v simulaci tvář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5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mplicitní algorit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ované řešení velké soustavy rovn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eární závislost délky řešení na počtu neznámých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vadratická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šířce pásu (fronty) matice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blém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3D analý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tížná predikovatelnost délky výpoč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Explicitní algoritmu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pouze dynamické problé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 u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( 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- u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j-1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diagonální matic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pad soustavy na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nezávislé rovni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pouze lineární závislost délky řešení na počtu neznámý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velmi rychlé řešení jednotlivých kro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hodné pro 3D analýzy rychlých děj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od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něně stabilní řeš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3276720" y="1700280"/>
                <a:ext cx="14875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0"/>
              <p:cNvSpPr txBox="1"/>
              <p:nvPr/>
            </p:nvSpPr>
            <p:spPr>
              <a:xfrm>
                <a:off x="6032520" y="2540160"/>
                <a:ext cx="1344600" cy="25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" name="AutoShape 12"/>
          <p:cNvSpPr/>
          <p:nvPr/>
        </p:nvSpPr>
        <p:spPr>
          <a:xfrm flipH="1">
            <a:off x="7424640" y="2637000"/>
            <a:ext cx="503280" cy="288720"/>
          </a:xfrm>
          <a:prstGeom prst="rightArrow">
            <a:avLst>
              <a:gd name="adj1" fmla="val 75824"/>
              <a:gd name="adj2" fmla="val 53335"/>
            </a:avLst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 flipH="1">
            <a:off x="5650920" y="5065560"/>
            <a:ext cx="502920" cy="289080"/>
          </a:xfrm>
          <a:prstGeom prst="rightArrow">
            <a:avLst>
              <a:gd name="adj1" fmla="val 75824"/>
              <a:gd name="adj2" fmla="val 53231"/>
            </a:avLst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7:15:50Z</dcterms:created>
  <dc:creator>Rudolf Fret</dc:creator>
  <dc:description/>
  <dc:language>en-US</dc:language>
  <cp:lastModifiedBy>Prof. Jindrich Petruska</cp:lastModifiedBy>
  <dcterms:modified xsi:type="dcterms:W3CDTF">2010-01-08T11:47:45Z</dcterms:modified>
  <cp:revision>83</cp:revision>
  <dc:subject/>
  <dc:title>STRUKTURNÍ STABILITA ŽÁRUPEVNÝCH OCELÍ A JEJICH SVAROVÝCH SPOJŮ</dc:title>
</cp:coreProperties>
</file>