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AD5-429B-4A63-B666-9E801904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829-A5A6-4F96-A4B9-DD9BD243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FF6-7855-4A38-BCFD-20E01F60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A0A-3935-4019-8926-E3ACDBDF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145-51F0-4F90-85D9-E3BA6994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0CA-5FBA-4FC7-A470-AA598EB0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55E-D7C1-47E1-8FE0-9C11C2F5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7E3-93F6-496C-B698-DD52C759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3CD-FA4A-4BF2-8DEC-81D81F67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B2B-FE53-4BBB-B674-2759753C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B20-B989-4B16-BF0C-B75E8D7D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1FC-4F17-495B-81D3-0263321F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AFAD-83D5-42C9-B357-3970903BA5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0280" y="549360"/>
            <a:ext cx="8362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iola-Kirchhoffův tenzor napětí 1. dru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717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1.Piola-Kirchhoffův tenzor napětí (označovaný také jako Lagrangeův nebo Piolův, v praxi často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mluvní napětí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 – engineering stress) je definován jako skutečná elementární síla vztažená na původní (tj. nedeformovanou) plochu elementu podle vztahu (platí pro hlavní napětí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Konkrétně pro hlavní napětí ve směru 1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4565520" y="3630600"/>
                <a:ext cx="18068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3203640" y="5227560"/>
                <a:ext cx="18064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10-01-08T11:53:37Z</dcterms:modified>
  <cp:revision>5</cp:revision>
  <dc:subject/>
  <dc:title>Piola-Kirchhoffův tenzor napětí 1. druhu </dc:title>
</cp:coreProperties>
</file>