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D7D-3B17-4403-A733-0F6C5475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C8DC-560E-4375-A11E-57A4EF80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CE1-6FE4-4336-9522-A0F40646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2BF3-4327-494B-9FBB-4310FF8D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1E9-97E6-492F-B433-7C835CC4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E02D-0188-446D-85D7-5DBA84BD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B6F-8FF7-44F1-99CD-0660E2DA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41E-E55D-4E06-94FE-6EFC5330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9B33-1FF3-4E99-98D8-B4A14CC9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393B-F2E8-4533-AD10-70686BBB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2AA9-28E2-4713-8A95-E5B9409E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7CCE-8A57-4283-BBBC-72354684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991C-4FCF-4E46-9BD2-8BD1F485787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&#345;etvo&#345;en&#237;-obr&#225;zek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Einsteinovo%20pravidlo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7138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reen-Lagrangeův tenzor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ečných přetvo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řetvoření (poměrná deformace) je vztažena k původním (nedeformovaným) rozměrům, ale je respektováno i natáčení elementu. Pak je délkové přetvoření (označení viz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obrázek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eformovaná délka elementu dx se zde počítá aplikací Pythagorovy věty ve 3D prostoru (není v obrázku zakresleno). Pro zjednodušení vztahu použijeme první dva členy binomické řad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ak dostane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ro ostatní složky délkových přetvoření platí analogic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4"/>
              <p:cNvSpPr txBox="1"/>
              <p:nvPr/>
            </p:nvSpPr>
            <p:spPr>
              <a:xfrm>
                <a:off x="600120" y="1919160"/>
                <a:ext cx="78944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w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u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w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6"/>
              <p:cNvSpPr txBox="1"/>
              <p:nvPr/>
            </p:nvSpPr>
            <p:spPr>
              <a:xfrm>
                <a:off x="4572000" y="3154320"/>
                <a:ext cx="24620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κ</m:t>
                        </m:r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κ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κ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κ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7"/>
              <p:cNvSpPr txBox="1"/>
              <p:nvPr/>
            </p:nvSpPr>
            <p:spPr>
              <a:xfrm>
                <a:off x="5092560" y="4484520"/>
                <a:ext cx="322128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8"/>
              <p:cNvSpPr txBox="1"/>
              <p:nvPr/>
            </p:nvSpPr>
            <p:spPr>
              <a:xfrm>
                <a:off x="687240" y="3745080"/>
                <a:ext cx="63565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w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f>
                          <m:num>
                            <m:r>
                              <m:t xml:space="preserve">2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9"/>
              <p:cNvSpPr txBox="1"/>
              <p:nvPr/>
            </p:nvSpPr>
            <p:spPr>
              <a:xfrm>
                <a:off x="995400" y="5559480"/>
                <a:ext cx="31399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10"/>
              <p:cNvSpPr txBox="1"/>
              <p:nvPr/>
            </p:nvSpPr>
            <p:spPr>
              <a:xfrm>
                <a:off x="5086440" y="5559480"/>
                <a:ext cx="31399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7138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reen-Lagrangeův tenzor přetvo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075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obecnění na všechny složky tenzoru přetvoření je možné pomocí tenzorového zápi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nto zápis používá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insteinovo sčítací pravidl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5"/>
              <p:cNvSpPr txBox="1"/>
              <p:nvPr/>
            </p:nvSpPr>
            <p:spPr>
              <a:xfrm>
                <a:off x="1979640" y="1925640"/>
                <a:ext cx="39942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" name="Rectangle 6"/>
          <p:cNvSpPr/>
          <p:nvPr/>
        </p:nvSpPr>
        <p:spPr>
          <a:xfrm>
            <a:off x="395280" y="3645000"/>
            <a:ext cx="828036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igorózní odvození tohoto tenzoru včetně mimodiagonálních složek je možno nalézt v literatuře, např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.A. Holzapfel: Nonlinear Solid Mechanics, Wiley and Sons,  200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. Okrouhlík a kol.: Mechanika poddajných těles, numerická matematika a superpočítače, Ústav termomechaniky AV ČR, Praha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0:23:28Z</dcterms:created>
  <dc:creator>Jiri Bursa</dc:creator>
  <dc:description/>
  <dc:language>en-US</dc:language>
  <cp:lastModifiedBy>Prof. Jindrich Petruska</cp:lastModifiedBy>
  <dcterms:modified xsi:type="dcterms:W3CDTF">2010-01-08T11:54:35Z</dcterms:modified>
  <cp:revision>6</cp:revision>
  <dc:subject/>
  <dc:title>Green-Lagrangeův tenzor konečných deformací</dc:title>
</cp:coreProperties>
</file>