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97C-E455-4194-8388-3C663451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7F5-D6E0-4D6F-B018-1011AE3E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3E1-A224-48BD-962E-6836A20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17E-9B0F-433D-984D-B9B0F181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D33-7190-45B6-A38C-8AFF3636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527-B3C6-4C00-A234-34A069E7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377-EED1-42AC-832F-5AE75C7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809-BDDC-4292-82E3-36F62360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FF6-1F15-47F4-BB0B-5A9244E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78B-D71A-462F-BADC-97727FA0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BBF-31CF-43C6-9544-7511B1C1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F38-AEF5-4BB6-B3C8-DF6C306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1B68-85FF-40D4-8B2D-DC0837A23A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mluvní přetvoření (pro malé deform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3559320" y="1197000"/>
                <a:ext cx="4541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Rectangle 6"/>
          <p:cNvSpPr/>
          <p:nvPr/>
        </p:nvSpPr>
        <p:spPr>
          <a:xfrm>
            <a:off x="384120" y="1185840"/>
            <a:ext cx="80755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Délková (označení viz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Úhlová (zkos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Vzhledem k tomu, že složkami tenzoru přetvoření jsou poloviční zkosy, lze napsat </a:t>
            </a: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obecný tenzorový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kde souřadnicím X,Y,Z odpovídají X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a posuvům u,v,w posuvy u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(pro i=1,2,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4356000" y="2212920"/>
                <a:ext cx="1706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1403280" y="3036960"/>
                <a:ext cx="6410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268880" y="4164120"/>
                <a:ext cx="3220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724360" y="5132520"/>
                <a:ext cx="2216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17:26Z</dcterms:created>
  <dc:creator>Jiri Bursa</dc:creator>
  <dc:description/>
  <dc:language>en-US</dc:language>
  <cp:lastModifiedBy>Prof. Jindrich Petruska</cp:lastModifiedBy>
  <dcterms:modified xsi:type="dcterms:W3CDTF">2010-01-08T11:56:54Z</dcterms:modified>
  <cp:revision>2</cp:revision>
  <dc:subject/>
  <dc:title>Smluvní přetvoření (pro malé deformace)</dc:title>
</cp:coreProperties>
</file>