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4CD-11DE-4413-8D38-B927A912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6EA-EA8D-4136-A3FF-46E349D6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4B1-5A66-4521-85B8-5122AACA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473F-84DE-460F-A324-DE567DE1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2BB-7F4D-4624-ADCF-BA691B50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FFC-4199-42E2-9C27-FEA253DC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3622-7649-4B2B-962E-C41AC023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CFB-E96F-48A4-B0FB-B163E807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071-AD0F-4FF9-BBA3-82A8AC49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DC2-0B57-444F-862B-73FD0544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DA1-81C2-4D06-B024-1523B84F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1BD-602E-487D-B969-679517DC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3721-F5B0-49D0-94D9-3AEE0AD9BA1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auchyho tenzor napě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Cauchyho tenzor napětí (označovaný také jako Eulerův, v praxi často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skutečná napětí</a:t>
            </a: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 – true stress) je definován jako skutečná elementární síla vztažená na skutečnou (tj. deformovanou) plochu elementu podle vztahu (platí pro hlavní napětí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Konkrétně pro hlavní napětí ve směru 1 pla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5"/>
              <p:cNvSpPr txBox="1"/>
              <p:nvPr/>
            </p:nvSpPr>
            <p:spPr>
              <a:xfrm>
                <a:off x="3193920" y="3429000"/>
                <a:ext cx="16812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7"/>
              <p:cNvSpPr txBox="1"/>
              <p:nvPr/>
            </p:nvSpPr>
            <p:spPr>
              <a:xfrm>
                <a:off x="3686040" y="4869000"/>
                <a:ext cx="17049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9:26:19Z</dcterms:created>
  <dc:creator>Jiri Bursa</dc:creator>
  <dc:description/>
  <dc:language>en-US</dc:language>
  <cp:lastModifiedBy>Prof. Jindrich Petruska</cp:lastModifiedBy>
  <dcterms:modified xsi:type="dcterms:W3CDTF">2010-01-08T11:53:54Z</dcterms:modified>
  <cp:revision>5</cp:revision>
  <dc:subject/>
  <dc:title>Piola-Kirchhoffův tenzor napětí 1. druhu </dc:title>
</cp:coreProperties>
</file>