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22E0-90D2-484E-9212-561DA87E1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A1D6-B1CF-40FF-B0A9-52BAFA4C0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3270-DA86-4405-B885-3F3FAD843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A6A3-D1A0-4A19-BA4B-9ADA8DFC5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A7F0-BC01-4E9B-A888-F7C949E6D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22DC-6B8D-442F-9995-F3C09002E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ADCC-FB1F-4C2F-99CA-1ECC8863E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5B45-76A2-4F31-8BC5-D536B90B5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7BC6-F5DC-41EC-9FE1-F791E1F1C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CC40-BCD0-47D4-910F-0745DECD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5246-C4AF-4D72-905A-91554FB3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6567-C1B2-465C-8FD0-08E81041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3CD26-1B8F-4C81-936A-69D123E46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značení deformovaných a nedeformovaných souřadn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68480" y="1989000"/>
            <a:ext cx="7248600" cy="413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4T09:31:44Z</dcterms:created>
  <dc:creator>Jiri Bursa</dc:creator>
  <dc:description/>
  <dc:language>en-US</dc:language>
  <cp:lastModifiedBy>Jiri Bursa</cp:lastModifiedBy>
  <dcterms:modified xsi:type="dcterms:W3CDTF">2006-11-04T09:32:20Z</dcterms:modified>
  <cp:revision>1</cp:revision>
  <dc:subject/>
  <dc:title>Označení deformovaných a nedeformovaných souřadnic</dc:title>
</cp:coreProperties>
</file>