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0683D-6F86-4DD0-89BE-EC6EC1BFF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D92BB-F57A-4D45-AE27-55FF1D1A1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ACCD6-E63C-4215-8CB2-8C533B9AD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EBF67-F96C-4C6B-A4BC-D01527D3E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59EB7-4F40-4668-8777-9E1DDBEC8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3B08A-2569-4058-B345-64C0ABFD4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D7300-B41F-4F1F-8869-F0DDDD4A4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2C89B-C2DE-46B1-8207-F051DE4BF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33DB4-32AE-4BA9-8EC5-B909BB231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4D2CB-DEB3-45DB-9CB3-BB5DB6E37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12D8C-CD74-4C80-8596-830849D13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CCABD-3903-41EF-A92F-0AE18FADA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A1952-2257-49D3-B9E7-77D65D798C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P&#345;etvo&#345;en&#237;-obr&#225;zek.ppt" TargetMode="External"/><Relationship Id="rId2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0920" y="380880"/>
            <a:ext cx="864216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mluvní přetvoření (pro malé deformac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" name=""/>
              <p:cNvSpPr txBox="1"/>
              <p:nvPr/>
            </p:nvSpPr>
            <p:spPr>
              <a:xfrm>
                <a:off x="3559320" y="1197000"/>
                <a:ext cx="4541760" cy="89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+</m:t>
                        </m:r>
                        <m:r>
                          <m:t xml:space="preserve">u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u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X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−</m:t>
                        </m:r>
                        <m:r>
                          <m:t xml:space="preserve">u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u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4" name=""/>
          <p:cNvSpPr/>
          <p:nvPr/>
        </p:nvSpPr>
        <p:spPr>
          <a:xfrm>
            <a:off x="384120" y="1185840"/>
            <a:ext cx="8075520" cy="49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808080"/>
                </a:solidFill>
                <a:latin typeface="Arial"/>
              </a:rPr>
              <a:t>Délková (označení viz </a:t>
            </a: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obrázek </a:t>
            </a:r>
            <a:r>
              <a:rPr b="0" lang="cs-CZ" sz="2000" spc="-1" strike="noStrike">
                <a:solidFill>
                  <a:srgbClr val="808080"/>
                </a:solidFill>
                <a:latin typeface="Arial"/>
              </a:rPr>
              <a:t>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808080"/>
                </a:solidFill>
                <a:latin typeface="Arial"/>
              </a:rPr>
              <a:t>Pro ostatní složky analogicky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808080"/>
                </a:solidFill>
                <a:latin typeface="Arial"/>
              </a:rPr>
              <a:t>Úhlová (zkosy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808080"/>
                </a:solidFill>
                <a:latin typeface="Arial"/>
              </a:rPr>
              <a:t>Pro ostatní složky analogicky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808080"/>
                </a:solidFill>
                <a:latin typeface="Arial"/>
              </a:rPr>
              <a:t>Vzhledem k tomu, že složkami tenzoru přetvoření jsou poloviční zkosy, lze napsat </a:t>
            </a:r>
            <a:r>
              <a:rPr b="0" lang="cs-CZ" sz="2000" spc="-1" strike="noStrike">
                <a:solidFill>
                  <a:srgbClr val="cc0000"/>
                </a:solidFill>
                <a:latin typeface="Arial"/>
              </a:rPr>
              <a:t>obecný tenzorový vzta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Arial"/>
              </a:rPr>
              <a:t>kde souřadnicím X,Y,Z odpovídají X</a:t>
            </a:r>
            <a:r>
              <a:rPr b="0" lang="cs-CZ" sz="1800" spc="-1" strike="noStrike" baseline="-25000">
                <a:solidFill>
                  <a:srgbClr val="808080"/>
                </a:solidFill>
                <a:latin typeface="Arial"/>
              </a:rPr>
              <a:t>i</a:t>
            </a:r>
            <a:r>
              <a:rPr b="0" lang="cs-CZ" sz="1800" spc="-1" strike="noStrike">
                <a:solidFill>
                  <a:srgbClr val="808080"/>
                </a:solidFill>
                <a:latin typeface="Arial"/>
              </a:rPr>
              <a:t> a posuvům u,v,w posuvy u</a:t>
            </a:r>
            <a:r>
              <a:rPr b="0" lang="cs-CZ" sz="1800" spc="-1" strike="noStrike" baseline="-25000">
                <a:solidFill>
                  <a:srgbClr val="808080"/>
                </a:solidFill>
                <a:latin typeface="Arial"/>
              </a:rPr>
              <a:t>i</a:t>
            </a:r>
            <a:r>
              <a:rPr b="0" lang="cs-CZ" sz="1800" spc="-1" strike="noStrike">
                <a:solidFill>
                  <a:srgbClr val="808080"/>
                </a:solidFill>
                <a:latin typeface="Arial"/>
              </a:rPr>
              <a:t> (pro i=1,2,3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" name=""/>
              <p:cNvSpPr txBox="1"/>
              <p:nvPr/>
            </p:nvSpPr>
            <p:spPr>
              <a:xfrm>
                <a:off x="4356000" y="2212920"/>
                <a:ext cx="170676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v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Y</m:t>
                        </m:r>
                      </m:den>
                    </m:f>
                    <m:r>
                      <m:t xml:space="preserve">;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w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Z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" name=""/>
              <p:cNvSpPr txBox="1"/>
              <p:nvPr/>
            </p:nvSpPr>
            <p:spPr>
              <a:xfrm>
                <a:off x="1403280" y="3036960"/>
                <a:ext cx="641052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γ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xy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γ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γ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tg</m:t>
                    </m:r>
                    <m:sSub>
                      <m:e>
                        <m:r>
                          <m:t xml:space="preserve">γ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tg</m:t>
                    </m:r>
                    <m:sSub>
                      <m:e>
                        <m:r>
                          <m:t xml:space="preserve">γ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v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X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u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Y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dY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Y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v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u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Y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" name=""/>
              <p:cNvSpPr txBox="1"/>
              <p:nvPr/>
            </p:nvSpPr>
            <p:spPr>
              <a:xfrm>
                <a:off x="4268880" y="4164120"/>
                <a:ext cx="3220920" cy="63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γ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yz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v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Z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w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Y</m:t>
                        </m:r>
                      </m:den>
                    </m:f>
                    <m:r>
                      <m:t xml:space="preserve">;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γ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xz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u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Z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w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" name=""/>
              <p:cNvSpPr txBox="1"/>
              <p:nvPr/>
            </p:nvSpPr>
            <p:spPr>
              <a:xfrm>
                <a:off x="5724360" y="5132520"/>
                <a:ext cx="2216160" cy="88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5T10:17:26Z</dcterms:created>
  <dc:creator>Jiri Bursa</dc:creator>
  <dc:description/>
  <dc:language>en-US</dc:language>
  <cp:lastModifiedBy>Jiri Bursa</cp:lastModifiedBy>
  <dcterms:modified xsi:type="dcterms:W3CDTF">2006-11-05T10:22:59Z</dcterms:modified>
  <cp:revision>2</cp:revision>
  <dc:subject/>
  <dc:title>Smluvní přetvoření (pro malé deformace)</dc:title>
</cp:coreProperties>
</file>