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56EF-64E8-462A-ABDE-A51B6C1B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CD16-0CA1-4200-ADE6-3FFEBFF8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CAAF-F49E-4B82-9C4C-DC53F83D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787-354F-4327-9B2B-5F9480DB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5142-1219-48E8-B6B3-84ECB2A7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5DD-B402-4FC6-85B4-3F071CB2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F0DD-BFB4-4AA7-A066-105EDA70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8CBF-944B-4D66-A730-999659FB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C98-D2AF-4800-B1FE-4E385B29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5E9-0E74-4FC8-9E9E-67046234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D6B7-86A3-4B22-AF38-DBBB885C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C7F-F264-4EC2-AB51-551DC54B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7002-9022-4B41-9AD5-5E36E2140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auchyho tenzor napě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Cauchyho tenzor napětí (označovaný také jako Eulerův, v praxi často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skutečná napětí</a:t>
            </a: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 – true stress) je definován jako skutečná elementární síla vztažená na skutečnou (tj. deformovanou) plochu elementu podle vztahu (platí pro hlavní napětí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Konkrétně pro hlavní napětí ve směru 1 pla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193920" y="3429000"/>
                <a:ext cx="16812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686040" y="4869000"/>
                <a:ext cx="17049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9:26:19Z</dcterms:created>
  <dc:creator>Jiri Bursa</dc:creator>
  <dc:description/>
  <dc:language>en-US</dc:language>
  <cp:lastModifiedBy>Jiri Bursa</cp:lastModifiedBy>
  <dcterms:modified xsi:type="dcterms:W3CDTF">2006-11-05T20:43:02Z</dcterms:modified>
  <cp:revision>4</cp:revision>
  <dc:subject/>
  <dc:title>Piola-Kirchhoffův tenzor napětí 1. druhu </dc:title>
</cp:coreProperties>
</file>