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744-7F35-435C-9486-9A85A74D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032-843C-4809-8664-271123DC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47A-D5D7-49E0-A6D6-354038D7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AA5-630B-44AB-8D2F-F8E08981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9667-C40B-4E90-9CE3-035E61BC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3B97-E160-4607-AB9F-031B8177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921A-B3DF-4284-A714-99CDB0B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8552-FD92-48D4-82E4-9B518B6C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9E60-2FB6-4C36-86B8-58769BE4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F9AB-B5E5-4525-856F-3E72896B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8964-EC9C-492D-B750-65977ACA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18B-20BF-4467-8673-64CAC0FC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E315-C3F3-46EA-8BA4-8D304F8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945C-BE70-4CD1-809B-FC947960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C8AE-CFA6-442D-B106-6239B919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020D-C1F1-4C5E-8607-C7A55FA0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5132-D500-434D-B2B6-43A667BB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72E-56ED-4FAE-BACE-769AFF47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E97-104F-4A56-80B0-D526B19A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5AC-8B99-4F03-83E2-666C803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F42-0E0B-4010-9D4B-88B7FCB5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B15-4B97-459B-A6ED-2107EDB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898-8871-4D98-9965-8695219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889-50D4-482B-8711-D09906C2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1BA1-64D8-4675-8EEA-FDE889B616C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12FA-B5AC-46B6-8E28-1C5ECF2D272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asticit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46720" y="4365720"/>
                <a:ext cx="24652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2280"/>
            <a:ext cx="79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lineární závislost mezi napětím a přetvořením je jednou z obvyklých příčin nelineární odezvy konstrukcí na zatíž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706840"/>
            <a:ext cx="7129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asto-plasti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á křivka napětí-přetvořen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D(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B.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D(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B.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3286080" cy="193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364000" y="5157720"/>
                <a:ext cx="1351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0B8-066B-446E-BDCB-1C4A614B772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77228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krementální (přírůstková) teorie plasticity poskytuje matematický aparát, umožňující výpočtově modelovat elastoplastickou odezvu materiálu na zatížení. Tři základní komponenty teorie plasticity jsou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mínka plasticity, zákon teč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zpevně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4520" y="322956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odmínka plasticit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3600" y="3542040"/>
            <a:ext cx="7394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hoduje o úrovni napjatosti, při které je iniciován proces plastizace. Pro obecnou napjatost je kriteriální veličinou ekvivalentní (redukované) napětí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0890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740720" y="4797360"/>
            <a:ext cx="287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5878440"/>
            <a:ext cx="934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559400"/>
            <a:ext cx="43480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mínka plasticity má 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prostoru hlavních napětí je reprezentována plochou plasticity, která má pro nejčastěji používanou podmínku HMH válcový tvar dle 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A45-CDA2-46E0-BFD1-7202063278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78920" y="126756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ákon teč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6992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rčuje velikost přírůstku složek plastického přetvoření v závislosti na přírůstku napětí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6848640" cy="16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4437000"/>
            <a:ext cx="20890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164360" y="5950080"/>
            <a:ext cx="863640" cy="215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797360"/>
            <a:ext cx="287280" cy="216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427560"/>
            <a:ext cx="6624720" cy="8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tický multiplikátor (rozhoduje o velikosti přírůstk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plastický potenciál, obvykle ztotožněn s plochou plastic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60D-C46E-4CB9-AF1C-32C9A2F4AD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1843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pevn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2348280"/>
            <a:ext cx="77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změnu plochy plasticity během procesu plastické deformace, aby bylo možno formulovat následné podmínky plasticity při opakované, cyklické plastizaci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3475080"/>
            <a:ext cx="5451480" cy="26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A8D-66D0-42CB-A906-80C1156943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2360" y="2132280"/>
            <a:ext cx="2925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uschinge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ů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k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2232000" cy="1865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84760" y="508392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é zpevn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43280" y="2755800"/>
          <a:ext cx="3097440" cy="240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755800"/>
                    <a:ext cx="30974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713840" y="5083920"/>
            <a:ext cx="22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rop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pev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582-0236-498E-AEB3-C79804C440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asti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77156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proximace tahového dia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ilin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rn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Multilin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r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975280" cy="29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767-8EDD-49AB-99E9-C46708A998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1120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základní modely zpevnění: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bilineární kinematický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multilineární kinematický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bilineární izotropní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multilineární izotrop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319640" cy="38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9A4-839F-47E7-8EFF-74C8BFF1F54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Prof. Jindrich Petruska</cp:lastModifiedBy>
  <dcterms:modified xsi:type="dcterms:W3CDTF">2006-11-13T21:38:46Z</dcterms:modified>
  <cp:revision>107</cp:revision>
  <dc:subject/>
  <dc:title>STRUKTURNÍ STABILITA ŽÁRUPEVNÝCH OCELÍ A JEJICH SVAROVÝCH SPOJŮ</dc:title>
</cp:coreProperties>
</file>