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D24D-788F-4E32-9AEA-077158765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FCA2-E323-4536-8826-1A88A77E7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039F-3628-4633-A25E-100C7AF96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063F-5AF2-4075-8A4B-78BC3416F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6A2C0-FC8D-437E-8C2F-036FA707D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4BFBE-0F8E-462D-9704-1A5C88479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541BB-B4B3-41A8-B29C-479CD77C7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1CC8D-F3E3-430A-B0DD-B49C94012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A7088-51F7-4D71-B0C2-5E98A2AC2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838080" y="1522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2E424-62DC-4BC4-9427-414C9FF82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0C00B-4293-4083-85ED-F14DECCA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7716-24D1-4075-B3DD-CE25D5716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56E70-DD48-4E8A-B6C8-ECF86915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F010E-008E-4419-8389-770BF382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FD843-C5FE-4E03-A7BB-4EB79A10A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B66D3-B791-412C-9BB8-169FE8A9D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F2243-8688-47CE-95D4-9C9A663AA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D26A-343A-4FA6-8DEF-E32554AAC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4AA5-89F8-4783-9CAD-9923FB2E9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BE87-224C-45C9-BEB8-3DC35D364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1522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CCA4-713E-4823-B592-CEB3BC0C6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C902-8B60-4346-82E3-21B69386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4FB9-C0E3-4BCB-8611-24C778CF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29CA-5233-404F-BB40-79DE8647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8088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0" y="0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996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5268" y="2976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96" y="278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0" y="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192" y="72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E9D0C-3D36-4F56-B7F0-1E7AB9FD2FAB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6640" y="1981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DB14E-35D9-4E09-A628-D2ED6E085366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ormační teorie plasticit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4360" y="1698840"/>
            <a:ext cx="7986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Výchozí předpokla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měry hlavních napětí a přetvoření jsou shodn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bjem se mění pružn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xtrémní smyková napětí jsou úměrná extrémním zkosů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Intenzita napětí je funkcí intenzity přetvoře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dlehčování probíhá pružn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72A4-5FFA-4BFC-8B18-4ABBE4D650D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755640" y="1474560"/>
            <a:ext cx="79866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Poskytuje vzájemně jednoznačné vztahy mezi konečnými hodnotami složek tenzoru napětí a přetvoření bez ohledu na historii zatížení (zatěžovací cestu). Představuje tedy jednodušší výpočtový model plastického chování, použitelný zejména v případech proporcionálního zatěžování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Funkce plasticity </a:t>
            </a:r>
            <a:r>
              <a:rPr b="1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ávisí na dosažené úrovni přetvoření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ormační teorie plasticit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476360" y="2913120"/>
                <a:ext cx="633564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ε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σ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y</m:t>
                                </m:r>
                                <m:r>
                                  <m:t xml:space="preserve">,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yz</m:t>
                                </m:r>
                                <m:r>
                                  <m:t xml:space="preserve">,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zx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ε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y</m:t>
                                </m:r>
                                <m:r>
                                  <m:t xml:space="preserve">,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yz</m:t>
                                </m:r>
                                <m:r>
                                  <m:t xml:space="preserve">,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zx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627200" y="3467160"/>
                <a:ext cx="2719440" cy="19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C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C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C</m:t>
                              </m:r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651640" y="3573360"/>
                <a:ext cx="1525320" cy="17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μ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ϕ</m:t>
                            </m:r>
                          </m:den>
                        </m:f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μ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ϕ</m:t>
                            </m:r>
                          </m:den>
                        </m:f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ϕ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FBE7-EFF6-485D-BCA3-1FE099B1FFBB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3T17:15:50Z</dcterms:created>
  <dc:creator>Rudolf Fret</dc:creator>
  <dc:description/>
  <dc:language>en-US</dc:language>
  <cp:lastModifiedBy>Prof. Jindrich Petruska</cp:lastModifiedBy>
  <dcterms:modified xsi:type="dcterms:W3CDTF">2006-11-13T22:09:07Z</dcterms:modified>
  <cp:revision>107</cp:revision>
  <dc:subject/>
  <dc:title>STRUKTURNÍ STABILITA ŽÁRUPEVNÝCH OCELÍ A JEJICH SVAROVÝCH SPOJŮ</dc:title>
</cp:coreProperties>
</file>