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224-E0D6-4312-8C86-A64A43AC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B08F-6FAD-486E-8CF4-E5A89DF6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B72-91F2-46E2-BF4E-E93FC6AA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1B1-2964-4482-AAB5-12F4AAA6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4FD-0ED8-4F63-AB96-1B8165E3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AF7-EBB6-4C1C-A612-0F128AEC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E0B-710B-47EE-875F-26E2860F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099-13B6-4384-9CB3-FA57BBCB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ADB-6EE4-4A51-8626-F9F0E42C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14B-3A31-4C10-86BC-9B7CEDD7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0DD-50CF-42DF-AFC9-D68DA937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0C5-B91D-4757-ADD9-A31FBF67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746F-BE86-4F79-B208-7ABA77CEF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mocí poměrných protažení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Tahoma"/>
              </a:rPr>
              <a:t>λ</a:t>
            </a:r>
            <a:r>
              <a:rPr b="0" lang="cs-CZ" sz="40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i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  <a:ea typeface="Tahoma"/>
              </a:rPr>
              <a:t> (složky tenzoru deformačního gradientu ) lze Green-Lagrangeův tenzor přetvoření vyjádřit následovně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38600" y="4586400"/>
            <a:ext cx="3709800" cy="78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1:40:07Z</dcterms:created>
  <dc:creator>Jiri Bursa</dc:creator>
  <dc:description/>
  <dc:language>en-US</dc:language>
  <cp:lastModifiedBy>Jiri Bursa</cp:lastModifiedBy>
  <dcterms:modified xsi:type="dcterms:W3CDTF">2006-11-05T13:27:55Z</dcterms:modified>
  <cp:revision>3</cp:revision>
  <dc:subject/>
  <dc:title>Snímek 1</dc:title>
</cp:coreProperties>
</file>