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E979-5F72-43FE-AED3-855EC4D2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FAD-A15E-4B51-BCDD-151AB883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576F-CB5B-47A5-BC5C-A13034E3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407-08C5-480F-B0FE-D4799201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9077-A2CA-4C57-A1FC-60EEE666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BD54-CDAA-44CB-A8A3-E7437177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86C2-6B2E-4D05-A141-6E9CE088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4FEF-32CA-4D8D-A1D2-42A60AF5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8CE4-8D79-4E68-9665-07F214DD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C654-B296-4345-9090-BB65ECDD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81B2-8570-43EA-B9F4-CD880814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83E-B67D-4C48-9866-CE765D51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A772-36B7-46A0-969F-E0A3574A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F475-21CE-42DD-B337-F9F14CE6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B58B-9388-4159-95D7-4A9DA37D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283E-402D-4A8D-AF41-C27420EF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D019-2A2E-4D63-B307-D80D64DE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7EE-9763-4EB8-8D24-71AC2222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9C1-7284-4484-9F23-3BCEB96A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0C7-E03A-47D8-9CB7-18540BED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849-823B-415B-B633-425502A7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EFDE-2FB5-412A-85AE-FFD81182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066-F729-41F0-B7A0-F1E39A28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63D-D4F1-4143-BB22-ED790C31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6177-5F61-420D-B993-9D6008CC44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08CD-4ED4-4776-B2D8-E76EC24871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Základní definice tenzoru přetvoření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Green-Lagrangeův tenzor přetvoř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Smluvní přetvoření – pro malé deform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Almansiho tenzor přetvoření pro malé a velké deform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Cauchyho (logaritmický) tenzor přetvoř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Tenzor deformačního gradien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Pravý Cauchy-Greenův tenzor deform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2:40:43Z</dcterms:created>
  <dc:creator>Jiří Burša</dc:creator>
  <dc:description/>
  <dc:language>en-US</dc:language>
  <cp:lastModifiedBy>Jiří Burša</cp:lastModifiedBy>
  <dcterms:modified xsi:type="dcterms:W3CDTF">2006-10-30T14:59:03Z</dcterms:modified>
  <cp:revision>82</cp:revision>
  <dc:subject/>
  <dc:title>Úvod do teorie lineární viskoelasticity</dc:title>
</cp:coreProperties>
</file>