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F132-2E89-4580-9975-7CA23D6AF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A459-12BA-4B01-9EE4-6AD8F36A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8220-E4C7-4FB9-9BE6-859ACA95A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758D-E23D-4819-B9AE-38AE7F5BB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8125-B075-43F2-945D-DCDBD2A3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505E-4738-4E5C-8B66-3E702746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3E73-F75F-4B85-957D-E07CD122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9FDE-F336-4E7B-A7CF-A50B60C2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4DEB-0F16-4ABF-832C-2301AAEB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1C8B-CAF8-4B32-84C8-6DE9FBC2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4AFE-08AE-45AA-B951-575E4B05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71FB-147E-4479-8A15-EC64A418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C7EA-FE3A-4D83-9C97-DF90CE41E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zájemné přepočtové vztahy pro tenzory přetvoř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979640" y="4941720"/>
                <a:ext cx="11332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468360" y="1525680"/>
            <a:ext cx="813600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Tahoma"/>
              </a:rPr>
              <a:t>Nejvhodnější pro vzájemný přepočet tenzorů přetvoření jsou poměrná protažení </a:t>
            </a:r>
            <a:r>
              <a:rPr b="0" lang="el-GR" sz="2000" spc="-1" strike="noStrike">
                <a:solidFill>
                  <a:srgbClr val="333333"/>
                </a:solidFill>
                <a:latin typeface="Tahoma"/>
                <a:ea typeface="Tahoma"/>
              </a:rPr>
              <a:t>λ</a:t>
            </a:r>
            <a:r>
              <a:rPr b="0" lang="cs-CZ" sz="2000" spc="-1" strike="noStrike" baseline="-25000">
                <a:solidFill>
                  <a:srgbClr val="333333"/>
                </a:solidFill>
                <a:latin typeface="Tahoma"/>
                <a:ea typeface="Tahoma"/>
              </a:rPr>
              <a:t>i</a:t>
            </a:r>
            <a:r>
              <a:rPr b="0" lang="cs-CZ" sz="2000" spc="-1" strike="noStrike">
                <a:solidFill>
                  <a:srgbClr val="333333"/>
                </a:solidFill>
                <a:latin typeface="Tahoma"/>
              </a:rPr>
              <a:t>, tedy složky tenzoru deformačního gradientu. Pro jednoduchost jsou uvedena jen hlavní přetvoření jako funkce hlavních poměrných protažení </a:t>
            </a:r>
            <a:r>
              <a:rPr b="0" lang="el-GR" sz="2000" spc="-1" strike="noStrike">
                <a:solidFill>
                  <a:srgbClr val="333333"/>
                </a:solidFill>
                <a:latin typeface="Arial"/>
              </a:rPr>
              <a:t>λ</a:t>
            </a:r>
            <a:r>
              <a:rPr b="0" lang="cs-CZ" sz="2000" spc="-1" strike="noStrike" baseline="-25000">
                <a:solidFill>
                  <a:srgbClr val="333333"/>
                </a:solidFill>
                <a:latin typeface="Arial"/>
              </a:rPr>
              <a:t>i</a:t>
            </a:r>
            <a:r>
              <a:rPr b="0" lang="cs-CZ" sz="2000" spc="-1" strike="noStrike">
                <a:solidFill>
                  <a:srgbClr val="333333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Tahoma"/>
              </a:rPr>
              <a:t>Smluvní přetvoření - vztah se odvozuje v základní PP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Tahoma"/>
              </a:rPr>
              <a:t>Green-Lagran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Tahoma"/>
              </a:rPr>
              <a:t>Almansi-Ham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Tahoma"/>
              </a:rPr>
              <a:t>Cauch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6769080" y="2587680"/>
                <a:ext cx="11160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838600" y="3230640"/>
                <a:ext cx="53337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690640" y="4005360"/>
                <a:ext cx="548172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zdíly mezi jednotlivými definicemi tenzoru přetvoře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2743200"/>
          <a:ext cx="4792680" cy="32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43200"/>
                    <a:ext cx="4792680" cy="32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187280" y="2492280"/>
            <a:ext cx="3024360" cy="730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2708280"/>
            <a:ext cx="4537080" cy="730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11640" y="2540160"/>
            <a:ext cx="151128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68360" y="2133720"/>
            <a:ext cx="648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16360" y="27813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21337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187960" y="2708280"/>
                <a:ext cx="311616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243400" y="3645000"/>
                <a:ext cx="30006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5289480" y="4292640"/>
                <a:ext cx="18748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5381640" y="4946760"/>
                <a:ext cx="21430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1619280" y="1700280"/>
            <a:ext cx="4681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20:01:20Z</dcterms:created>
  <dc:creator>Jiri Bursa</dc:creator>
  <dc:description/>
  <dc:language>en-US</dc:language>
  <cp:lastModifiedBy>Jiri Bursa</cp:lastModifiedBy>
  <dcterms:modified xsi:type="dcterms:W3CDTF">2006-11-05T21:33:51Z</dcterms:modified>
  <cp:revision>7</cp:revision>
  <dc:subject/>
  <dc:title>Vzájemné přepočtové vztahy pro tenzory přetvoření</dc:title>
</cp:coreProperties>
</file>