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56F-8F90-402A-B4EE-74474F3C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F76-E261-468D-8351-A53BF9FD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073F-E31E-41BC-9468-14628B1A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45B-D394-47A8-A9A0-B0EEDCCD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E794-9F0C-4CE5-879B-F00388A6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D95D-5075-4056-BEA8-70BA1C41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DA1F-D526-4BC5-95EF-CDD8E3E1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7723-31C2-4B52-B377-40BE31C1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BA60-599C-42D5-8EB6-2E058CAC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45F3-2D55-4788-ADAD-8C5B1DFA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43DC-5E52-4CE3-B25A-C82C69CB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252-6BDE-49F4-B1AE-D55A3F84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2654-8934-4B5B-9D57-406ABE69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A3ED-B1B9-4D19-8963-1C231A0C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85DD-7F4E-4D77-9E4E-02C19AED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4568-966E-436D-8D22-D9EDECA8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7E0C-2FA0-4C80-BE9F-46E5A08D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B63-A358-4C33-819B-653E54DF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B27-0614-4A23-BD9E-6EEE0F94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D49-7F1E-412D-AA27-4341862D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98F-9FED-4AAC-9C3A-15242ABA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666-07F6-45E2-B3AB-5F852101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1F6-E123-4C09-B1AA-1CC59DFF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9D7-E3D5-455F-B7C0-07D794AD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EE05-E20C-401E-BBCE-C792DAAD777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C79D-9147-46BD-8F1D-FA4DF293647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k:@MSITStore:C:%5CProgram%20Files%5CAnsys%20Inc%5Cv100%5CCommonFiles%5CHELP%5Cen-us%5Cansyshelp.chm::/Hlp_E_TARGE169.html" TargetMode="External"/><Relationship Id="rId2" Type="http://schemas.openxmlformats.org/officeDocument/2006/relationships/hyperlink" Target="mk:@MSITStore:C:%5CProgram%20Files%5CAnsys%20Inc%5Cv100%5CCommonFiles%5CHELP%5Cen-us%5Cansyshelp.chm::/Hlp_E_TARGE170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k:@MSITStore:C:%5CProgram%20Files%5CAnsys%20Inc%5Cv100%5CCommonFiles%5CHELP%5Cen-us%5Cansyshelp.chm::/Hlp_E_CONTA171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ontaktní úloh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F142-58DD-42EA-88EC-22B1C377AE5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699840"/>
            <a:ext cx="813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kladní klasifikace kontakt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uhý-poddajný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id – flexibl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dajný-poddajný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exible - flexibl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zel na uzel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d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zel na povrch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fa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vrch na povrch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rfa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vyklá kombin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taktní prvky typu povrch na povrch, oba povrchy poddajné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taktní pár na stykových površích je tvořen prvky typu „cílový povrch“  (target surface) a „kontaktní povrch“ (contact surfac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ílový povr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e modelován buď prvky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TARGE169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nebo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TARGE170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pro 2-D a 3-D problém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822-5EE5-4BA3-AD59-8AA5F87D020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71640" y="2190600"/>
            <a:ext cx="5400720" cy="354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395280" y="765000"/>
            <a:ext cx="837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ntaktní povr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ůže být modelován prvky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CONTA17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CONTA172, CONTA173 nebo CONTA17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3F4-8AAD-4696-8DEA-8AFAD92A51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4867200" cy="410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611280" y="476280"/>
            <a:ext cx="7802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vorba kontaktních párů typu tuhý – deformovatelný pov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zájemné přiřazení stykových povrchů je uskutečněno prostřednictvím společně sdíleného identifikátoru kontaktních vlastností, tzv. „reálných konstant“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201-B8C3-419D-ABED-031A6E131E1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52480" y="2119320"/>
            <a:ext cx="5639040" cy="26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684360" y="76500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ormál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tykového povrchu u všech elementů musí být jednotně orientována směrem ven z těl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018-EA65-4E17-814F-2122F78F5BF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905360" y="2060640"/>
            <a:ext cx="2994480" cy="2027520"/>
            <a:chOff x="4905360" y="2060640"/>
            <a:chExt cx="2994480" cy="2027520"/>
          </a:xfrm>
        </p:grpSpPr>
        <p:sp>
          <p:nvSpPr>
            <p:cNvPr id="122" name=""/>
            <p:cNvSpPr/>
            <p:nvPr/>
          </p:nvSpPr>
          <p:spPr>
            <a:xfrm>
              <a:off x="6470640" y="2060640"/>
              <a:ext cx="3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386040" y="2165040"/>
              <a:ext cx="3240" cy="54756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4905360" y="2333520"/>
              <a:ext cx="2994480" cy="1754640"/>
              <a:chOff x="4905360" y="2333520"/>
              <a:chExt cx="2994480" cy="17546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4905360" y="3425040"/>
                <a:ext cx="2994480" cy="663120"/>
                <a:chOff x="4905360" y="3425040"/>
                <a:chExt cx="2994480" cy="663120"/>
              </a:xfrm>
            </p:grpSpPr>
            <p:cxnSp>
              <p:nvCxnSpPr>
                <p:cNvPr id="126" name=""/>
                <p:cNvCxnSpPr/>
                <p:nvPr/>
              </p:nvCxnSpPr>
              <p:spPr>
                <a:xfrm>
                  <a:off x="4923000" y="3425040"/>
                  <a:ext cx="74664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127" name=""/>
                <p:cNvCxnSpPr/>
                <p:nvPr/>
              </p:nvCxnSpPr>
              <p:spPr>
                <a:xfrm>
                  <a:off x="5668920" y="3425040"/>
                  <a:ext cx="74376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128" name=""/>
                <p:cNvCxnSpPr/>
                <p:nvPr/>
              </p:nvCxnSpPr>
              <p:spPr>
                <a:xfrm>
                  <a:off x="6411960" y="3425040"/>
                  <a:ext cx="74376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129" name=""/>
                <p:cNvCxnSpPr/>
                <p:nvPr/>
              </p:nvCxnSpPr>
              <p:spPr>
                <a:xfrm>
                  <a:off x="7155000" y="3425040"/>
                  <a:ext cx="74520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sp>
              <p:nvSpPr>
                <p:cNvPr id="130" name=""/>
                <p:cNvSpPr/>
                <p:nvPr/>
              </p:nvSpPr>
              <p:spPr>
                <a:xfrm>
                  <a:off x="4917960" y="3493080"/>
                  <a:ext cx="0" cy="572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668920" y="3425400"/>
                  <a:ext cx="0" cy="572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411960" y="3425400"/>
                  <a:ext cx="0" cy="65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155000" y="3425400"/>
                  <a:ext cx="0" cy="572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899480" y="3425400"/>
                  <a:ext cx="0" cy="65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905360" y="3985200"/>
                  <a:ext cx="2973240" cy="102960"/>
                </a:xfrm>
                <a:custGeom>
                  <a:avLst/>
                  <a:gdLst/>
                  <a:ahLst/>
                  <a:rect l="l" t="t" r="r" b="b"/>
                  <a:pathLst>
                    <a:path w="1920" h="48">
                      <a:moveTo>
                        <a:pt x="0" y="48"/>
                      </a:moveTo>
                      <a:cubicBezTo>
                        <a:pt x="160" y="24"/>
                        <a:pt x="320" y="0"/>
                        <a:pt x="480" y="0"/>
                      </a:cubicBezTo>
                      <a:cubicBezTo>
                        <a:pt x="640" y="0"/>
                        <a:pt x="800" y="48"/>
                        <a:pt x="960" y="48"/>
                      </a:cubicBezTo>
                      <a:cubicBezTo>
                        <a:pt x="1120" y="48"/>
                        <a:pt x="1280" y="0"/>
                        <a:pt x="1440" y="0"/>
                      </a:cubicBezTo>
                      <a:cubicBezTo>
                        <a:pt x="1600" y="0"/>
                        <a:pt x="1760" y="24"/>
                        <a:pt x="1920" y="48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087520" y="2333520"/>
                <a:ext cx="2603880" cy="1386720"/>
                <a:chOff x="5087520" y="2333520"/>
                <a:chExt cx="2603880" cy="1386720"/>
              </a:xfrm>
            </p:grpSpPr>
            <p:cxnSp>
              <p:nvCxnSpPr>
                <p:cNvPr id="137" name=""/>
                <p:cNvCxnSpPr/>
                <p:nvPr/>
              </p:nvCxnSpPr>
              <p:spPr>
                <a:xfrm>
                  <a:off x="5163840" y="3039480"/>
                  <a:ext cx="383400" cy="46224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138" name=""/>
                <p:cNvCxnSpPr/>
                <p:nvPr/>
              </p:nvCxnSpPr>
              <p:spPr>
                <a:xfrm>
                  <a:off x="5546880" y="3490200"/>
                  <a:ext cx="419760" cy="22608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139" name=""/>
                <p:cNvCxnSpPr/>
                <p:nvPr/>
              </p:nvCxnSpPr>
              <p:spPr>
                <a:xfrm>
                  <a:off x="5976720" y="3714120"/>
                  <a:ext cx="826200" cy="216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140" name=""/>
                <p:cNvCxnSpPr/>
                <p:nvPr/>
              </p:nvCxnSpPr>
              <p:spPr>
                <a:xfrm flipV="1">
                  <a:off x="6781320" y="3524760"/>
                  <a:ext cx="451800" cy="19584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141" name=""/>
                <p:cNvCxnSpPr/>
                <p:nvPr/>
              </p:nvCxnSpPr>
              <p:spPr>
                <a:xfrm flipV="1">
                  <a:off x="7232400" y="3048480"/>
                  <a:ext cx="384840" cy="47628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sp>
              <p:nvSpPr>
                <p:cNvPr id="142" name=""/>
                <p:cNvSpPr/>
                <p:nvPr/>
              </p:nvSpPr>
              <p:spPr>
                <a:xfrm flipH="1" flipV="1">
                  <a:off x="5087520" y="2333520"/>
                  <a:ext cx="74520" cy="7156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5535720" y="2530080"/>
                  <a:ext cx="98280" cy="9266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5967360" y="2742120"/>
                  <a:ext cx="162000" cy="9507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645240" y="2723760"/>
                  <a:ext cx="165240" cy="964800"/>
                </a:xfrm>
                <a:custGeom>
                  <a:avLst/>
                  <a:gdLst/>
                  <a:ahLst/>
                  <a:rect l="l" t="t" r="r" b="b"/>
                  <a:pathLst>
                    <a:path w="24" h="464">
                      <a:moveTo>
                        <a:pt x="24" y="46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255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7095960" y="2537640"/>
                  <a:ext cx="123840" cy="9615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7616880" y="2333520"/>
                  <a:ext cx="74520" cy="7156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578560" y="2964960"/>
                  <a:ext cx="496800" cy="2376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6089760" y="3191760"/>
                  <a:ext cx="625320" cy="28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6691320" y="2964960"/>
                  <a:ext cx="479520" cy="2426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113440" y="2631600"/>
                  <a:ext cx="469800" cy="3232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7157880" y="2631600"/>
                  <a:ext cx="495360" cy="3232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087880" y="2333520"/>
                  <a:ext cx="2603520" cy="420120"/>
                </a:xfrm>
                <a:custGeom>
                  <a:avLst/>
                  <a:gdLst/>
                  <a:ahLst/>
                  <a:rect l="l" t="t" r="r" b="b"/>
                  <a:pathLst>
                    <a:path w="1680" h="197">
                      <a:moveTo>
                        <a:pt x="0" y="0"/>
                      </a:moveTo>
                      <a:cubicBezTo>
                        <a:pt x="61" y="13"/>
                        <a:pt x="252" y="46"/>
                        <a:pt x="364" y="76"/>
                      </a:cubicBezTo>
                      <a:cubicBezTo>
                        <a:pt x="476" y="106"/>
                        <a:pt x="564" y="163"/>
                        <a:pt x="672" y="180"/>
                      </a:cubicBezTo>
                      <a:cubicBezTo>
                        <a:pt x="780" y="197"/>
                        <a:pt x="909" y="196"/>
                        <a:pt x="1012" y="180"/>
                      </a:cubicBezTo>
                      <a:cubicBezTo>
                        <a:pt x="1115" y="164"/>
                        <a:pt x="1181" y="114"/>
                        <a:pt x="1292" y="84"/>
                      </a:cubicBezTo>
                      <a:cubicBezTo>
                        <a:pt x="1403" y="54"/>
                        <a:pt x="1599" y="17"/>
                        <a:pt x="1680" y="0"/>
                      </a:cubicBezTo>
                    </a:path>
                  </a:pathLst>
                </a:custGeom>
                <a:noFill/>
                <a:ln w="2556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4" name=""/>
          <p:cNvGrpSpPr/>
          <p:nvPr/>
        </p:nvGrpSpPr>
        <p:grpSpPr>
          <a:xfrm>
            <a:off x="6105600" y="3425760"/>
            <a:ext cx="322200" cy="676080"/>
            <a:chOff x="6105600" y="3425760"/>
            <a:chExt cx="322200" cy="676080"/>
          </a:xfrm>
        </p:grpSpPr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6105600" y="3644640"/>
                  <a:ext cx="322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"/>
            <p:cNvSpPr/>
            <p:nvPr/>
          </p:nvSpPr>
          <p:spPr>
            <a:xfrm>
              <a:off x="6227640" y="3641400"/>
              <a:ext cx="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27640" y="3497040"/>
              <a:ext cx="8892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137280" y="3533760"/>
              <a:ext cx="17928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6136920" y="3604680"/>
              <a:ext cx="9036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27640" y="3425760"/>
              <a:ext cx="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010280" y="3265560"/>
            <a:ext cx="1449360" cy="500040"/>
            <a:chOff x="7010280" y="3265560"/>
            <a:chExt cx="1449360" cy="500040"/>
          </a:xfrm>
        </p:grpSpPr>
        <p:sp>
          <p:nvSpPr>
            <p:cNvPr id="162" name=""/>
            <p:cNvSpPr/>
            <p:nvPr/>
          </p:nvSpPr>
          <p:spPr>
            <a:xfrm>
              <a:off x="7010280" y="3737160"/>
              <a:ext cx="132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16840" y="339120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8059680" y="3265560"/>
                  <a:ext cx="3999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5" name=""/>
          <p:cNvSpPr/>
          <p:nvPr/>
        </p:nvSpPr>
        <p:spPr>
          <a:xfrm>
            <a:off x="1116000" y="549360"/>
            <a:ext cx="705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kladní myšlenka pokutového algoritmu řešení kontakt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koková změna tuhosti kontaktních prvků při penetraci povrch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332000" y="1773360"/>
            <a:ext cx="2485080" cy="2461680"/>
            <a:chOff x="1332000" y="1773360"/>
            <a:chExt cx="2485080" cy="2461680"/>
          </a:xfrm>
        </p:grpSpPr>
        <p:sp>
          <p:nvSpPr>
            <p:cNvPr id="167" name=""/>
            <p:cNvSpPr/>
            <p:nvPr/>
          </p:nvSpPr>
          <p:spPr>
            <a:xfrm>
              <a:off x="1370160" y="3868200"/>
              <a:ext cx="242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/>
            <p:nvPr/>
          </p:nvCxnSpPr>
          <p:spPr>
            <a:xfrm>
              <a:off x="1346400" y="3418200"/>
              <a:ext cx="60444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169" name=""/>
            <p:cNvCxnSpPr/>
            <p:nvPr/>
          </p:nvCxnSpPr>
          <p:spPr>
            <a:xfrm>
              <a:off x="1950840" y="3418200"/>
              <a:ext cx="60264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</a:ln>
          </p:spPr>
        </p:cxnSp>
        <p:cxnSp>
          <p:nvCxnSpPr>
            <p:cNvPr id="170" name=""/>
            <p:cNvCxnSpPr/>
            <p:nvPr/>
          </p:nvCxnSpPr>
          <p:spPr>
            <a:xfrm>
              <a:off x="2553120" y="3418200"/>
              <a:ext cx="60696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</p:cxnSp>
        <p:cxnSp>
          <p:nvCxnSpPr>
            <p:cNvPr id="171" name=""/>
            <p:cNvCxnSpPr/>
            <p:nvPr/>
          </p:nvCxnSpPr>
          <p:spPr>
            <a:xfrm>
              <a:off x="3159360" y="3418200"/>
              <a:ext cx="60264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342440" y="3463560"/>
              <a:ext cx="180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50840" y="3418560"/>
              <a:ext cx="216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53120" y="3418560"/>
              <a:ext cx="21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59360" y="3418560"/>
              <a:ext cx="216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61640" y="3418560"/>
              <a:ext cx="21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32000" y="3785400"/>
              <a:ext cx="2414520" cy="66600"/>
            </a:xfrm>
            <a:custGeom>
              <a:avLst/>
              <a:gdLst/>
              <a:ahLst/>
              <a:rect l="l" t="t" r="r" b="b"/>
              <a:pathLst>
                <a:path w="1920" h="48">
                  <a:moveTo>
                    <a:pt x="0" y="48"/>
                  </a:moveTo>
                  <a:cubicBezTo>
                    <a:pt x="160" y="24"/>
                    <a:pt x="320" y="0"/>
                    <a:pt x="480" y="0"/>
                  </a:cubicBezTo>
                  <a:cubicBezTo>
                    <a:pt x="640" y="0"/>
                    <a:pt x="800" y="48"/>
                    <a:pt x="960" y="48"/>
                  </a:cubicBezTo>
                  <a:cubicBezTo>
                    <a:pt x="1120" y="48"/>
                    <a:pt x="1280" y="0"/>
                    <a:pt x="1440" y="0"/>
                  </a:cubicBezTo>
                  <a:cubicBezTo>
                    <a:pt x="1600" y="0"/>
                    <a:pt x="1760" y="24"/>
                    <a:pt x="1920" y="4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3800" y="1891080"/>
              <a:ext cx="1800" cy="3708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38000" y="177336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451520" y="2012760"/>
              <a:ext cx="2115000" cy="936720"/>
              <a:chOff x="1451520" y="2012760"/>
              <a:chExt cx="2115000" cy="936720"/>
            </a:xfrm>
          </p:grpSpPr>
          <p:cxnSp>
            <p:nvCxnSpPr>
              <p:cNvPr id="181" name=""/>
              <p:cNvCxnSpPr/>
              <p:nvPr/>
            </p:nvCxnSpPr>
            <p:spPr>
              <a:xfrm>
                <a:off x="1511640" y="2480400"/>
                <a:ext cx="312840" cy="3128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182" name=""/>
              <p:cNvCxnSpPr/>
              <p:nvPr/>
            </p:nvCxnSpPr>
            <p:spPr>
              <a:xfrm>
                <a:off x="1824120" y="2792520"/>
                <a:ext cx="436320" cy="15660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183" name=""/>
              <p:cNvCxnSpPr/>
              <p:nvPr/>
            </p:nvCxnSpPr>
            <p:spPr>
              <a:xfrm>
                <a:off x="2259720" y="2948760"/>
                <a:ext cx="498960" cy="108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184" name=""/>
              <p:cNvCxnSpPr/>
              <p:nvPr/>
            </p:nvCxnSpPr>
            <p:spPr>
              <a:xfrm flipV="1">
                <a:off x="2757960" y="2792160"/>
                <a:ext cx="437400" cy="15660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185" name=""/>
              <p:cNvCxnSpPr/>
              <p:nvPr/>
            </p:nvCxnSpPr>
            <p:spPr>
              <a:xfrm flipV="1">
                <a:off x="3194640" y="2480040"/>
                <a:ext cx="311400" cy="3128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sp>
            <p:nvSpPr>
              <p:cNvPr id="186" name=""/>
              <p:cNvSpPr/>
              <p:nvPr/>
            </p:nvSpPr>
            <p:spPr>
              <a:xfrm flipH="1" flipV="1">
                <a:off x="1451520" y="2012760"/>
                <a:ext cx="60120" cy="468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1814400" y="2140560"/>
                <a:ext cx="80280" cy="6076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2257200" y="2279520"/>
                <a:ext cx="39960" cy="6577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15480" y="2291400"/>
                <a:ext cx="30240" cy="646560"/>
              </a:xfrm>
              <a:custGeom>
                <a:avLst/>
                <a:gdLst/>
                <a:ahLst/>
                <a:rect l="l" t="t" r="r" b="b"/>
                <a:pathLst>
                  <a:path w="24" h="464">
                    <a:moveTo>
                      <a:pt x="24" y="464"/>
                    </a:move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3082680" y="2145960"/>
                <a:ext cx="100440" cy="6296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3506040" y="2012760"/>
                <a:ext cx="60480" cy="468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849320" y="2424960"/>
                <a:ext cx="423000" cy="1728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82400" y="2597760"/>
                <a:ext cx="442800" cy="5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735640" y="2424960"/>
                <a:ext cx="407520" cy="167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71680" y="2207520"/>
                <a:ext cx="382680" cy="2116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3133440" y="2207520"/>
                <a:ext cx="402480" cy="2116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51880" y="2012760"/>
                <a:ext cx="2114640" cy="273960"/>
              </a:xfrm>
              <a:custGeom>
                <a:avLst/>
                <a:gdLst/>
                <a:ahLst/>
                <a:rect l="l" t="t" r="r" b="b"/>
                <a:pathLst>
                  <a:path w="1680" h="197">
                    <a:moveTo>
                      <a:pt x="0" y="0"/>
                    </a:moveTo>
                    <a:cubicBezTo>
                      <a:pt x="61" y="13"/>
                      <a:pt x="252" y="46"/>
                      <a:pt x="364" y="76"/>
                    </a:cubicBezTo>
                    <a:cubicBezTo>
                      <a:pt x="476" y="106"/>
                      <a:pt x="564" y="163"/>
                      <a:pt x="672" y="180"/>
                    </a:cubicBezTo>
                    <a:cubicBezTo>
                      <a:pt x="780" y="197"/>
                      <a:pt x="909" y="196"/>
                      <a:pt x="1012" y="180"/>
                    </a:cubicBezTo>
                    <a:cubicBezTo>
                      <a:pt x="1115" y="164"/>
                      <a:pt x="1181" y="114"/>
                      <a:pt x="1292" y="84"/>
                    </a:cubicBezTo>
                    <a:cubicBezTo>
                      <a:pt x="1403" y="54"/>
                      <a:pt x="1599" y="17"/>
                      <a:pt x="1680" y="0"/>
                    </a:cubicBezTo>
                  </a:path>
                </a:pathLst>
              </a:custGeom>
              <a:noFill/>
              <a:ln w="2556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V="1">
              <a:off x="2497680" y="2904120"/>
              <a:ext cx="1800" cy="4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78680" y="3083040"/>
              <a:ext cx="12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Cont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340000" y="2997360"/>
            <a:ext cx="136836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95520" y="2957400"/>
            <a:ext cx="0" cy="43344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340000" y="2852640"/>
            <a:ext cx="1449360" cy="500040"/>
            <a:chOff x="2340000" y="2852640"/>
            <a:chExt cx="1449360" cy="500040"/>
          </a:xfrm>
        </p:grpSpPr>
        <p:sp>
          <p:nvSpPr>
            <p:cNvPr id="203" name=""/>
            <p:cNvSpPr/>
            <p:nvPr/>
          </p:nvSpPr>
          <p:spPr>
            <a:xfrm>
              <a:off x="2340000" y="3324240"/>
              <a:ext cx="132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46560" y="297828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3389400" y="2852640"/>
                  <a:ext cx="3999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824544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2360" y="292428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4581360"/>
            <a:ext cx="158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24360" y="4581360"/>
            <a:ext cx="158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300640"/>
            <a:ext cx="36720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álová kontaktní tu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zera v normálovém smě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A25-B7A1-4A4B-84CE-4E89CA2F5502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2:53:28Z</dcterms:created>
  <dc:creator>Jindřich Petruška</dc:creator>
  <dc:description/>
  <dc:language>en-US</dc:language>
  <cp:lastModifiedBy>Prof. Jindrich Petruska</cp:lastModifiedBy>
  <dcterms:modified xsi:type="dcterms:W3CDTF">2006-11-13T18:47:29Z</dcterms:modified>
  <cp:revision>4</cp:revision>
  <dc:subject/>
  <dc:title>Contact Problems </dc:title>
</cp:coreProperties>
</file>