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736-1D1B-44D6-9FA7-FB163294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604-D0ED-434F-8595-87336469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8E5-12A5-4330-BB28-4424673C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AEB-4632-4BDD-9F41-68455085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084-A143-48AF-991C-9DB3E8B5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0AD-3923-4D09-BD5D-D1112CCF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706-89F0-4EC9-ABC1-686C967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08A-DEDB-4E25-93BF-1A94118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0FE-C04C-48ED-BAE3-0D90169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BD5-2418-4C83-B7C6-F30A603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EED-2C16-4216-9647-E687358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011-CDA3-4A44-8FAC-EC4B4E4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04D7-3147-462C-AEEC-B00345D2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2Geometricka%20nelinearita%20I.ppt" TargetMode="External"/><Relationship Id="rId2" Type="http://schemas.openxmlformats.org/officeDocument/2006/relationships/hyperlink" Target="file:///3%20geometricka%20nelinearita%20II.ppt" TargetMode="External"/><Relationship Id="rId3" Type="http://schemas.openxmlformats.org/officeDocument/2006/relationships/hyperlink" Target="file:///4ztrata%20stability.ppt" TargetMode="External"/><Relationship Id="rId4" Type="http://schemas.openxmlformats.org/officeDocument/2006/relationships/hyperlink" Target="file:///6materialove_nelinearity1.ppt" TargetMode="External"/><Relationship Id="rId5" Type="http://schemas.openxmlformats.org/officeDocument/2006/relationships/hyperlink" Target="file:///9visco1.ppt" TargetMode="External"/><Relationship Id="rId6" Type="http://schemas.openxmlformats.org/officeDocument/2006/relationships/hyperlink" Target="file:///9visco1.ppt" TargetMode="External"/><Relationship Id="rId7" Type="http://schemas.openxmlformats.org/officeDocument/2006/relationships/hyperlink" Target="file:///10hyperelasticita1.ppt" TargetMode="External"/><Relationship Id="rId8" Type="http://schemas.openxmlformats.org/officeDocument/2006/relationships/hyperlink" Target="file:///10hyperelasticita1.ppt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lineární mechanika kontinua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nova předmětu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434960"/>
            <a:ext cx="820728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vod do řešení nelineárních problémů mechaniky k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ometrická nelinearita – velké deformace, alternativní formulace tenzorů přetvo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metrická nelinearita - tenzory napětí, základní strategie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tráta stability tenkostěnných struktur jako nelineární problém mechan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ní úlohy – možnosti analytického řešení, kontakt v MKP, vlastnosti kontaktních prv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teriálové nelinearity a jejich klasif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ormační teorie plasticity v analytických a numerických řeše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krementální teorie plasticity a její implementace v M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skoelastické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chování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yperelastický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mater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hoplastická analýza, simulace tváření a modely poruš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31:10Z</dcterms:created>
  <dc:creator>Jiri Bursa</dc:creator>
  <dc:description/>
  <dc:language>en-US</dc:language>
  <cp:lastModifiedBy>Prof. Jindrich Petruska</cp:lastModifiedBy>
  <dcterms:modified xsi:type="dcterms:W3CDTF">2006-11-13T22:09:31Z</dcterms:modified>
  <cp:revision>5</cp:revision>
  <dc:subject/>
  <dc:title>Nelineární mechanika kontinua Osnova předmětu: </dc:title>
</cp:coreProperties>
</file>