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5DB-29C7-4A0B-AE99-2D960F8C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4E4-3785-44AD-9B10-AE73235E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74D-C4BD-4BF6-B1F5-55975D2E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330-A651-4B3A-8B7A-9F41AB09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C89D-3E52-42FD-80BE-CF1AD2FB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867D-7A12-43A0-A3B2-DFF8614B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F754-143F-440F-9F9E-34ED6660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F004-7B08-4D8E-89B3-6AA5A213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FDE7-AB16-4344-9D46-E529E4C3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AD0E-74FF-496C-A26D-E1567444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6541-1510-438B-9BAB-BD5EFB5B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C75-BA54-4A6D-8CF7-08340F94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11E4-E54E-458A-ACCE-28007706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0785-7F7C-4AE1-9789-4F76A35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DDC7-78D0-49F1-B2AE-5306290F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687A-D2E1-4E94-BCED-05B5B593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1F59-6B6B-421D-87BF-3CC68016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070-30FA-4C5A-82FC-85BAF04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7FEF-BECC-41E3-8714-9D04164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3D9-1826-490E-97AE-5093DD96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7CD-A835-4210-85DF-20BB0B7B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961-FFAA-4ABA-B57E-D318CDB1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A5D-71E1-4FFC-929E-B75A480F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9BD-CD1A-44C1-AEB3-B54E241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0846-E4DE-4028-8EA1-6160C865BE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D406-FE66-4A44-8404-54C13AB3D3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Tvar tenzoru napětí pro ideální kapalinu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464560"/>
            <a:ext cx="8532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šechna normálová napětí záporná a stejně velká - důsledek Pascalova zák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myková napětí nulová – důsledek nulové viskoz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3080" y="4083120"/>
                <a:ext cx="275292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ri Bursa</cp:lastModifiedBy>
  <dcterms:modified xsi:type="dcterms:W3CDTF">2006-09-01T09:40:10Z</dcterms:modified>
  <cp:revision>55</cp:revision>
  <dc:subject/>
  <dc:title>Úvod do teorie lineární viskoelasticity</dc:title>
</cp:coreProperties>
</file>