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909-388D-437C-843A-434A03D9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39DC-79DD-4832-8568-24BF75AB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581-1FE8-4F09-A6AA-B9C6E577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48E-22B6-446A-937D-36E57BC5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E047-1F18-4AD0-B68E-F1683B2F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364-0496-43BB-B79F-4C5FB40A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0085-5849-42B9-8FD6-93E043E3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CF6-9CDC-487C-BC21-363BD05D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6F9-5F63-462D-B826-66830FB5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316-095B-4B4C-8CE4-D1CE26E1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D795-224F-4F43-97E8-4A939E35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D14-05D6-43E2-AE0B-40ECE471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69BF-D85B-406D-9C14-27258365A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07880" y="722160"/>
            <a:ext cx="7186680" cy="5175360"/>
            <a:chOff x="407880" y="722160"/>
            <a:chExt cx="7186680" cy="5175360"/>
          </a:xfrm>
        </p:grpSpPr>
        <p:sp>
          <p:nvSpPr>
            <p:cNvPr id="42" name=""/>
            <p:cNvSpPr/>
            <p:nvPr/>
          </p:nvSpPr>
          <p:spPr>
            <a:xfrm>
              <a:off x="1681200" y="4624560"/>
              <a:ext cx="582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1681200" y="1349280"/>
              <a:ext cx="0" cy="327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17600" y="426096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81200" y="4624560"/>
              <a:ext cx="1440" cy="12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06760" y="3941640"/>
              <a:ext cx="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81200" y="5170320"/>
              <a:ext cx="90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4608360"/>
              <a:ext cx="144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6411960" y="3198960"/>
              <a:ext cx="14400" cy="269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81200" y="5716440"/>
              <a:ext cx="36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19720" y="571644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06760" y="3911760"/>
              <a:ext cx="473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590920" y="1166760"/>
              <a:ext cx="1440" cy="27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81200" y="4624560"/>
              <a:ext cx="36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1681200" y="2622240"/>
              <a:ext cx="1440" cy="200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2590920" y="3141720"/>
              <a:ext cx="3852720" cy="75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2590920" y="1712520"/>
              <a:ext cx="728640" cy="21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81240" y="3895560"/>
              <a:ext cx="728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56120" y="4624560"/>
              <a:ext cx="5461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57480" y="2622600"/>
              <a:ext cx="544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19560" y="1530360"/>
              <a:ext cx="726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84720" y="2781360"/>
              <a:ext cx="727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63720" y="480708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37040" y="5353200"/>
              <a:ext cx="7286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351400" y="5094360"/>
                  <a:ext cx="9954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>
              <a:off x="2590920" y="4441680"/>
              <a:ext cx="382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29280" y="4078440"/>
              <a:ext cx="726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11960" y="3168720"/>
              <a:ext cx="90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958080" y="3895200"/>
              <a:ext cx="0" cy="7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958080" y="3168360"/>
              <a:ext cx="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58080" y="407844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6958080" y="3270240"/>
                  <a:ext cx="63648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 flipV="1">
              <a:off x="3319560" y="116640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90920" y="1347840"/>
              <a:ext cx="728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590920" y="722160"/>
                  <a:ext cx="58392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6" name=""/>
            <p:cNvSpPr/>
            <p:nvPr/>
          </p:nvSpPr>
          <p:spPr>
            <a:xfrm flipH="1">
              <a:off x="771120" y="2592360"/>
              <a:ext cx="90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71120" y="4624560"/>
              <a:ext cx="90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54000" y="2622600"/>
              <a:ext cx="0" cy="20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7880" y="3351240"/>
              <a:ext cx="72720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044440" y="171288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044440" y="389556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27320" y="1712880"/>
              <a:ext cx="0" cy="21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71560" y="2440080"/>
              <a:ext cx="728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7012080" y="4581360"/>
            <a:ext cx="728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1197000"/>
            <a:ext cx="7272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2:26:16Z</dcterms:created>
  <dc:creator>Jiri Bursa</dc:creator>
  <dc:description/>
  <dc:language>en-US</dc:language>
  <cp:lastModifiedBy>Prof. Jindrich Petruska</cp:lastModifiedBy>
  <dcterms:modified xsi:type="dcterms:W3CDTF">2006-11-09T21:18:24Z</dcterms:modified>
  <cp:revision>3</cp:revision>
  <dc:subject/>
  <dc:title>Snímek 1</dc:title>
</cp:coreProperties>
</file>