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EE3F-815C-4973-B32B-40A0FEB3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F80-8A63-4DD8-8D65-3C3E745B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B19-4FD7-40A5-8EE5-8BED1B7D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B79-85DD-4A70-BE31-67E73D65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E29-9765-466A-8DED-ADD0F4EE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3CA-0DE2-4DC6-9B88-953BB270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40C-5798-42DF-8B12-5979F880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7B6-671A-4CA6-95BA-A15DE4D8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B28-6176-4CC9-8ED8-3CDFBE37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C6D-97C1-490B-A678-2C2B2F45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7AE-4A17-4A74-89F2-F1B36705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7759-314F-44A9-BA28-D5A5437C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04A9-2983-438B-8940-54F3E4AFE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eforma&#269;n&#237;%20gradient.ppt" TargetMode="External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Deforma&#269;n&#237;%20gradient.ppt" TargetMode="External"/><Relationship Id="rId2" Type="http://schemas.openxmlformats.org/officeDocument/2006/relationships/hyperlink" Target="file:///modifikovan&#233;_invarianty.ppt" TargetMode="External"/><Relationship Id="rId3" Type="http://schemas.openxmlformats.org/officeDocument/2006/relationships/hyperlink" Target="file:///modifikovan&#233;_invarianty.ppt" TargetMode="External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auchy-Greenův tenzor defor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8478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to definice nepracuje s přetvořeními, ale s poměrnými protaženími, podobně jak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nzor deformačního gradient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z nějž se odvozuje pomocí vztah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ý Cauchy-Greenův tenzor de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vý Cauchy-Greenův tenzor de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složkovém tvaru lze například pravý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uchy-Greenův tenzor deformace zapsat následovně (s využitím Einsteinova sčítacího pravid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avními souřadnicemi tohoto tenzoru jsou tedy kvadráty poměrných protažení v hlavních směr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041880" y="2421000"/>
                <a:ext cx="15544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059520" y="1773360"/>
                <a:ext cx="16081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411280" y="3645000"/>
                <a:ext cx="1548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573440" y="4581360"/>
                <a:ext cx="23749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Invarianty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auchy-Greenova tenzoru defor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varianty tohoto tenzoru lze v hlavním souřadnicovém systému vyjádřit následovn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e J je třetí invariant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nzoru deformačního gradient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Třetí invariant tedy i u Cauchy-Greenova tenzoru deformace vyjadřuje změnu objemu (je roven jedné, pokud se při deformaci objem nemění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 vztazích pro funkce měrné energie napjatosti se kromě něj používají tzv.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odifikované invariant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uchy-Greenova tenzoru deformace, případně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odifikované hodnoty hlavních poměrných protaže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é vyjadřují pouze tvarovou (deviátorovou) část tenzoru de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927520" y="2589120"/>
                <a:ext cx="2796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84360" y="2301840"/>
                <a:ext cx="1965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940360" y="2949480"/>
                <a:ext cx="2041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6:56:55Z</dcterms:created>
  <dc:creator>Jiri Bursa</dc:creator>
  <dc:description/>
  <dc:language>en-US</dc:language>
  <cp:lastModifiedBy>Jiri Bursa</cp:lastModifiedBy>
  <dcterms:modified xsi:type="dcterms:W3CDTF">2006-11-05T13:01:53Z</dcterms:modified>
  <cp:revision>9</cp:revision>
  <dc:subject/>
  <dc:title>Tenzor deformačního gradientu</dc:title>
</cp:coreProperties>
</file>