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988-5A79-41BC-A303-A176FF7F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465-2D81-4CC4-8852-18C12706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2F1-F7E9-4DED-817F-5D44D5DD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9FB-C98B-446D-9A3F-1BAC7BED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1C2-6F49-49F7-B939-30DD09AE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49A-E497-4D8D-B7EF-54B5A85C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67F-38EA-4ECE-8493-65A27D12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DAB-9CAF-4526-BC8B-6F01F8A0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D59-A1C6-4E52-9887-BF5329A3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875-ADA7-44EE-856C-CE0BA12F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6F3-8D3D-46FF-9893-74A27BC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3DF-0E49-4EA4-901B-D7246FD0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FF7-2608-4BE5-8BE2-B36DE09D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%20Almansi.ppt" TargetMode="External"/><Relationship Id="rId2" Type="http://schemas.openxmlformats.org/officeDocument/2006/relationships/hyperlink" Target="file:///p&#345;etvo&#345;en&#237;_Green-Lagrange.ppt" TargetMode="External"/><Relationship Id="rId3" Type="http://schemas.openxmlformats.org/officeDocument/2006/relationships/hyperlink" Target="file:///p&#345;etvo&#345;en&#237;_Green-Lagrange.ppt" TargetMode="External"/><Relationship Id="rId4" Type="http://schemas.openxmlformats.org/officeDocument/2006/relationships/hyperlink" Target="file:///p&#345;etvo&#345;en&#237;_Green-Lagrange.ppt" TargetMode="External"/><Relationship Id="rId5" Type="http://schemas.openxmlformats.org/officeDocument/2006/relationships/hyperlink" Target="file:///p&#345;etvo&#345;en&#237;_Green-Lagrange.ppt" TargetMode="External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insteinovo%20pravidlo.ppt" TargetMode="External"/><Relationship Id="rId2" Type="http://schemas.openxmlformats.org/officeDocument/2006/relationships/hyperlink" Target="file:///Einsteinovo%20pravidlo.ppt" TargetMode="External"/><Relationship Id="rId3" Type="http://schemas.openxmlformats.org/officeDocument/2006/relationships/hyperlink" Target="file:///Einsteinovo%20pravidlo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mansi-Hamelův tenzor 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Eulerově popisu deformace se poměrné přetvoření vztahuje ke konečným rozměrům, které tak definují výchozí vztažnou geometrickou konfiguraci – 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rá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Pak délkové přetvoření lze vyjád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ým postupem s využitím binomické řady jako pr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een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agrangeů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tenzor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me výraz upravit na 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79480" y="2070000"/>
                <a:ext cx="7335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num>
                          <m:den/>
                        </m:f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46280" y="3573360"/>
                <a:ext cx="7354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755640" y="4595760"/>
                <a:ext cx="3220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73400" y="5300640"/>
            <a:ext cx="57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ostatní složky délkových přetvoření platí analog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803160" y="5667480"/>
                <a:ext cx="3264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572000" y="5676840"/>
                <a:ext cx="3529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979640" y="2492280"/>
                <a:ext cx="41083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68360" y="54514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použití Almansiho tenzoru je omezeno tím, že konečné (deformované) souřadnice obvykle předem nezn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557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zobecnění na všechny složky je možné Almansiho tenzor přetvoření zapsat v kompaktní podobě pomo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insteinova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čítacího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pravid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mansi-Hamelův tenzor 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645000"/>
            <a:ext cx="8280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gorózní odvození tohoto tenzoru včetně mimodiagonálních složek je možno nalézt v literatuře,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.A. Holzapfel: Nonlinear Solid Mechanics, Wiley and Sons,  20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Okrouhlík a kol.: Mechanika poddajných těles, numerická matematika a superpočítače, Ústav termomechaniky AV ČR, Praha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25:54Z</dcterms:created>
  <dc:creator>Jiri Bursa</dc:creator>
  <dc:description/>
  <dc:language>en-US</dc:language>
  <cp:lastModifiedBy>Prof. Jindrich Petruska</cp:lastModifiedBy>
  <dcterms:modified xsi:type="dcterms:W3CDTF">2006-11-10T23:41:40Z</dcterms:modified>
  <cp:revision>5</cp:revision>
  <dc:subject/>
  <dc:title>Almansi-Hamelův tenzor konečných deformací</dc:title>
</cp:coreProperties>
</file>