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AD7-5C6B-4B77-B8F9-A5798F39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73A7-3BEE-4F22-BFE5-B04CDFA2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058D-F09C-4121-9189-F207CF45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7828-53FF-4650-9177-83033876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7577-525F-4085-B664-9B4921D9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2DAD-A0B4-496D-A82B-E83F2EB9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4232-90ED-41F7-992B-3B2DD8C3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62C-072E-4CB0-B7B3-EBB1AABA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61C7-7F46-43F4-AE67-9D5FD74E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EB4-4D75-4DC8-B26A-64997A46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7EA8-DB3B-4830-A1FB-E508B0E4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DCF1-73DE-4302-8A5D-B3B3CB07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EBF3-6357-4B85-99D1-F0F68EC70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nap&#283;t&#237;-Cauchy.ppt" TargetMode="External"/><Relationship Id="rId2" Type="http://schemas.openxmlformats.org/officeDocument/2006/relationships/hyperlink" Target="file:///nap&#283;t&#237;-Cauchy.ppt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836640"/>
            <a:ext cx="792000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nzory napětí při velkých přetvořen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ší se podle toho, v jaké geometrické konfiguraci je vyjádřena plocha, přenášející vnitřní síly v materiál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uchyho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tenz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ých napětí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íla je vztažena ke skutečné ploše v aktuální deformované konfigur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Piola-Kirchhoffův tenzor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pě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íla je vztažena k ploše v počáteční geometrické konfigur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z tenzorů je energeticky konjugovaný s Almansiho tenzorem přetvoření, druhý s Green-Lagrangeovým tenzorem přetvoření, proto využíván v oblasti analýzy deformovatelných tě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posouzení mezních stavů těles je nutno znát přepočet mezi oběma tenz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de představuje deformační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5065560" y="2421000"/>
                <a:ext cx="10191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5086440" y="3500280"/>
                <a:ext cx="998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547640" y="5843520"/>
                <a:ext cx="1729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476280"/>
            <a:ext cx="7993080" cy="64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Piola-Kirchhoffův tenzor napětí je de facto dobře známým „smluvním napětím“, používaným tradičně pro záznam tahové zkoušky materiál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é napětí F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mluvní napětí F/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ktické využití prvního P.-K. tenzoru je komplikováno skutečností, že se jedná o nesymetrický tenzor. Proto se více využí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Druhý Piola-Kirchhoffův tenzor napětí 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k ploše v počáteční geometrické konfiguraci je vztažena fiktivní síla, přepočtená ze skutečné síly pomocí deformačního gradientu. Jedná se o symetrický tenzor bez jasné fyzikální interpretace, který je používán proto, že je energeticky konjugovaný s Green-Lagrangeovým tenzorem přetvoření. Jeho transformace na skutečný tenzor napětí je dána vzta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63640" y="1197000"/>
          <a:ext cx="2743200" cy="21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197000"/>
                    <a:ext cx="274320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763640" y="5943600"/>
                <a:ext cx="2376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03240" y="2573280"/>
          <a:ext cx="335448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2573280"/>
                    <a:ext cx="33544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859360" y="4964040"/>
                <a:ext cx="14493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181400" y="4521240"/>
                <a:ext cx="10731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249800" y="5186520"/>
                <a:ext cx="9237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086360" y="3357720"/>
                <a:ext cx="7063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086360" y="2708280"/>
                <a:ext cx="769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640480" y="3130560"/>
                <a:ext cx="1476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τ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356000" y="256536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88000" y="422100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92280"/>
            <a:ext cx="813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epočet pracovního diagramu materiál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 smluvních hodnot inženýrského napětí a přetvoření na závislost mezi skutečným napětím a přirozeným (logaritmickým) přetvoř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20:01:20Z</dcterms:created>
  <dc:creator>Jiri Bursa</dc:creator>
  <dc:description/>
  <dc:language>en-US</dc:language>
  <cp:lastModifiedBy>Prof. Jindrich Petruska</cp:lastModifiedBy>
  <dcterms:modified xsi:type="dcterms:W3CDTF">2006-11-12T21:17:40Z</dcterms:modified>
  <cp:revision>12</cp:revision>
  <dc:subject/>
  <dc:title>Vzájemné přepočtové vztahy pro tenzory přetvoření</dc:title>
</cp:coreProperties>
</file>