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D78-B264-4189-82EA-7D466367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AE5-C410-46DF-B3B3-9AEF606D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718-D010-40ED-9F53-A0733D21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1CD-D166-4557-9480-BDA34D71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977-3DEA-48F4-A2ED-36C0769A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3E6-56A4-4735-9416-328A20D0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490-510C-42F5-9A84-BB3C826B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4E7-DC15-46E1-9B76-B9AF8324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C65-0AF5-46C1-8BE8-5D869F25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EFF-90A0-43D9-B177-11A161A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A61-ABFA-4FEC-965C-1D0D3DE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84C-9322-4290-B10B-E40BE488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9979-25F9-4EAE-B3BB-14D5FD1C6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0280" y="549360"/>
            <a:ext cx="8362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iola-Kirchhoffův tenzor napětí 1. dru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1.Piola-Kirchhoffův tenzor napětí (označovaný také jako Lagrangeův nebo Piolův, v praxi čast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mluvní napětí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 – engineering stress) je definován jako skutečná elementární síla vztažená na původní (tj. nedeformovanou) plochu elementu podle vztahu (platí pro hlavní napětí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Konkrétně pro hlavní napětí ve směru 1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65520" y="3630600"/>
                <a:ext cx="18068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03640" y="5227560"/>
                <a:ext cx="18064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Jiri Bursa</cp:lastModifiedBy>
  <dcterms:modified xsi:type="dcterms:W3CDTF">2006-11-05T20:41:05Z</dcterms:modified>
  <cp:revision>4</cp:revision>
  <dc:subject/>
  <dc:title>Piola-Kirchhoffův tenzor napětí 1. druhu </dc:title>
</cp:coreProperties>
</file>