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1A4-404A-42B6-81A6-D5AE7C0D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119-3630-467F-A897-7D345F18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6FD-F9D4-4DEC-BAC9-C4F44365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B21-93F3-4D9F-AF9C-06CF226E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57C9-5096-443D-B98B-11CE3E31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7DDB-19CF-4669-851C-4377FF1A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7D16-01DF-4E3A-A63B-D6FDDAC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4E62-3BEA-42E8-A365-BA970329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C51C-309D-4E12-9982-45F29743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27A-FBA6-4F32-89CE-862D91B9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090-859F-4DEA-B387-792E9AFB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B91-F7B1-48C1-925C-712DB043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456B-CF7E-441D-BD9D-97B15BD0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C80F-AAA3-4614-BB48-93288C00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9EB9-1738-44BA-9970-31EE10B2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828F-5BC3-4B56-A8C4-BB26F20B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DF16-3CE9-4CF8-BE51-F96C7443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E01-3784-4D20-B6AD-B73EB070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436-A7CA-4E5F-91C1-CA0189F9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D4E-0CE1-422A-969E-7747DE2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CBA-8189-4874-A01E-B988424B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8A4-1F1D-4375-9A9C-77D11A5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1F7-1998-41CB-8D53-E76594F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650-7C85-4D0B-B1AD-35C0FAA7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E800-F02F-46FA-8C19-71FE13B946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2A64-19E3-4CF8-B065-9AEACE488A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Přehled konstitutivních modelů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0341" t="22747" r="18701" b="20560"/>
          <a:stretch/>
        </p:blipFill>
        <p:spPr>
          <a:xfrm>
            <a:off x="324000" y="907920"/>
            <a:ext cx="8569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ri Bursa</cp:lastModifiedBy>
  <dcterms:modified xsi:type="dcterms:W3CDTF">2006-09-01T09:39:15Z</dcterms:modified>
  <cp:revision>51</cp:revision>
  <dc:subject/>
  <dc:title>Úvod do teorie lineární viskoelasticity</dc:title>
</cp:coreProperties>
</file>