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7357-EB93-4347-9CDB-CB209473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C187-D2A8-4011-A3E5-C46C6627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B797-B73E-471F-B252-7BC5A28B2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4B2B-7E5F-4702-AF38-BDFCFC03A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768A-3BD7-42EA-9B93-7704AFA55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5D82-FD96-4FB1-B37F-072A0DD6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E2A5-072B-4096-AD8B-551DEAB2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37F7-50A8-41C7-8257-BDAE822A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79E1-3A9A-4AC9-9D9B-87451907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38080" y="1522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BD4F-C7DF-4CD4-AF1A-17C303B6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1FE7-A06F-445F-8E5C-96049104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046E-7731-43CD-AD82-BA72941B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485C-F4CA-4C12-9A3C-8843D9C7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53CB-FD29-49AA-862D-3AED95E1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F6D4-827A-4DCD-B1A7-DD084974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E034-E66B-4326-8C4E-C2FEB1BC1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2BA2-8C02-438B-B15B-0EE4F6A2D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C1F8-987C-4D83-AC2B-64557FC3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6D06-48E9-42A6-AE5A-5077E06D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C4F5-788C-499D-82B5-4B1230E1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1522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E244-355E-40F1-9E80-54761DB1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C85D-EF3D-4B95-B61C-D49768CF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8961-7FB6-42A1-AEBE-53DFDEFF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E313-71CD-44BF-8C0E-D09AA072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987C-608D-4D6B-8F97-18D2457CEA8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1F24-5347-4D6C-998C-8627CD4F9C1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o je příčinou nelineárního chování konstrukcí?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858920" y="2276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met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er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3800520" cy="2867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766880" y="1638360"/>
                <a:ext cx="12873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003640" y="1628640"/>
                <a:ext cx="180036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7C8A-B243-42F1-A25A-704E73F1C72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Řešení nelineární soustavy rovn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003640" y="1628640"/>
                <a:ext cx="180036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3324240" cy="41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4572000" y="2276640"/>
            <a:ext cx="3851280" cy="49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T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F – K(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u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+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itéria konvergenc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ot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o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47640" y="4581360"/>
            <a:ext cx="0" cy="503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46440" y="4219560"/>
            <a:ext cx="0" cy="865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47640" y="5013360"/>
            <a:ext cx="2876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4508640"/>
            <a:ext cx="1512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50920" y="3933720"/>
            <a:ext cx="1081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87640" y="3971880"/>
            <a:ext cx="0" cy="50328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63640" y="4797360"/>
            <a:ext cx="647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88000" y="2708280"/>
            <a:ext cx="79236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16360" y="400536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9000" y="2246400"/>
            <a:ext cx="711360" cy="461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2314" y="5344"/>
                </a:moveTo>
                <a:lnTo>
                  <a:pt x="-18177" y="5344"/>
                </a:lnTo>
                <a:lnTo>
                  <a:pt x="-18177" y="54111"/>
                </a:lnTo>
                <a:lnTo>
                  <a:pt x="-9016" y="88998"/>
                </a:lnTo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42920" y="5432400"/>
            <a:ext cx="3240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Newtonova-Raphsonova iterační metoda řešení ve dvou zatěžujících krocí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78360" y="5157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45EC-AD66-4595-B6FF-D0D8B45BAE1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Řešení nelineární soustavy rov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3324240" cy="41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3059280" y="3141720"/>
            <a:ext cx="792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08360" y="3141720"/>
            <a:ext cx="0" cy="208764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24000" y="3933720"/>
            <a:ext cx="1295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3141720"/>
            <a:ext cx="0" cy="79200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24000" y="3933720"/>
            <a:ext cx="1295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19280" y="4459320"/>
            <a:ext cx="1079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56000" y="3983040"/>
            <a:ext cx="0" cy="43164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61040" y="3746520"/>
            <a:ext cx="1579320" cy="403200"/>
          </a:xfrm>
          <a:prstGeom prst="borderCallout2">
            <a:avLst>
              <a:gd name="adj1" fmla="val 18750"/>
              <a:gd name="adj2" fmla="val -8333"/>
              <a:gd name="adj3" fmla="val 28347"/>
              <a:gd name="adj4" fmla="val -20504"/>
              <a:gd name="adj5" fmla="val 100000"/>
              <a:gd name="adj6" fmla="val -36782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ad 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24360" y="2565360"/>
            <a:ext cx="1579680" cy="403200"/>
          </a:xfrm>
          <a:prstGeom prst="borderCallout2">
            <a:avLst>
              <a:gd name="adj1" fmla="val 18750"/>
              <a:gd name="adj2" fmla="val -8333"/>
              <a:gd name="adj3" fmla="val 28347"/>
              <a:gd name="adj4" fmla="val -20504"/>
              <a:gd name="adj5" fmla="val 224800"/>
              <a:gd name="adj6" fmla="val -36782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99040" y="5722920"/>
            <a:ext cx="1579320" cy="403200"/>
          </a:xfrm>
          <a:prstGeom prst="borderCallout2">
            <a:avLst>
              <a:gd name="adj1" fmla="val 18750"/>
              <a:gd name="adj2" fmla="val -8333"/>
              <a:gd name="adj3" fmla="val 28347"/>
              <a:gd name="adj4" fmla="val -51458"/>
              <a:gd name="adj5" fmla="val -379921"/>
              <a:gd name="adj6" fmla="val -998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e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88000" y="1989000"/>
            <a:ext cx="38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značení etap procesu řešení v systému Ans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5516640"/>
            <a:ext cx="194472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F6F3-E6BF-400D-8D3F-E769A1F6265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940360" y="1844640"/>
            <a:ext cx="2664000" cy="15843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Řešení nelineární soustavy rov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08000" y="4076640"/>
            <a:ext cx="5616720" cy="196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755640" y="1773360"/>
            <a:ext cx="79218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rovnic v případě singulární matic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ewton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ova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-Raphson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ov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metod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etoda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délky oblouk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c-Length metho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940360" y="1773360"/>
          <a:ext cx="2579760" cy="172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1773360"/>
                    <a:ext cx="257976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8AE5-536E-4201-986D-12AB82786F40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17:15:50Z</dcterms:created>
  <dc:creator>Rudolf Fret</dc:creator>
  <dc:description/>
  <dc:language>en-US</dc:language>
  <cp:lastModifiedBy>Prof. Jindrich Petruska</cp:lastModifiedBy>
  <dcterms:modified xsi:type="dcterms:W3CDTF">2006-11-13T21:16:35Z</dcterms:modified>
  <cp:revision>106</cp:revision>
  <dc:subject/>
  <dc:title>STRUKTURNÍ STABILITA ŽÁRUPEVNÝCH OCELÍ A JEJICH SVAROVÝCH SPOJŮ</dc:title>
</cp:coreProperties>
</file>