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A2B-6B5E-4D71-A2EF-FCB957A8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F92-75AC-4581-BA0C-ECD6CF1F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D6A-0114-4021-935C-B5C8295C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EED-432F-4D13-AEE5-2B75CF7A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52E-39C3-4DBC-BE5D-796A7641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C90-B45B-4889-B1D2-9813407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2B4-3C9C-403F-82BB-377B886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13C-7AAF-4CC3-BF1C-2DB0958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0E0-6B93-437B-904A-F4F51D0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836-8ABA-446A-869E-86AD8B4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421-166C-41BF-8C1B-ED1856FE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D7B-013B-47F6-B10F-E1A6841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C7C-5389-408A-B4D8-99263CE26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yhovuje hookovský materiál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efinici  hyperelastických materiálů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unkce měrné energie napjatosti byla v lineární PP odvozena např. pro jednoosou napjatost ve tva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Derivace této energie napjatosti podle přetvoření (pro malé deformace definované libovolně, např. smluvního přetvoření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) pak opravdu určuje odpovídající složku napětí (pro malé deformace opět podle libovolné definice tenzoru napětí), jak ukazuje následující výr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dobně lze vyjádřit napětí i pro víceosou napjatost.</a:t>
            </a: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ff3300"/>
                </a:solidFill>
                <a:latin typeface="Tahoma"/>
              </a:rPr>
              <a:t>Lineárně elastický materiál je tedy jen zvláštním případem materiálu hyperelastick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11280" y="4005360"/>
                <a:ext cx="77230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σε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ε</m:t>
                    </m:r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471840" y="2217600"/>
                <a:ext cx="1460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σ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5:15:11Z</dcterms:created>
  <dc:creator>Jiri Bursa</dc:creator>
  <dc:description/>
  <dc:language>en-US</dc:language>
  <cp:lastModifiedBy>Jiri Bursa</cp:lastModifiedBy>
  <dcterms:modified xsi:type="dcterms:W3CDTF">2006-11-05T19:03:30Z</dcterms:modified>
  <cp:revision>5</cp:revision>
  <dc:subject/>
  <dc:title>Vyhovuje hookovský materiál  definici  hyperelastických materiálů?</dc:title>
</cp:coreProperties>
</file>