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67D-24E7-45B2-BC59-47EC6AC8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81D-7622-4F70-9003-FC5CBAB3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38E-57CD-4BDF-8DCD-12DC67E2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4A0-BA18-4C8F-ACC1-EE73C628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5000-661B-4449-868C-ED793769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AEB-1464-46C9-B80F-4C7ECA7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568F-D5CF-4A65-BF38-683EE795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7789-2482-4795-8BE2-916118BD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FFC8-9A5E-49DE-8474-0501F64C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A80-42A4-4149-8DB9-05A9465C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564-D256-4EC4-9CC8-34A360B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4AB-552F-4EFF-9B37-F8A710C3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8F02-7BE7-4F0C-BE82-54DBDEF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5B70-87AB-4625-BFF3-59AFC9C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1611-06B1-473C-9293-BE5F9397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58C2-E884-4BDB-98EE-05891B5E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907D-1E3E-40E9-83A0-C55C37DD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552-8EE4-4B7A-BB8C-373BBEB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50C-2A23-44C9-81BB-924974AD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616-5835-41C7-A9B6-7739781B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95B-6129-413A-B329-C37759C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CB5-E38D-4B3C-B317-45A3761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4F0-8164-4313-935B-B4EE784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6DE-E0BF-4E2B-95E1-A1E9199A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F3EE-B6E0-4821-86D3-DD394C3912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6E88-30D1-4FC2-B72A-B4783AE3F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Odvození diferenciální rovnice Maxwellova model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98120"/>
            <a:ext cx="8075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kde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τ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[Pa]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    je smykové napětí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η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[Pa.s]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e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tzv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amick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visko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a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dv/d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[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cs-CZ" sz="28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je gradient rychl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Kapaliny, jejichž chování lze popsat Newtonovým zákonem viskozity označujeme jako </a:t>
            </a:r>
            <a:r>
              <a:rPr b="0" lang="cs-CZ" sz="2800" spc="-1" strike="noStrike">
                <a:solidFill>
                  <a:srgbClr val="cc0000"/>
                </a:solidFill>
                <a:latin typeface="Times New Roman"/>
              </a:rPr>
              <a:t>newtonské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. Viskozita je jejich materiálovou charakteristikou, která je ovšem teplotně závisl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987640" y="1844640"/>
                <a:ext cx="1209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09-01T19:31:11Z</dcterms:modified>
  <cp:revision>57</cp:revision>
  <dc:subject/>
  <dc:title>Úvod do teorie lineární viskoelasticity</dc:title>
</cp:coreProperties>
</file>