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BF5-77C0-4BB5-BF15-CF45892E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31F-B8A9-4E09-A91D-DA87A36C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89D-7917-49CF-A586-43055E69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141-8713-4B91-B5F1-238E13CC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0B4-560D-4349-88AC-8E91457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212-DA31-4572-BF1D-3AE421A1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92F-46F5-4349-AB63-14329917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6CE-7610-4CBA-A421-836D566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599-C534-4751-959A-692D38AA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74F-92E1-4BAF-8107-18120933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CFA-885C-4066-9948-1B023F4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83A-8A84-4176-9DD2-EDC6B35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12E-075A-4489-8118-84CBC49E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deformovan&#233;%20sou&#345;adnice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p&#345;etvo&#345;en&#237;_smluvn&#237;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hyperlink" Target="file:///p&#345;etvo&#345;en&#237;_Almansi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eforma&#269;n&#237;%20gradient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344600" y="1628640"/>
          <a:ext cx="6454800" cy="44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628640"/>
                    <a:ext cx="64548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450360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arita je zapříčiněna „velkými“ posuvy, kter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ýt doprovázeny velkým přetvořením. Podle toho rozlišujeme dva rozdílné případy geometrické neline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elké posuvy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elká přetvoře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tra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zahrnují v sobě vždy i velké pos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081320" y="3616200"/>
                <a:ext cx="2578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4765680"/>
            <a:ext cx="3468960" cy="14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5076720" y="5013360"/>
            <a:ext cx="32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ární rozklad na příkladu smykové de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otace + Změna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620640"/>
            <a:ext cx="799128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ární rozklad deformačního gradi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= R.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gonál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zor r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otace elementárního okol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vý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zor protaž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 hlavním souřadném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měna tvaru elementárního prv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z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rozených přetvo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564000" y="1844640"/>
                <a:ext cx="3240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427640" y="5373720"/>
            <a:ext cx="503280" cy="288720"/>
          </a:xfrm>
          <a:prstGeom prst="left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399360" y="2565360"/>
                <a:ext cx="2060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732240"/>
            <a:ext cx="77058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lké posuvy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díl mezi výchozí nedeformovanou geometrií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deformovanou geometrickou konfigurací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brázku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je popsán jednoduchým vztahem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 = X + 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mínky rovnováhy v lineárním případě, vyjádřené pomocí MKP známou rovnicí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.U = 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ují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formovan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v. Pro sestavení matice tuhosti se ovšem vychází z výchozí, známé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edeformovan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onfigurace, te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tom j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zp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výsledky lze akceptovat pouze za předpokladu, že posuv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je zanedbatelný z hlediska změny geometrie řešeného problé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dy to lze předpoklád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 to bohužel neexistuje jednoduše kvantifikovatelná odpověď.  Například u tenkostěnných konstrukcí se uvádí jako hrubé měřítko požadavek, aby průhyb nepřesáhl tloušťku stěn. Jak se lze přesvědčit, v některých případech dominantního ohybového namáhání, případně spojeného s tahovou membránovou napjatostí stěn, je odezva lineární i při významném překročení zmíněného kritéria. Naopak v přítomnosti tlakového membránového namáhání stěn může dojít k nelineárnímu chování už při průhybech řádově menš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ávě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v případě tlakového membránového namáhání a i v dalších sporných případech nezbývá než použít nelineární algoritmus řešení, který je obecnější a lineární případy v sobě přirozeně zahrnu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987640" y="2708280"/>
                <a:ext cx="1944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nary>
                    <m:r>
                      <m:t xml:space="preserve">B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963360"/>
            <a:ext cx="770580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 Velká přetvoření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 odvození geometrických vztahů mezi složkami posuvů a přetvoření jsme v základním kurzu pružnosti předpokládali, že složky tenzoru přetvoření jsou malé, řádu 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Pak lze zanedbat kvadratické členy geometrických vztahů a používat běžně známý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ženýrský (též smluvní, infinitesimální) tenzor přetvoř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ato formulace zcela vyhovuje pro inženýrskou analýzu ocelových strojních konstrukcí. Hranic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užitelnosti inženýrského tenzor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etvoření bývá obvykle uváděna hodnoto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etvoření 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%,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ed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ád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případech jako je simulace toku materiálu při tváření, deformace komponent z pryže, plastu a jiných netradičních materiálů, mohou složky přetvoření dosáhnout i stovek procent. Nelineární členy pak není možno zanedbat a je nutno používat obecnější tenzory přetvoření. Ty lze definovat různým způsobem podle toho, kterou geometrickou konfiguraci tělesa považujeme za základní vztažnou. Existuj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va základní přístu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 popisu kinematiky při velkých deformací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dy nezávisle proměnnou je ne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nezávisle proměnnou je 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427640" y="2421000"/>
                <a:ext cx="1657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543960"/>
            <a:ext cx="770580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duchým způsobem lze rozdíl mezi oběma přístupy znázornit na příkladu řady vozidel projíždějících úsekem dálnice. Zatímco pozice řidiče, pevně svázaného s vozidlem a zaznamenávajícího změny polohy, rychlosti a zrychlení, odpovídá Lagrangeově popisu, Eulerův popis odpovídá pozici pozorovatele, sledujícího z místa na okraji silnice proud voz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ický pro popis pohybu tvárných těl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 čase sledována trajektorie jednotlivých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ch bod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iřazených počáteční geometrické konfiguraci v čase t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Jednoduchým způsobem tak lze průběžně sledovat deformačně napěťovou historii v každém bodě kontinua, která je nezbytná pro adekvátní popis chování materiálu u mnoha typů konstitutivních vztahů (plasticita, viskoplasticita). Někdy se proto používá termí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 pop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Tenzor přetvoření svázaný s Lagrange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reenův-Lagrangeův tenz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z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úlohy MKP řešené Lagrangeovským přístupem je typická síť prvků, jejichž uzlové body jsou svázány s materiálem a která se v průběhu řešení deformuje a „protéká“ vymezeným prosto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571840" y="3749760"/>
                <a:ext cx="3224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690120"/>
            <a:ext cx="770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naopak typický pr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pis pohybu kapalin a plyn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ztažný souřadný systém svázán s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ixovanou oblastí prostor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lopatková mříž, průtokový profil potrubí, armatury) a sledované médium touto oblastí proték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zor přetvoření svázaný s Euler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mansih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 též Almansiho-Hamelův) tenzor přetvo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úlohy MKP řešené Eulerovským přístupem je typická síť prvků, jejichž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zlové body jsou svázány s pevnými bo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prostoru, kterými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dované médium volně proté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se lze snadno přesvědčit, v případě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lých přetvoř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lze zanedbat kvadratické člen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lývají oba uvedené tenzor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známým inženýrským tenzorem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ou vlastností obou uvedených tenzorů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jektiv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d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závislost na posuvech a rotacích těles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ako tuhého celku. Tuto vlastnost nemá inženýrský tenzor a je proto použitelný pouze pro malá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08360" y="2235240"/>
                <a:ext cx="2303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239400"/>
            <a:ext cx="770580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formační gradie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transformaci mezi aktuální a výchozí geometrickou konfigur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yzikální význam jeho složek jsou poměrn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taž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stretch). V jednoosém případě s uvažováním konečných hodnot tyče protažené z délky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dél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protažení rov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becném trojosém případě je tvar deformačního gradientu uveden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 případě orientace ve směru hlavních os protažení bývá označová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                       , obdobně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formační gradient je tenzor, který sám o sobě nemůže sloužit jako míra přetvoření, protož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ní objekti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ři pohybu tělesa jako tuhého celku jsou jeho složky nenulové.  Jeho prostřednictvím je však možno vyjádřit další tenzory přetvoření, např. Greenův-Lagrangeů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ožňuje rovněž vyjádření dalších kinematických veličin při velkých deformacích, například poměrnou změnu objem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03640" y="1011240"/>
                <a:ext cx="8636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06640" y="2133720"/>
                <a:ext cx="52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627280" y="3295800"/>
                <a:ext cx="13683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076720" y="3348000"/>
                <a:ext cx="863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64000" y="5229360"/>
            <a:ext cx="2202120" cy="4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5950080"/>
            <a:ext cx="1513080" cy="67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40464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rozené (Cauchyho, logaritmické) přetvo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říve uvedených tenzorů přetvoření byly všechny poměrné změny vztaženy ke konkrétní, počáteční nebo konečné geometrické konfiguraci. Přirozené přetvoření vztahuje každý přírůstek k okamžité aktuální geometrii. V jednoosém případě je tedy přirozené přetvoření definov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orientace ve směru hlavních os protažení je možno tenzor přirozeného přetvoření získat jednoduše logaritmováním složek deformačního gradi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03280" y="2349360"/>
                <a:ext cx="5184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l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332000" y="4208400"/>
                <a:ext cx="230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4:40:05Z</dcterms:created>
  <dc:creator>Jindřich Petruška</dc:creator>
  <dc:description/>
  <dc:language>en-US</dc:language>
  <cp:lastModifiedBy>Prof. Jindrich Petruska</cp:lastModifiedBy>
  <dcterms:modified xsi:type="dcterms:W3CDTF">2006-11-12T16:57:38Z</dcterms:modified>
  <cp:revision>16</cp:revision>
  <dc:subject/>
  <dc:title>Geometric nonlinearity </dc:title>
</cp:coreProperties>
</file>