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E6A-94CF-49A6-A216-EFCEC648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554A-58EE-473C-AC27-5B728CFE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3375-24BF-496E-8325-E505206F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CB5B-46F8-4366-BD03-B3FFE6C8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E41C-2E57-4050-960F-BA116228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FBDD-70F9-4ED5-9A33-999F97C0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76C0-BF54-4642-BBAE-58788D3C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60B5-4EEA-4D36-BF64-A7458A6C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AA8A-BCAC-4CBC-B8AC-C3C3C4C2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862F-E804-47BE-8DF3-185EE9E3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54A2-5059-4B11-A713-5643B02B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0E5D-C6D3-4FEA-BEED-A81CA5FA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1AFC-DBD1-40F4-B0C9-EED9C4AF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80A9-2B06-4F3C-B92C-9E0B1EE3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9102-8CC0-4D64-94D7-D4416825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B772-824C-4DA3-94CB-422DE211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2792-6575-4545-BAD2-C0254415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0055-3A2E-4048-B3F4-82BC1BDF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A5BB-F764-467B-98B2-3FAC9F41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A678-46F6-46FD-BA0F-CBFEF327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9CCA-D41D-4640-9D8F-F400DC68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AC77-A260-4646-885C-6E813C0F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FA7A-FE77-43DA-905A-2FF615A1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DC88-1628-4BFD-8E21-730A126B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55EA-35D4-4FF5-8C2B-3BDE903DDC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CB65-7DDB-4E01-B392-FC32D5BA8E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Co je ideální kapalina</a:t>
            </a: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Charakteristické vlastnosti ideální kapalin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Nulová viskozita, tj. žádné vnitřní tření, nulový odpor proti změně tvar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Objemová nestlačitelnost, tj nekonečně velký odpor proti změně objem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12:40:43Z</dcterms:created>
  <dc:creator>Jiří Burša</dc:creator>
  <dc:description/>
  <dc:language>en-US</dc:language>
  <cp:lastModifiedBy>Jiri Bursa</cp:lastModifiedBy>
  <dcterms:modified xsi:type="dcterms:W3CDTF">2006-09-01T09:37:43Z</dcterms:modified>
  <cp:revision>51</cp:revision>
  <dc:subject/>
  <dc:title>Úvod do teorie lineární viskoelasticity</dc:title>
</cp:coreProperties>
</file>