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82AB-E972-46B1-B93F-F3977A82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193-7EC4-4AAB-9A34-55B83C42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871-2D6B-445E-AF56-3212D6C8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3C7-FC0A-4A5E-81F3-F653C021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7B3F-83EF-4D30-94A6-519D836A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4E6B-FC2B-4621-9605-C393EB6C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1978-734F-4E69-963A-4ED5239F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C866-F48E-48EB-BCF0-2B13449B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CB6E-14AA-49B2-907F-10B1C751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47D9-87C0-432C-A489-1A1F473C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86C5-BAA6-45A1-97E3-2FE3B82A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0E31-BC25-4624-B4F6-DAF9278D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C219-6866-4946-8423-DA0EC814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5834-B92A-4A22-AE6D-B2D79656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86C1-95AD-4510-96AE-76D53678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6DCE-A927-4823-8F9A-157EABD7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ECE2-BB1D-4091-AC08-C94E384C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FADA-22E0-4AD6-892F-BD4990CB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3002-7C68-4B81-9210-E2457714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A7FD-371B-474C-9884-A5F9728A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59DE-7504-4949-B748-55E8BC13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0903-D6A2-438F-9089-4CE66557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56B4-C27C-432C-A61C-F8131136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683-F406-49CE-B0A1-38852F1C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C579-DE4B-4981-9BBB-8753011525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D8BD-3CD1-4C2A-8A6F-490C6B6367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Závislost elastických konsta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0024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Vztahy pro modul pružnosti ve smyku a Lamého konstantu </a:t>
            </a:r>
            <a:r>
              <a:rPr b="0" lang="el-GR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λ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byly odvozeny v PPII přímo ve tvare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odul objemové pružnosti je definován podobně jako v hydromechan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          kde </a:t>
            </a:r>
            <a:r>
              <a:rPr b="0" i="1" lang="el-GR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σ</a:t>
            </a:r>
            <a:r>
              <a:rPr b="0" i="1" lang="cs-CZ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je střední napětí, </a:t>
            </a:r>
            <a:r>
              <a:rPr b="0" i="1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je poměrná změna objemu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o tyto veličiny byly v PPII odvozeny vztah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o nichž dosadíme z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Hookova zákona a dostaneme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753000" y="1413000"/>
                <a:ext cx="11905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651640" y="1413000"/>
                <a:ext cx="17269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μ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μ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11280" y="2349360"/>
                <a:ext cx="9968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581200" y="3789360"/>
                <a:ext cx="17748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74840" y="4998960"/>
                <a:ext cx="805788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595840" y="3852720"/>
                <a:ext cx="17845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481"/>
                </a:solidFill>
                <a:latin typeface="Tahoma"/>
              </a:rPr>
              <a:t>Závislost elastických konsta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77151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Dosazením do definičního vztahu pro K dostane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Hookův zákon potřebujeme vyjádřit pomocí konstant, které mají analogii v hydromechanice, tedy pomocí G a K.  Tak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yjádříme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i Lamého konstantu </a:t>
            </a:r>
            <a:r>
              <a:rPr b="0" lang="el-GR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625760" y="4416480"/>
                <a:ext cx="561024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Eμ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den>
                        </m:f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num>
                          <m:den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</m:den>
                        </m:f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987560" y="1700280"/>
                <a:ext cx="5089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μ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μ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12:40:43Z</dcterms:created>
  <dc:creator>Jiří Burša</dc:creator>
  <dc:description/>
  <dc:language>en-US</dc:language>
  <cp:lastModifiedBy>Jiří Burša</cp:lastModifiedBy>
  <dcterms:modified xsi:type="dcterms:W3CDTF">2006-10-18T12:21:40Z</dcterms:modified>
  <cp:revision>58</cp:revision>
  <dc:subject/>
  <dc:title>Úvod do teorie lineární viskoelasticity</dc:title>
</cp:coreProperties>
</file>