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594-8534-46AD-81B2-E95D9FE7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108-5DA7-4A43-9CCF-482F9030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EDF-5DD2-463B-A049-2B30A54C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AA3-3A36-4C37-B07C-DA60D368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E84B-9F9E-4402-B013-35DF4905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02A6-9174-4380-BAA8-B50E8B0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06DE-B565-47E1-A478-FBD2DBD7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4E3A-D15B-46E0-8210-406A7027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4173-3850-49E4-8549-7C334ECC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D8C5-C35B-4551-90CC-17334FD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0FBD-BEA0-46E5-B596-C813D72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CEC-7E96-4A5F-B61E-4B38317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2C21-1469-490F-8CC1-C821CE35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3A9E-3802-4737-8CE4-42AE6FC6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1753-64AB-488C-9466-5D446406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73CD-E205-4547-B268-62BEF389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5A37-19A6-418B-81D8-AE625FEE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131-6BD1-4090-A194-27ACE129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2D6-8656-4B9C-A091-E78EBEC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EA0-7FDD-4F7B-80A1-2EE4865F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AB4-1A47-4B03-A35E-BC35FBAF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857-7033-49ED-A359-00B3882B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366-828A-450C-A0D5-A8A4968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BA9-0801-4D54-A445-AA273717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67BD-1CA4-4FA9-BB47-D4E530371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6E97-053F-45D6-A4E5-FED054707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z&#225;vislost_elast_konstant.pp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viskozita.ppt" TargetMode="External"/><Relationship Id="rId2" Type="http://schemas.openxmlformats.org/officeDocument/2006/relationships/hyperlink" Target="file:///elasticita.pp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kapalina_ide&#225;ln&#237;.ppt" TargetMode="External"/><Relationship Id="rId2" Type="http://schemas.openxmlformats.org/officeDocument/2006/relationships/hyperlink" Target="file:///Newton&#367;v_z&#225;kon.ppt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enzor_nap&#283;t&#237;_ide&#225;ln&#237;_kapalina.ppt" TargetMode="Externa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gradient_rychlosti.ppt" TargetMode="External"/><Relationship Id="rId2" Type="http://schemas.openxmlformats.org/officeDocument/2006/relationships/hyperlink" Target="file:///gradient_rychlosti.ppt" TargetMode="External"/><Relationship Id="rId3" Type="http://schemas.openxmlformats.org/officeDocument/2006/relationships/hyperlink" Target="file:///gradient_rychlosti.ppt" TargetMode="External"/><Relationship Id="rId4" Type="http://schemas.openxmlformats.org/officeDocument/2006/relationships/hyperlink" Target="file:///gradient_rychlosti.ppt" TargetMode="External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Úvod do teorie viskoelastic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2895120"/>
            <a:ext cx="705816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řednáška je součástí předmě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Nelineární mechanika kontinua“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a podává zákla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teorie lineární viskoe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Upravený tvar Hookova záko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Použijeme vztahy vyjadřující vzájemnou </a:t>
            </a:r>
            <a:r>
              <a:rPr b="0" lang="cs-CZ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závislost elastických konstant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izotropního hookovského materiál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Vyjdeme ze tvaru s explicitně vyjádřenými napětími (viz PPI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32400" y="2057400"/>
                <a:ext cx="1695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11280" y="2133720"/>
                <a:ext cx="1552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187800" y="2133720"/>
                <a:ext cx="22478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μ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795320" y="2895480"/>
                <a:ext cx="15526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95240" y="4191120"/>
                <a:ext cx="744876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G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G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G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D</m:t>
                            </m:r>
                          </m:e>
                          <m:sub>
                            <m:r>
                              <m:t xml:space="preserve">ε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Hookův zákon v tenzorovém tvar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55640" y="1838160"/>
                <a:ext cx="21240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e>
                      <m:sub>
                        <m:r>
                          <m:t xml:space="preserve">ε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55640" y="2198520"/>
                <a:ext cx="21240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e>
                      <m:sub>
                        <m:r>
                          <m:t xml:space="preserve">ε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55640" y="1477800"/>
                <a:ext cx="207648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e>
                      <m:sub>
                        <m:r>
                          <m:t xml:space="preserve">ε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435560" y="1739880"/>
                <a:ext cx="39528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2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2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2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r>
                                <m:t xml:space="preserve">2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55640" y="2530440"/>
                <a:ext cx="2428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e>
                      <m:sub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55640" y="2962440"/>
                <a:ext cx="2476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e>
                      <m:sub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55640" y="3394080"/>
                <a:ext cx="24004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e>
                      <m:sub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19556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Složkové rovnice Hookova zákona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Deviátor tenzoru přetvoře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Obecný zápis Hookova záko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2b5481"/>
                </a:solidFill>
                <a:latin typeface="Tahoma"/>
              </a:rPr>
              <a:t>je Kroneckerův symbo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ahoma"/>
              </a:rPr>
              <a:t>Analogický zápis Newtonova záko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ahoma"/>
                <a:ea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  <a:ea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  <a:ea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  <a:ea typeface="Tahoma"/>
              </a:rPr>
              <a:t>	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  <a:ea typeface="Tahoma"/>
              </a:rPr>
              <a:t>kde </a:t>
            </a:r>
            <a:r>
              <a:rPr b="0" lang="el-GR" sz="2000" spc="-1" strike="noStrike">
                <a:solidFill>
                  <a:srgbClr val="2b5481"/>
                </a:solidFill>
                <a:latin typeface="Tahoma"/>
                <a:ea typeface="Tahoma"/>
              </a:rPr>
              <a:t>κ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2b5481"/>
                </a:solidFill>
                <a:latin typeface="Tahoma"/>
                <a:ea typeface="Tahoma"/>
              </a:rPr>
              <a:t>[Pa.s] 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  <a:ea typeface="Tahoma"/>
              </a:rPr>
              <a:t>je</a:t>
            </a:r>
            <a:r>
              <a:rPr b="0" lang="en-US" sz="2000" spc="-1" strike="noStrike">
                <a:solidFill>
                  <a:srgbClr val="2b5481"/>
                </a:solidFill>
                <a:latin typeface="Tahoma"/>
                <a:ea typeface="Tahoma"/>
              </a:rPr>
              <a:t> objemov</a:t>
            </a:r>
            <a:r>
              <a:rPr b="0" lang="cs-CZ" sz="2000" spc="-1" strike="noStrike">
                <a:solidFill>
                  <a:srgbClr val="2b5481"/>
                </a:solidFill>
                <a:latin typeface="Tahoma"/>
                <a:ea typeface="Tahoma"/>
              </a:rPr>
              <a:t>á („druhá“) viskoz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49160" y="4221000"/>
                <a:ext cx="2748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e>
                      <m:sub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37120" y="4149720"/>
                <a:ext cx="43225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65560" y="5013360"/>
                <a:ext cx="2471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η</m:t>
                    </m:r>
                    <m:sSub>
                      <m:e>
                        <m:limUpp>
                          <m:e>
                            <m:r>
                              <m:t xml:space="preserve">D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κ</m:t>
                    </m:r>
                    <m:limUpp>
                      <m:e>
                        <m:r>
                          <m:t xml:space="preserve">e</m:t>
                        </m:r>
                      </m:e>
                      <m:lim/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Reologické modely viskoelastického chování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Musíme odděleně modelovat tvarovou (konstanty G,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  <a:ea typeface="Tahoma"/>
              </a:rPr>
              <a:t>η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) a objemovou (konstanty K,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  <a:ea typeface="Tahoma"/>
              </a:rPr>
              <a:t>κ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) změn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Chování reologických modelů si ukážeme na deviátorové části tenzoru napětí a přetvoření, tedy na tvarové změně (závislosti smykového napětí a zkosu). Stejným způsobem se modeluje i objemová změ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Pro obě části lze použít stejného typu modelu, ale objemová změna se často modeluje jako čistě elastická, protože u objemové změny je její viskózní složka podstatně méně významná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jjednodušší reologické modely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iskoelastické látky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912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Maxwellův model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Diferenciální rov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Voigtův mode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ahoma"/>
              </a:rPr>
              <a:t>kde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τ = η/G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[s]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je časová konstanta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řechodového dě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464000" cy="10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3816360" cy="2149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724360" y="2060640"/>
                <a:ext cx="20480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t xml:space="preserve">d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580000" y="3600360"/>
                <a:ext cx="1629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lo</a:t>
            </a:r>
            <a:r>
              <a:rPr b="0" lang="cs-CZ" sz="3600" spc="-1" strike="noStrike">
                <a:solidFill>
                  <a:srgbClr val="2b5481"/>
                </a:solidFill>
                <a:latin typeface="Tahoma"/>
              </a:rPr>
              <a:t>žitější reologické modely </a:t>
            </a:r>
            <a:br>
              <a:rPr sz="3600"/>
            </a:br>
            <a:r>
              <a:rPr b="0" lang="cs-CZ" sz="3600" spc="-1" strike="noStrike">
                <a:solidFill>
                  <a:srgbClr val="2b5481"/>
                </a:solidFill>
                <a:latin typeface="Tahoma"/>
              </a:rPr>
              <a:t>viskoelastické látk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534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Kelvinův model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(standard linear solid)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003366"/>
                </a:solidFill>
                <a:latin typeface="Tahoma"/>
              </a:rPr>
              <a:t>Diferenciální rovn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Zobecněn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Maxwellův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18897" b="50446"/>
          <a:stretch/>
        </p:blipFill>
        <p:spPr>
          <a:xfrm>
            <a:off x="496800" y="1700280"/>
            <a:ext cx="4146480" cy="1741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43280" y="3500280"/>
          <a:ext cx="424980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3500280"/>
                    <a:ext cx="424980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03640" y="1628640"/>
                <a:ext cx="338328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ε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Deformačně – napěťové závislosti </a:t>
            </a:r>
            <a:r>
              <a:rPr b="0" lang="cs-CZ" sz="3600" spc="-1" strike="noStrike">
                <a:solidFill>
                  <a:srgbClr val="2b5481"/>
                </a:solidFill>
                <a:latin typeface="Tahoma"/>
              </a:rPr>
              <a:t>(tahová zkouška)  Maxwellova modelu</a:t>
            </a: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0375" t="5538" r="7411" b="6922"/>
          <a:stretch/>
        </p:blipFill>
        <p:spPr>
          <a:xfrm>
            <a:off x="468360" y="1844640"/>
            <a:ext cx="4044960" cy="433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4572000" y="1844640"/>
          <a:ext cx="4303800" cy="43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844640"/>
                    <a:ext cx="4303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Odezva Maxwellova modelu </a:t>
            </a:r>
            <a:br>
              <a:rPr sz="4000"/>
            </a:br>
            <a:r>
              <a:rPr b="0" lang="cs-CZ" sz="3200" spc="-1" strike="noStrike">
                <a:solidFill>
                  <a:srgbClr val="2b5481"/>
                </a:solidFill>
                <a:latin typeface="Tahoma"/>
              </a:rPr>
              <a:t>při statickém zatížení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reep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relaxace napě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10375" t="2769" r="17786" b="8307"/>
          <a:stretch/>
        </p:blipFill>
        <p:spPr>
          <a:xfrm>
            <a:off x="684360" y="2924280"/>
            <a:ext cx="3371760" cy="3609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10547" t="2769" r="0" b="9691"/>
          <a:stretch/>
        </p:blipFill>
        <p:spPr>
          <a:xfrm>
            <a:off x="5292720" y="2924280"/>
            <a:ext cx="2678040" cy="3632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rcRect l="8893" t="6922" r="7411" b="24920"/>
          <a:stretch/>
        </p:blipFill>
        <p:spPr>
          <a:xfrm>
            <a:off x="2268360" y="1413000"/>
            <a:ext cx="1641600" cy="1434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rcRect l="10375" t="6922" r="8893" b="24920"/>
          <a:stretch/>
        </p:blipFill>
        <p:spPr>
          <a:xfrm>
            <a:off x="7383600" y="1341360"/>
            <a:ext cx="16016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Znázornění harmonického zatěžování v komplexní rovině (Voigtův model)</a:t>
            </a: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Odezva na harmonický průběh deformace </a:t>
            </a:r>
            <a:r>
              <a:rPr b="0" lang="el-GR" sz="2400" spc="-1" strike="noStrike">
                <a:solidFill>
                  <a:srgbClr val="003366"/>
                </a:solidFill>
                <a:latin typeface="Tahoma"/>
                <a:ea typeface="Tahoma"/>
              </a:rPr>
              <a:t>ε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  <a:ea typeface="Tahoma"/>
              </a:rPr>
              <a:t> = </a:t>
            </a:r>
            <a:r>
              <a:rPr b="0" lang="el-GR" sz="2400" spc="-1" strike="noStrike">
                <a:solidFill>
                  <a:srgbClr val="003366"/>
                </a:solidFill>
                <a:latin typeface="Tahoma"/>
                <a:ea typeface="Tahoma"/>
              </a:rPr>
              <a:t>ε</a:t>
            </a:r>
            <a:r>
              <a:rPr b="0" lang="cs-CZ" sz="2400" spc="-1" strike="noStrike" baseline="-25000">
                <a:solidFill>
                  <a:srgbClr val="003366"/>
                </a:solidFill>
                <a:latin typeface="Tahoma"/>
                <a:ea typeface="Tahoma"/>
              </a:rPr>
              <a:t>a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  <a:ea typeface="Tahoma"/>
              </a:rPr>
              <a:t>cos(</a:t>
            </a:r>
            <a:r>
              <a:rPr b="0" lang="el-GR" sz="2400" spc="-1" strike="noStrike">
                <a:solidFill>
                  <a:srgbClr val="003366"/>
                </a:solidFill>
                <a:latin typeface="Tahoma"/>
                <a:ea typeface="Tahoma"/>
              </a:rPr>
              <a:t>ω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  <a:ea typeface="Tahoma"/>
              </a:rPr>
              <a:t>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6404" t="15748" r="19685" b="24059"/>
          <a:stretch/>
        </p:blipFill>
        <p:spPr>
          <a:xfrm>
            <a:off x="1763640" y="2316240"/>
            <a:ext cx="5664240" cy="3992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556000" y="551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iteratur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Křen, Rosenberg, Janíček: Biomechanika. Vydavatelství Západočeské univerzity, 199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Fung: Biomechanics. Mechanical Properties of Living Tissues. Springer, 1993, pp. 41-5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Lemaitre, Chaboche: Mechanics of solid materials. Cambridge University Press, 1990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Zilvar a kol.: Fyzika polymer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Havránek, Havránková: Teorie viskoelasticity. Čs. časopis pro fysiku, 1961,11, str.171-19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ahoma"/>
              </a:rPr>
              <a:t>Co znamená pojem viskoelastici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Viskozita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 – vlastnost kapaliny (tekutiny) – známe z hydromechani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Elasticita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 – vlastnost tuhé látky (tělesa) – známe z pružnosti a pev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iskoelasticita – spojení vlastností tekutiny a tuhé látky do společného konstitutivního modelu. Elastická látka i viskózní tekutina pak mohou být chápány jako jeho zvláštní přípa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onstitutivní modely kapal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Ideální kapa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Newtonská kapa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Nenewtonské kapal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at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Cíl kurzu lineární viskoelastic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imes New Roman"/>
              </a:rPr>
              <a:t>Spojení modelu lineární elasticity (Hookova zákona) a lineární viskozity (Newtonova zákona) do obecnějšího konstitutivního modelu, platného jak pro tuhé látky, tak pro tekutin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imes New Roman"/>
              </a:rPr>
              <a:t>Praktický smysl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2b5481"/>
                </a:solidFill>
                <a:latin typeface="Times New Roman"/>
              </a:rPr>
              <a:t>popis chování látek v situacích, kdy jsou podstatné obě složky jejich chování (např. makromolekulární látky, kovy nebo sklo za zvýšených teplot, ale i voda při extrémně velkých rychlostech deformace) – tj. popis tečení materiálu (creepu), relaxace napětí, hysterez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imes New Roman"/>
              </a:rPr>
              <a:t>V čem je vlastně chování lineárně viskoelastického materiálu nelineární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b5481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2b5481"/>
                </a:solidFill>
                <a:latin typeface="Times New Roman"/>
              </a:rPr>
              <a:t>Kombinací obou vlastností již není napětí lineární funkcí přetvoření ani gradientu rychlosti, takže všechny deformačně-napěťové charakteristiky mohou být obecně nelineární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ahoma"/>
              </a:rPr>
              <a:t>Náplň přednášek lineární viskoelasticit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ysvětlení základních pojm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Analogie mezi mechanikou kapalin a tě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Základní vztahy lineární viskoelastic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Popis chování viskoelastických látek pomocí nejjednodušších reologických modelů na základě jejich diferenciálních rov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při statickém zatěž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při dynamickém (harmonickém) zatěž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yužití teorie lineární viskoelasticity v MKP – zadávání parametrů viskoelastických konstitutivních modelů v ANSY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ahoma"/>
              </a:rPr>
              <a:t>Předpoklady lineární viskoelastic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teriál je izotrop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Deformace jsou malé (přetvoření do 1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ie hydromechaniky a mechaniky těles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Tahoma"/>
              </a:rPr>
              <a:t>Hydromecha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Eulerova rovnice hydrostati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Tahoma"/>
              </a:rPr>
              <a:t>Kontrolní otázk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Zkuste zapsat v maticovém tvaru </a:t>
            </a:r>
            <a:r>
              <a:rPr b="0" lang="cs-CZ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enzor napětí pro ideální kapali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5520" y="105264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Mechanika tě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auchyho rovnice rovnováh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4360" y="2205000"/>
                <a:ext cx="1800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4360" y="2997360"/>
                <a:ext cx="18000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4360" y="3772080"/>
                <a:ext cx="1800000" cy="80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292720" y="2205000"/>
                <a:ext cx="32194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2997360"/>
                <a:ext cx="323856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92720" y="3733920"/>
                <a:ext cx="32194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648400" y="4818240"/>
                <a:ext cx="2523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635280" y="3141720"/>
                <a:ext cx="952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ie konstitutivních parametrů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Times New Roman"/>
              </a:rPr>
              <a:t>Hydromechan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3300"/>
                </a:solidFill>
                <a:latin typeface="Tahoma"/>
              </a:rPr>
              <a:t>modul objemové stlačitelnosti </a:t>
            </a:r>
            <a:r>
              <a:rPr b="0" lang="el-GR" sz="2000" spc="-1" strike="noStrike">
                <a:solidFill>
                  <a:srgbClr val="663300"/>
                </a:solidFill>
                <a:latin typeface="Tahoma"/>
                <a:ea typeface="Tahoma"/>
              </a:rPr>
              <a:t>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8000"/>
                </a:solidFill>
                <a:latin typeface="Tahoma"/>
              </a:rPr>
              <a:t>dynamická viskozita </a:t>
            </a:r>
            <a:r>
              <a:rPr b="0" lang="el-GR" sz="2000" spc="-1" strike="noStrike">
                <a:solidFill>
                  <a:srgbClr val="008000"/>
                </a:solidFill>
                <a:latin typeface="Tahoma"/>
                <a:ea typeface="Tahoma"/>
              </a:rPr>
              <a:t>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Jaký je vztah mezi </a:t>
            </a:r>
            <a:r>
              <a:rPr b="0" lang="cs-CZ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gradiente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rychlosti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v kapalině a </a:t>
            </a:r>
            <a:r>
              <a:rPr b="0" lang="cs-CZ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rychlostí úhlové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deformace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tuhé látk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ahoma"/>
                <a:ea typeface="Tahoma"/>
              </a:rPr>
              <a:t>Protože elastické vlastnosti izotropního materiálu jsou popsány dvěma nezávislými elastickými konstantami, ostatní jsou závisl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0000"/>
                </a:solidFill>
                <a:latin typeface="Arial"/>
                <a:ea typeface="Tahoma"/>
              </a:rPr>
              <a:t>Pro společný popis je třeba vyjádřit Hookův zákon pomocí G a 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Times New Roman"/>
              </a:rPr>
              <a:t>Mechanika tě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modul pružnosti v tah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oissonovo čís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Lamého konstan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8000"/>
                </a:solidFill>
                <a:latin typeface="Times New Roman"/>
              </a:rPr>
              <a:t>modul pružnosti ve smyku 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3300"/>
                </a:solidFill>
                <a:latin typeface="Times New Roman"/>
              </a:rPr>
              <a:t>objemový modul pružnosti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6633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1523880"/>
                <a:ext cx="19526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V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59280" y="3716280"/>
                <a:ext cx="344808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84720" y="2967120"/>
                <a:ext cx="924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G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30280" y="2817720"/>
                <a:ext cx="1701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η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γ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ří Burša</cp:lastModifiedBy>
  <dcterms:modified xsi:type="dcterms:W3CDTF">2006-10-18T12:50:05Z</dcterms:modified>
  <cp:revision>79</cp:revision>
  <dc:subject/>
  <dc:title>Úvod do teorie lineární viskoelasticity</dc:title>
</cp:coreProperties>
</file>