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438-FC3D-4634-809A-D6E288C8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4B5-BB2F-4047-918A-47858C47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C73-FE1D-4684-9264-E5ED348F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526-4C11-4776-A48A-83A49ED6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F60-198A-4C9D-98FD-E0B4CC3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9F9-9FE1-4CA3-8DC7-6134A54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216-0A01-49C1-84F5-841C2E1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97A-6341-4BFF-BAC3-3EBE322A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A6C-6D26-483C-9994-E564E2C9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121-0202-4227-B742-ED3EBA8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2E7-F6D7-4BF5-B1A1-A4973A60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118-1109-404C-A64C-8977483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F314-A2A7-408B-A873-3CF03E543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eticky konjugované tenz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tenzorech napětí a přetvoření říkáme, že jso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nergeticky konjug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družené),  jestliže jejich skalární součin integrovaný přes odpovídající vztažnou geometrickou konfigurac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ává práci vnitřních  si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Uvedené tenzory přitom nelze kombinovat libovolně. Energeticky konjugované jsou na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een-Lagrangeův tenzor přetvoření a 2. Piola-Kirchhoffův tenzor napětí, n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mansiho tenzor přetvoření a Cauchyho tenzor (skutečných) napě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jich prostřednictvím lze vyjádřit virtuální práci vnitřních sil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 V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počáteční, V finální geometrická konfigu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á jiná kombinace tenzorů či vztažných geometrií by poskytla nesprávný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92360" y="4292640"/>
                <a:ext cx="50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51:50Z</dcterms:created>
  <dc:creator>Jiri Bursa</dc:creator>
  <dc:description/>
  <dc:language>en-US</dc:language>
  <cp:lastModifiedBy>Prof. Jindrich Petruska</cp:lastModifiedBy>
  <dcterms:modified xsi:type="dcterms:W3CDTF">2006-11-12T21:18:04Z</dcterms:modified>
  <cp:revision>4</cp:revision>
  <dc:subject/>
  <dc:title>Energeticky konjugované tenzory</dc:title>
</cp:coreProperties>
</file>