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119A-A365-4B5F-889F-F4C970FC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8F92-DE3F-4EE5-9829-76E477A1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894E-9BB0-4430-9F06-BFC237D8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BE38-12A7-403A-807C-CCA815B9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9A85-A27E-47AF-8964-E57B8811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18B1-07FC-4198-A78C-493D5134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BB8A-767A-43AD-A79D-164E8593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59DE-441C-4943-8E26-2B443429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38C9-49D4-45E2-9C73-99508EAA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D536-4C7B-4D6E-A44F-96859211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E122-661A-4B3C-806A-D385061F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0666-5B9D-4841-998B-09CCAE0F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C9C6-4FE5-409A-BC13-89D4988D6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P&#345;etvo&#345;en&#237;-obr&#225;zek.ppt" TargetMode="External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Einsteinovo%20pravidlo.ppt" TargetMode="External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7138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reen-Lagrangeův tenzor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ečných přetvo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řetvoření (poměrná deformace) je vztažena k původním (nedeformovaným) rozměrům, ale je respektováno i natáčení elementu. Pak je délkové přetvoření (označení viz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obrázek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Deformovaná délka elementu dx se zde počítá aplikací Pythagorovy věty ve 3D prostoru (není v obrázku zakresleno). Pro zjednodušení vztahu použijeme první dva členy binomické řad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ak dostane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ro ostatní složky délkových přetvoření platí analogick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600120" y="1919160"/>
                <a:ext cx="78944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w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u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u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w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572000" y="3154320"/>
                <a:ext cx="24620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κ</m:t>
                        </m:r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κ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κ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κ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092560" y="4484520"/>
                <a:ext cx="322128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687240" y="3745080"/>
                <a:ext cx="63565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w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f>
                          <m:num>
                            <m:r>
                              <m:t xml:space="preserve">2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995400" y="5559480"/>
                <a:ext cx="31399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086440" y="5559480"/>
                <a:ext cx="31399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7138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reen-Lagrangeův tenzor přetvo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5075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becnění na všechny složky tenzoru přetvoření je možné pomocí tenzorového zápi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to zápis používá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insteinovo sčítací pravidlo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979640" y="1925640"/>
                <a:ext cx="39942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3645000"/>
            <a:ext cx="828036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igorózní odvození tohoto tenzoru včetně mimodiagonálních složek je možno nalézt v literatuře, např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.A. Holzapfel: Nonlinear Solid Mechanics, Wiley and Sons,  200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. Okrouhlík a kol.: Mechanika poddajných těles, numerická matematika a superpočítače, Ústav termomechaniky AV ČR, Praha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0:23:28Z</dcterms:created>
  <dc:creator>Jiri Bursa</dc:creator>
  <dc:description/>
  <dc:language>en-US</dc:language>
  <cp:lastModifiedBy>Prof. Jindrich Petruska</cp:lastModifiedBy>
  <dcterms:modified xsi:type="dcterms:W3CDTF">2006-11-10T23:42:56Z</dcterms:modified>
  <cp:revision>6</cp:revision>
  <dc:subject/>
  <dc:title>Green-Lagrangeův tenzor konečných deformací</dc:title>
</cp:coreProperties>
</file>