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339-E6E5-4A91-AA4D-653F68DE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7A2-AA80-4544-87FC-584B424A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7FD-370D-4645-8676-FA831755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B08-E24F-4133-B6C3-62C4E83F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673E-9E5E-4104-8CA6-DCD65D8B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1D66-62A3-4CB5-BA85-8D31638A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647A-AE19-4708-8EDE-B419070B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9A4-0F4F-414B-AE87-4993C88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0C5C-7CA4-481A-A385-339DCA5F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0055-77C3-4EEA-B720-C36CA14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CA97-112F-45A4-8F87-CF5231E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0FE-D152-41D3-A38D-502E1AC7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89CF-DD41-4969-9FC0-4FE631E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C76-A746-4013-A382-CD9E5EF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6C4E-91F3-4B0C-8259-3443DC73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F6B3-B0F7-42FB-A361-C63399B0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4C98-649A-45FF-807A-6108E273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1DE-D2AD-4F2E-9D7A-57F1836E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AD1-F421-4D6B-9FF4-690FE00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776-B0CE-4BCA-BB99-10A68DAA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D7B-6435-4ED7-94B3-EE3E8B04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543-42E1-48BE-8797-DC6CE4C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C73-8743-4028-AF75-F60EB953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0F0-CF1A-4862-A009-6A01F84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47D8-A090-4AF5-AE14-BABC1CA5DC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933-8DFC-4203-8E95-B1550BCAB1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Přehledové schéma  konstitutivních modelů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0341" t="22747" r="18701" b="20560"/>
          <a:stretch/>
        </p:blipFill>
        <p:spPr>
          <a:xfrm>
            <a:off x="324000" y="907920"/>
            <a:ext cx="8569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Pavel Skacel</cp:lastModifiedBy>
  <dcterms:modified xsi:type="dcterms:W3CDTF">2006-09-20T14:18:09Z</dcterms:modified>
  <cp:revision>53</cp:revision>
  <dc:subject/>
  <dc:title>Úvod do teorie lineární viskoelasticity</dc:title>
</cp:coreProperties>
</file>