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BFC-0E50-4D5F-898A-8533356B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D2E-A0E9-4920-B0DD-750E25A8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694-2CFD-4E2E-B9A0-22E79B7E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C63-BAFF-4888-9D8F-ADE26FB5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42EE-09FE-40BD-8470-0B03F5FC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A59-E353-4316-8BE7-F267547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03B-C723-44B9-9A74-C02AEBD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285-92B5-4CBB-9585-166B20E7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D4B-6B9A-4AD1-907A-E3D59FD5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4F17-28F7-45B4-96DF-D55C0275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D497-DC87-498F-A7F0-6E4AEA8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3FA-7766-450C-BA9C-73A0F302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E591-B294-4550-B125-AF371B1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32E-5C14-4E7C-87F2-AD70B1B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33A9-48D1-4096-B85F-C369F99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72A-4D17-490D-99D6-BBFF452F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2DD3-BA60-4D24-AF06-9C898D8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563-AB80-45AF-BFB9-0FE291A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853-58DB-4699-8D07-29781E4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47C-FB41-4EBE-AD9C-280D7A8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0F3-0A10-463C-B911-F97E6F8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9B8-F0B7-4FC5-B07D-7EE55E4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A95-37E5-4B86-AE15-926A557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14F-1FE7-4F44-A6DF-F405899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CA1-2DB7-47DF-96B3-816636624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A2CC-3869-4344-9E87-846B4E2E83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Co </a:t>
            </a: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e to </a:t>
            </a: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visko</a:t>
            </a: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z</a:t>
            </a:r>
            <a:r>
              <a:rPr b="0" lang="cs-CZ" sz="4000" spc="-1" strike="noStrike">
                <a:solidFill>
                  <a:srgbClr val="2b5481"/>
                </a:solidFill>
                <a:latin typeface="Tahoma"/>
              </a:rPr>
              <a:t>i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Viskozita – vlastnost kapaliny (tekutiny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charakteri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ující její odpor proti tvarovým změnám. Je definována v hydromechanice dvěma způsob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1) jako konstanta úměrnosti mezi gradientem rychlosti v kapalině a odpovídajícím smykovým napětím v ní, a to v podobě Newtonova zákona viskoz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</a:rPr>
              <a:t>τ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[Pa]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    je smykové napětí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</a:rPr>
              <a:t>η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[Pa.s]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je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tzv.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amick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á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visko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ta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v/d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[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cs-CZ" sz="20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je gradient rychlosti kapali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2) Kromě dynamické viskozity se v hydromechanice definuje i tzv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inematická viskozita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ν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cs-CZ" sz="20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.s</a:t>
            </a:r>
            <a:r>
              <a:rPr b="0" lang="cs-CZ" sz="20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, a to vzta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ρ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g.m</a:t>
            </a:r>
            <a:r>
              <a:rPr b="0" lang="cs-CZ" sz="2000" spc="-1" strike="noStrike" baseline="30000">
                <a:solidFill>
                  <a:srgbClr val="003366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]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je hustota (měrná hmotnost) kapali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2470320"/>
                <a:ext cx="1209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30840" y="4794120"/>
                <a:ext cx="893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09:52:07Z</dcterms:modified>
  <cp:revision>51</cp:revision>
  <dc:subject/>
  <dc:title>Úvod do teorie lineární viskoelasticity</dc:title>
</cp:coreProperties>
</file>