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735-B067-4374-8540-33D43E9D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E98-0C47-48CF-AD98-7779A95B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EB7-2977-424C-A62F-8BE58C68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E55-D8EB-4009-AF7C-68A47913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59D2-9775-4FAF-8585-C9CF7C2C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215A-8520-454A-90DD-38A642A2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76FC-A68A-4318-812F-C8EE1EFF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3419-38CC-4F2F-8C55-316CC784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402B-AB94-48F7-BA27-99D867D4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78C8-CC8C-433B-A04F-F3FB63F2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BFBA-41E4-4F01-B482-3AF28C1B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9E5-E510-468B-9120-EBA60934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A1F0-4AB8-4761-B312-A6B1FAF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D039-FB5D-484A-88C2-DE5B12E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FA5B-41DB-431D-9C03-A72337B8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3A35-3F4B-41AF-8292-2156DA7F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3B22-DAC1-49FF-8B82-A7FB45EC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339-5308-4DB6-A1C9-E1A75707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711-9B62-4AA3-A6E9-25B937A3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B38-56F6-468A-91DB-6312A8B3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B50-FFCF-4D6C-96C4-A27DA65F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E9C-7CE5-489A-8049-FFE55182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4F0-00D3-4F2E-89D9-7C39C2A6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3EA-93F9-48F3-B7FD-02779791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EFBA-C5A2-490A-A679-F17FD9CD61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17FB-329F-427D-BEE5-221CF76522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aký je vztah mezi gradientem rychlosti a úhlovou deformací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2684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Tvar Newtonova zákona viskozity známý z hydromechaniky lze modifikovat následovně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kde 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τ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[Pa]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    je smykové napětí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η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[Pa.s]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e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tzv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amick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visko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a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dv/d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[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cs-CZ" sz="28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je gradient rychlosti kapali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4360" y="2836800"/>
                <a:ext cx="78166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η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γ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ri Bursa</cp:lastModifiedBy>
  <dcterms:modified xsi:type="dcterms:W3CDTF">2006-09-01T18:46:16Z</dcterms:modified>
  <cp:revision>53</cp:revision>
  <dc:subject/>
  <dc:title>Úvod do teorie lineární viskoelasticity</dc:title>
</cp:coreProperties>
</file>