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B45-814D-4957-A10A-432B588F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B51-3B34-4F2C-BAE8-048D5FF5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793-B077-42F8-805F-6A69573A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232-0957-4631-AB18-53BEC484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1CD-11AC-41EF-8DCD-78C21E8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3D9-7D76-4A02-943C-8DACFA06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F43-CB2B-4594-A157-863EA0F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252-0A20-4122-9E14-21BEE19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310-8D96-461C-AB10-E8CB2B37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0BF-EE6B-4DB0-A169-98BE1F9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43B-C4E8-4215-821C-17D9E67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C54-E0AB-4180-B2C1-05BF2CD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43A7-2205-41B7-8194-27111274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nergeticky%20konjugovan&#233;%20tenzory.ppt" TargetMode="External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2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2. Piola-Kirchhoffův (označovaný také jen jako Kirchhoffův) tenzor napětí je definován jako elementární síla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0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vztažená na původní (tj. nedeformovanou) plochu elementu. Tato síla je však při přenášení na původní element změněna oproti skutečné síle 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stejným poměrem jako elementární rozměr v odpovídajícím směru. Ten se mění při zatížení podle vztahu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      , re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ři zpětné transformaci do nedeformovaného tvaru. Podobně transformujeme i elementární s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akže  napětí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Konkrétně pro normálové napětí ve směru 1 pla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ento tenzor nemá jasný fyzikální význam, používá se proto, že je i pro velká přetvoření symetrický a j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eticky konjugovaný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s Green-Lagrangeovým tenzorem přetvoř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00360" y="3929040"/>
                <a:ext cx="1508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365880" y="4640400"/>
                <a:ext cx="1576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89400" y="2482920"/>
                <a:ext cx="15015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146640" y="2482920"/>
                <a:ext cx="1460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7840" y="3419640"/>
                <a:ext cx="15210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06-11-12T21:18:14Z</dcterms:modified>
  <cp:revision>8</cp:revision>
  <dc:subject/>
  <dc:title>Piola-Kirchhoffův tenzor napětí 1. druhu </dc:title>
</cp:coreProperties>
</file>