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88-3B7E-4668-B081-3D2274F3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B37-825D-45EE-8799-094A113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9E5-F2DB-450A-A7E8-1EDB102F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27D-0E24-4BB5-AEC6-CDD558AF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D7C4-7D8F-427C-9CF4-0E3CEDD7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132-BBEC-40D1-9325-17AC934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979-B041-472E-A99F-503EEE9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9A6-8909-4772-A4EC-946AD23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BE08-0013-491E-8EB1-DA67C489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CF07-9D6C-4AF8-97DC-E0A503A1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08AD-B384-496D-B886-E1752E6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8CD-9B0C-4BDF-9991-579AD70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7253-EDA6-47B1-9C86-8B67A8B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BB5D-38F2-46AA-9479-FD50761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E19-58B6-4552-A718-B0B27D96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B571-A11E-4E8C-838D-7ABDBF0D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1752-7DB7-4505-ABB5-5D8E8274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AB5-D252-4AC8-A059-389809B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97D-3F26-4003-AD94-5133758D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9D8-9634-4277-978F-1CCC4C6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CEE-15A6-42DF-819F-8618284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680-E788-4E82-B421-70F57E6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219-0CD9-4F81-A65D-6E5B6BF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82A-6B71-4AA3-BECB-B893A2C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D00-AB65-4471-B72A-8B4241CDD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7BE-7499-4967-949B-33938ACC15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Newtonův zákon viskoz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yjadřuje lineární závislost mezi gradientem rychlosti a smykovým napětím v tekutině. Obvykle se uvádí ve tvar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kde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[Pa]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    je smykové napětí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η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[Pa.s]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j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tzv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amick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visko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a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dv/dn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[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cs-CZ" sz="2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  je gradient rych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Kapaliny, jejichž chování lze popsat Newtonovým zákonem viskozity označujeme jako 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newtonské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. Viskozita je jejich materiálovou charakteristikou, která je ovšem 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teplotně závislá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987640" y="1844640"/>
                <a:ext cx="1209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09-11T08:26:43Z</dcterms:modified>
  <cp:revision>57</cp:revision>
  <dc:subject/>
  <dc:title>Úvod do teorie lineární viskoelasticity</dc:title>
</cp:coreProperties>
</file>