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CDE-9885-4DC3-A799-03AF410F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465-5DE7-486A-96AE-54D3DDC4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225-8597-4833-BF0F-86E27004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44A-7CED-464C-8A1D-D588ECC9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A9B-FAE7-4644-8CC5-07C2D011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779-BD69-4EAA-B14F-78F35358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B41-7F97-4057-937D-2BE65423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330-51A4-46D8-BF60-C53F2E7D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CFE-2A9B-4733-9B28-BF798366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207-6D23-4A7B-A1BD-ADA7C32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4D7-63FA-489D-B886-728CE4F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AA9-58F6-40C9-8B3B-CFD07563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4DD8-F6D0-4C50-8F01-A41A74883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ho (logaritmický) tenzor konečných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71640" y="4797360"/>
                <a:ext cx="67294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468360" y="1382760"/>
            <a:ext cx="8136000" cy="36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edostatky tenzorů konečných přetvoř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Green-Lagrange: změny délek jsou stále vztahovány k původním hodnotám, zatímco aktuální již mohou být v průběhu procesu zatěžování významně odliš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Almansi-Hamel: změny délek jsou stále vztahovány ke konečným (deformovaným) hodnotám délek, zatímco aktuální od nich mohou být v průběhu procesu zatěžování ještě podstatně odliš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auchyho definice přetvoření je exaktnější v tom, že infinitezimální přírůstek délky vztahuje vždy k aktuální délce v daném stadiu zatěžovacího proces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řetvoření úsečky o původní délce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0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 která se vlivem zatížení mění na aktuální hodnotu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až dosáhne konečné (deformované) délky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 určíme integrací přírůstků její délky d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viz obrázek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925960"/>
            <a:ext cx="8136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lavní souřadnice tohoto tenzoru jsou tedy rovny přirozeným  logaritmům odpovídajících souřadnic tenzoru deformačního gradien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44:05Z</dcterms:created>
  <dc:creator>Jiri Bursa</dc:creator>
  <dc:description/>
  <dc:language>en-US</dc:language>
  <cp:lastModifiedBy>Jiri Bursa</cp:lastModifiedBy>
  <dcterms:modified xsi:type="dcterms:W3CDTF">2006-11-05T12:45:41Z</dcterms:modified>
  <cp:revision>5</cp:revision>
  <dc:subject/>
  <dc:title>Cauchyho (logaritmický) tenzor přetvoření</dc:title>
</cp:coreProperties>
</file>