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925-3875-4AB3-9606-F6455C37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AEE1-A865-4C44-AB1E-67E43E23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555B-C24A-4777-852C-6F7367D6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BD7-F44B-41D7-AC1B-A6FE5D29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BD98-9DAD-4846-A903-91739B6D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9317-796B-4E3A-9F98-CAED5080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C4F8-9961-4AE4-BE72-52700D07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D02B-4A52-4E98-B099-E8C4F468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9DC2-A5A2-454C-890C-8C48A2DC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C069-B563-40B7-B683-DD8CF079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1077-3862-4799-9E72-4E6AD01E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D0E-4D10-4E73-B428-C2CF41CE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EE0D-F8E4-4C33-9A49-C7981ACA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196F-45B9-464E-8884-ABAB95F3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0A7C-AE2B-4164-BDE3-81245F29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4DBB-5BE2-4DD7-9D86-82CC71A0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A774-FF34-4AC5-8FC1-EABD4496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A73-3A9C-4803-AB89-AF20CD08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1B9F-112C-41AE-9367-2F5DCA7B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4867-82E6-46D6-B0B4-2A478899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CB3D-A848-48EE-8494-AE8565CD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771-10DB-4094-85FC-4A0BF2F0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8724-578C-4EE4-BB09-2F5159E7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766-B13C-44A7-9DC6-89339F4A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8F68-B29C-4874-A601-2C01209995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AC22-1B93-4ECA-989A-F199BFF6C9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 jsou to konečné deformac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Termínem konečné deformace (finite strain) označujeme přetvoření, která na rozdíl od klasické teorie pružnosti nejsou nekonečně malá (infinitezimální). V praxi lze teorie založené na předpokladu malých (infinitezimálních, tedy nekonečně malých) přetvoření používat, pokud přetvoření nepřesáhnou cca 1%. V opačné případě je třeba používat teorie konečných (rozuměj nikoli nekonečně malých, tedy vlastně velkých) přetvoření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12:40:43Z</dcterms:created>
  <dc:creator>Jiří Burša</dc:creator>
  <dc:description/>
  <dc:language>en-US</dc:language>
  <cp:lastModifiedBy>Jiri Bursa</cp:lastModifiedBy>
  <dcterms:modified xsi:type="dcterms:W3CDTF">2006-11-05T07:37:18Z</dcterms:modified>
  <cp:revision>82</cp:revision>
  <dc:subject/>
  <dc:title>Úvod do teorie lineární viskoelasticity</dc:title>
</cp:coreProperties>
</file>