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0EB5-6268-49E7-AAF6-EE2FA44C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FB15-8293-40FF-8408-10C3AA18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58AD-CC60-4D90-9850-65AF7DCD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3D3A-C805-41A0-9BDC-59BF4C84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B6BB-C7D6-4AE5-B1E0-CB4C9A26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AB2E-51B7-49CA-B4E3-7687A4C8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9FE9-7266-4C8D-B974-5288E25F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74C8-7EB7-48A5-9C72-F71CEBFF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1A5B-ADE7-469E-807D-19608C57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77C-D164-4721-B392-1B3DD7C4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EBC6-9D8F-4193-8A41-37FA8C61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7F51-3A65-408F-AF36-7156EC6C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F202-B604-4456-91AD-2307565BB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11280" y="879480"/>
            <a:ext cx="7559640" cy="5070600"/>
            <a:chOff x="611280" y="879480"/>
            <a:chExt cx="7559640" cy="5070600"/>
          </a:xfrm>
        </p:grpSpPr>
        <p:sp>
          <p:nvSpPr>
            <p:cNvPr id="42" name=""/>
            <p:cNvSpPr/>
            <p:nvPr/>
          </p:nvSpPr>
          <p:spPr>
            <a:xfrm>
              <a:off x="2184480" y="4336920"/>
              <a:ext cx="582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2187720" y="1628280"/>
              <a:ext cx="0" cy="27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90560" y="3933720"/>
              <a:ext cx="546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7560" y="2092320"/>
              <a:ext cx="3636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84480" y="4336920"/>
              <a:ext cx="11160" cy="154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110040" y="3654360"/>
              <a:ext cx="0" cy="12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184480" y="4883040"/>
              <a:ext cx="909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96000" y="501336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18480" y="3573360"/>
              <a:ext cx="0" cy="23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84480" y="5716440"/>
              <a:ext cx="3611520" cy="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823000" y="5734080"/>
              <a:ext cx="10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32000" y="3645000"/>
              <a:ext cx="473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094200" y="879480"/>
              <a:ext cx="1440" cy="27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84480" y="4336920"/>
              <a:ext cx="3611520" cy="67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1402920" y="2349000"/>
              <a:ext cx="792360" cy="20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00320" y="3637080"/>
              <a:ext cx="38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097080" y="1413000"/>
              <a:ext cx="0" cy="22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84520" y="3608280"/>
              <a:ext cx="728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2800" y="4971960"/>
              <a:ext cx="546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60400" y="2335320"/>
              <a:ext cx="5446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30560" y="1243080"/>
              <a:ext cx="727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69160" y="3171960"/>
              <a:ext cx="727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67000" y="4519440"/>
              <a:ext cx="546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39960" y="5334120"/>
              <a:ext cx="72900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5918040" y="5172120"/>
                  <a:ext cx="86868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u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" name=""/>
            <p:cNvSpPr/>
            <p:nvPr/>
          </p:nvSpPr>
          <p:spPr>
            <a:xfrm>
              <a:off x="3094200" y="4154400"/>
              <a:ext cx="3821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32200" y="3790800"/>
              <a:ext cx="727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96000" y="501336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7461360" y="3608280"/>
              <a:ext cx="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7451640" y="4358880"/>
              <a:ext cx="972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461360" y="3790800"/>
              <a:ext cx="546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667640" y="4437000"/>
                  <a:ext cx="50328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 flipV="1">
              <a:off x="1403280" y="16999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15880" y="1773360"/>
              <a:ext cx="72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1579680" y="1181160"/>
                  <a:ext cx="51732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u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d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" name=""/>
            <p:cNvSpPr/>
            <p:nvPr/>
          </p:nvSpPr>
          <p:spPr>
            <a:xfrm flipH="1">
              <a:off x="971640" y="233676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1042920" y="434016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87280" y="2335320"/>
              <a:ext cx="0" cy="200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1280" y="3063960"/>
              <a:ext cx="7268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2548080" y="1413000"/>
              <a:ext cx="5112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2547720" y="360828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30600" y="1425600"/>
              <a:ext cx="0" cy="21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74840" y="2152800"/>
              <a:ext cx="728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7667640" y="3213000"/>
            <a:ext cx="728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97160" y="620640"/>
            <a:ext cx="727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2:26:16Z</dcterms:created>
  <dc:creator>Jiri Bursa</dc:creator>
  <dc:description/>
  <dc:language>en-US</dc:language>
  <cp:lastModifiedBy>Prof. Jindrich Petruska</cp:lastModifiedBy>
  <dcterms:modified xsi:type="dcterms:W3CDTF">2006-11-09T21:16:43Z</dcterms:modified>
  <cp:revision>6</cp:revision>
  <dc:subject/>
  <dc:title>Snímek 1</dc:title>
</cp:coreProperties>
</file>