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D89-CE9D-431C-A375-ECFEDE5A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C1D-A71A-456E-8FFD-1AAE1B10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677-D7F7-4C0D-B651-CF914385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D12-7641-496B-B31B-988F4634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3F6B-3103-4158-A867-F1541137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CC8D-410D-43C5-AEE9-E6151DFA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B754-4C50-4D2D-9CD8-54AED5F4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EE79-AC28-4BED-9C65-EEC36548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593E-9D4B-4E21-8065-5F139213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18FC-6E65-420C-973B-4C86F72B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69F4-CEF4-4455-88C8-52774517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AFE-DA2E-4F3E-A892-F6DD486A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1336-6BAD-4F7D-848D-0DE3C2B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7DC3-75FC-438E-BA77-B0747F9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90CD-B595-4B8E-AD0D-77BD79B5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B927-8767-431F-A26C-D909DA25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A4D3-00D1-4BFF-BD10-963DDDDA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D45-E684-4C6C-B20B-62E8DF5F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6FC-8EF6-46D2-B1C8-C27D0823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F39-D48F-4D8D-9FB7-4785142B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A4F-595F-45D5-9B90-2286DBD7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72B-8924-4507-82F0-6EFE07A7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C70-7765-431B-847A-A018FD2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9E2-48AD-4DB4-83D2-1DF4BFFB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B63D-F284-49DA-98A7-10058A367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4199-9CD0-456C-8B5B-39CF8AB235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tavov&#225;_rovni&#237;ce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o je ideální plyn</a:t>
            </a: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Charakteristické vlastnosti ideálního plynu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Nulová viskozita, tj. žádné vnitřní tření, nulový odpor proti změně tvaru – shodné s ideální kapalin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Značná objemová stlačitelnost, a současně rozpínavost, tj schopnost vyplnit celý disponibilní prostor. Odpor proti změně objemu je velmi malý a řídí se </a:t>
            </a:r>
            <a:r>
              <a:rPr b="0" lang="cs-CZ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stavovou rovnicí ideálního plynu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ri Bursa</cp:lastModifiedBy>
  <dcterms:modified xsi:type="dcterms:W3CDTF">2006-09-01T09:30:28Z</dcterms:modified>
  <cp:revision>60</cp:revision>
  <dc:subject/>
  <dc:title>Úvod do teorie lineární viskoelasticity</dc:title>
</cp:coreProperties>
</file>