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480F-765A-4AB1-9944-E7B34CCF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185D-8956-4331-8840-076D5517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70D-B04E-4A58-B9CB-6C14D4B0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4BA-A67F-4931-9B13-EB7C010B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8F1-A5AA-446F-9AD3-E278521E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877-B810-435E-A0AA-E8397B8E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7242-A341-4728-850E-338B572D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185-2280-451E-B3DB-DBD035A3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890-ACB3-47F8-B43F-6F09D7A2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316-A64F-4684-BDEB-FEE556C7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005-7D98-49BA-AB82-7DE32482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09A0-27C5-4B10-861E-909D6D37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EBFD-8668-4B86-B4AE-0C7C4EB20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nap&#283;t&#237;-Cauchy.ppt" TargetMode="External"/><Relationship Id="rId2" Type="http://schemas.openxmlformats.org/officeDocument/2006/relationships/hyperlink" Target="file:///nap&#283;t&#237;-Cauchy.ppt" TargetMode="External"/><Relationship Id="rId3" Type="http://schemas.openxmlformats.org/officeDocument/2006/relationships/hyperlink" Target="file:///nap&#283;t&#237;-1.Piola-Kirchhoff.ppt" TargetMode="External"/><Relationship Id="rId4" Type="http://schemas.openxmlformats.org/officeDocument/2006/relationships/hyperlink" Target="file:///nap&#283;t&#237;-2.Piola-Kirchhoff.ppt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zájemné přepočtové vztahy pro tenzory napě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382760"/>
            <a:ext cx="8136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Nejvhodnější pro vzájemný přepočet tenzorů přetvoření jsou poměrná protažení </a:t>
            </a:r>
            <a:r>
              <a:rPr b="0" lang="el-GR" sz="1800" spc="-1" strike="noStrike">
                <a:solidFill>
                  <a:srgbClr val="333333"/>
                </a:solidFill>
                <a:latin typeface="Tahoma"/>
                <a:ea typeface="Tahoma"/>
              </a:rPr>
              <a:t>λ</a:t>
            </a:r>
            <a:r>
              <a:rPr b="0" lang="cs-CZ" sz="1800" spc="-1" strike="noStrike" baseline="-25000">
                <a:solidFill>
                  <a:srgbClr val="333333"/>
                </a:solidFill>
                <a:latin typeface="Tahoma"/>
                <a:ea typeface="Tahoma"/>
              </a:rPr>
              <a:t>i</a:t>
            </a: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, tedy složky tenzoru deformačního gradientu. V hlavním souřadnicovém systému platí následující vztah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Hlavní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Cauchyho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 (skutečné) napětí </a:t>
            </a: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lze vyjádřit pomocí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1.P.K.napě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Pro nestlačitelný materiál platí </a:t>
            </a: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a tedy napětí jsou ve vzta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Podobně lze vyjádřit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2.P.K. napě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Cauchyho napětí lze vyjádřit i pomocí 2.P.K. napě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nebo jednodušeji pro nestlačitelný mater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454560" y="2421000"/>
                <a:ext cx="40701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708360" y="3189240"/>
                <a:ext cx="1295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332000" y="3500280"/>
                <a:ext cx="1855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356000" y="3933720"/>
                <a:ext cx="2901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6149880" y="4903920"/>
                <a:ext cx="20224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219640" y="5689440"/>
                <a:ext cx="1567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20:03:58Z</dcterms:created>
  <dc:creator>Jiri Bursa</dc:creator>
  <dc:description/>
  <dc:language>en-US</dc:language>
  <cp:lastModifiedBy>Jiri Bursa</cp:lastModifiedBy>
  <dcterms:modified xsi:type="dcterms:W3CDTF">2006-11-05T20:36:39Z</dcterms:modified>
  <cp:revision>5</cp:revision>
  <dc:subject/>
  <dc:title>Vzájemné přepočtové vztahy pro tenzory napětí</dc:title>
</cp:coreProperties>
</file>