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A06-4A58-43B9-81BD-1E688C59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715-47D0-4018-9E23-2A19FF06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678-AD61-435C-9CC4-F86CD818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C9F-D537-47D4-9029-04C52803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7C9-7208-4B79-8D94-22CBA6EB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57B-4E62-4E3A-A101-8C92C9EF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C43-6C9B-4A2D-B6D4-81952E6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F59-61A5-407C-8E90-BE7A7B3B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507-6576-4118-925A-026CA980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5C2-E557-4D65-BD67-9554645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2B6-9854-4D43-A3F2-E651067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6B8-CD00-4C7F-88CC-A526095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6304-38E3-4D59-84E2-860122DA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steinovo sčítací pravid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Einsteinovo sčítací pravidlo se používá pro zjednodušení obecných tenzorových zápisů. Vyskytuje-li se v některém členu opakovaný index (tzv. sčítací index, v našem případě index k) pak se provádí sumace přes tento index. Např. obecný zápis Green-Lagrangeova tenzoru přetvoření ve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je třeba interpretova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41800" y="2603520"/>
                <a:ext cx="3994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68360" y="4205160"/>
                <a:ext cx="4116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4:19:40Z</dcterms:created>
  <dc:creator>Jiri Bursa</dc:creator>
  <dc:description/>
  <dc:language>en-US</dc:language>
  <cp:lastModifiedBy>Jiri Bursa</cp:lastModifiedBy>
  <dcterms:modified xsi:type="dcterms:W3CDTF">2006-11-04T14:32:36Z</dcterms:modified>
  <cp:revision>3</cp:revision>
  <dc:subject/>
  <dc:title>Einsteinovo sčítací pravidlo</dc:title>
</cp:coreProperties>
</file>